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A3FA6-D92C-4244-B930-9B560FB7D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CDCFC-715C-4D0B-B08C-BE6CAD8E5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99A1F-A214-4928-A873-801EF41B1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7C32F-9948-431B-96EB-8A308F33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16EEA-CA06-4214-A0D7-56E947015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47D19-F8B4-43ED-9C16-4AFDA4C9B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ADED1-36E4-4961-BF8A-6C1E963C1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BD974-B028-4DD1-9F8C-41F68CB9D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B25BD-259E-4B53-97CD-3EC764D96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78BB2-C165-47AC-9F72-D4CE7DE2E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BE001-0A8A-40BA-8B5D-4F9EB5B8E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7621C-31FA-402F-8B2E-69247A644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60468-69B0-48A4-9ED8-3E35AC158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84556-44E5-4F51-A6FA-DF885E272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539AD-F128-4E3D-8589-5AB6DEE59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4D036-A58B-494E-A946-492DBA539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AED5C-2746-43AA-B39A-822B382D5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7D88BB-1D84-4AC2-8D5F-AA8A305EF3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46A8E-5254-4993-8683-F4068A434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95D7F-56B5-4759-808B-887BB265D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49A4F9-1C0A-499E-850A-DA2A4AA9E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98D756-330D-427C-8516-13C0CED278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ADE63-D28E-45C8-A9FF-0C5E90C66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42B8A-67F0-46BC-8C62-2A41AD6E1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26641-23D8-4642-B3D5-BE1515C62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49451-09C7-4446-88C4-1A6449313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0AF57-650B-43E7-B582-5C6B5AAA2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79D67-7666-403F-998B-34BF8ABDF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DE4C7E-A153-442B-9297-1C350A0DB0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5EBB4F-49AF-4C9B-9ACF-A59DD49AFC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2ED6E2-22D9-4E9C-8793-0804D4317A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3CE36A-AA72-4712-BEC7-7D76415D9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3D1C98-36C2-459E-9E64-C137494C3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99C0B-8263-4EDE-A5C1-394DA8208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7CCD9-FF12-4F1B-9793-374EE8820B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887C4-727C-4FD1-BCE6-4BE3E51BAB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2D88E1-8105-41E1-B07C-2194F8213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B288A3-08F3-4836-83BD-22FA998CD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41701-EBAB-4E16-8117-891780E7B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4400E-950C-4359-B987-0D16A31CA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733B5-94A6-49C7-B216-E60DBA1095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603C75-4639-47CE-9F13-C69E70A7C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C20A79-CE00-4095-B081-1B2F7F4CA2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152AF-F0D5-45A3-A5CF-02E02193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1443D-ADE4-4706-843C-30BE55D2D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65859-92F4-40F3-9398-B11385F22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7629-3C30-47B8-A8FF-37BC1556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FA8D-8E8C-4DC0-9476-C8B58F40E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6401-AEAB-45B7-AF82-516ACC5EB28D}" type="slidenum">
              <a:rPr b="0" lang="en-JM"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872E-BC91-49B5-90C3-6CDC9DECD583}" type="slidenum">
              <a:rPr b="0" lang="en-JM"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E323-0982-4C60-A1C2-6A268BB331AB}" type="slidenum">
              <a:rPr b="0" lang="en-JM"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37F3-7AD5-4F73-A4D9-9E394594241A}" type="slidenum">
              <a:rPr b="0" lang="en-JM"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79600" y="914400"/>
            <a:ext cx="8296200" cy="2840040"/>
          </a:xfrm>
          <a:prstGeom prst="rect">
            <a:avLst/>
          </a:prstGeom>
          <a:ln w="0">
            <a:noFill/>
          </a:ln>
        </p:spPr>
      </p:pic>
      <p:sp>
        <p:nvSpPr>
          <p:cNvPr id="196" name="PlaceHolder 1"/>
          <p:cNvSpPr>
            <a:spLocks noGrp="1"/>
          </p:cNvSpPr>
          <p:nvPr>
            <p:ph type="subTitle"/>
          </p:nvPr>
        </p:nvSpPr>
        <p:spPr>
          <a:xfrm>
            <a:off x="1371600" y="3733560"/>
            <a:ext cx="6400800" cy="1904760"/>
          </a:xfrm>
          <a:prstGeom prst="rect">
            <a:avLst/>
          </a:prstGeom>
          <a:noFill/>
          <a:ln w="0">
            <a:noFill/>
          </a:ln>
        </p:spPr>
        <p:txBody>
          <a:bodyPr lIns="0" rIns="18360" anchor="t">
            <a:noAutofit/>
          </a:bodyPr>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900" spc="-1" strike="noStrike">
                <a:solidFill>
                  <a:srgbClr val="ffffff"/>
                </a:solidFill>
                <a:latin typeface="Constantia"/>
              </a:rPr>
              <a:t>Knowledge-sharing from Principle 10 Capacity Development Initiatives in the Region</a:t>
            </a:r>
            <a:endParaRPr b="0" lang="en-US" sz="19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ffffff"/>
                </a:solidFill>
                <a:latin typeface="Constantia"/>
              </a:rPr>
              <a:t>Regional Workshop on the Implementation of Rio Principle 10 in the Caribbean Region, Trinidad and Tobago: September 16-17, 2013</a:t>
            </a:r>
            <a:endParaRPr b="0" lang="en-US" sz="12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100" spc="-1" strike="noStrike">
                <a:solidFill>
                  <a:srgbClr val="ffffff"/>
                </a:solidFill>
                <a:latin typeface="Constantia"/>
              </a:rPr>
              <a:t>Princess Gordon-Commock</a:t>
            </a:r>
            <a:endParaRPr b="0" lang="en-US" sz="1100" spc="-1" strike="noStrike">
              <a:solidFill>
                <a:srgbClr val="ffffff"/>
              </a:solidFill>
              <a:latin typeface="Constantia"/>
            </a:endParaRPr>
          </a:p>
          <a:p>
            <a:pPr algn="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100" spc="-1" strike="noStrike">
                <a:solidFill>
                  <a:srgbClr val="ffffff"/>
                </a:solidFill>
                <a:latin typeface="Constantia"/>
              </a:rPr>
              <a:t>Ministry of Water, Land, Environment and Climate Change, Jamaica</a:t>
            </a:r>
            <a:endParaRPr b="0" lang="en-US" sz="11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Agreements Reached</a:t>
            </a:r>
            <a:endParaRPr b="0" lang="en-US" sz="5000" spc="-1" strike="noStrike">
              <a:solidFill>
                <a:srgbClr val="04617b"/>
              </a:solidFill>
              <a:latin typeface="Calibri"/>
            </a:endParaRPr>
          </a:p>
        </p:txBody>
      </p:sp>
      <p:sp>
        <p:nvSpPr>
          <p:cNvPr id="214" name=""/>
          <p:cNvSpPr txBox="1"/>
          <p:nvPr/>
        </p:nvSpPr>
        <p:spPr>
          <a:xfrm>
            <a:off x="457200" y="1600200"/>
            <a:ext cx="8229600" cy="5105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Group discussions will continue through the Quickr system. (Will be accessible to all participa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Coordinators will prepare a proposal of activities for 2014 to be submitted for consideration at the third meeting of Focal Poi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e proposal will be prepared by the coordinators, with support from ECLAC and Presiding Offic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Next Step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Second virtual meeting will be held in October 201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ird meeting of the Working Group to be held back to back with the third meeting of Focal Points (not virtu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951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r>
              <a:rPr b="0" lang="en-GB" sz="7200" spc="-1" strike="noStrike">
                <a:solidFill>
                  <a:srgbClr val="04617b"/>
                </a:solidFill>
                <a:latin typeface="Calibri"/>
              </a:rPr>
              <a:t>THANK YOU FOR YOUR ATTENTION</a:t>
            </a:r>
            <a:br>
              <a:rPr sz="7200"/>
            </a:br>
            <a:endParaRPr b="0" lang="en-US" sz="72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resentation Outline</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lan of Action to 201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bjectives of Working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gress to D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greements Reach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ext Ste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lan of Action to 2014</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e Plan of Action to 2014 established the working group on capacity-building and cooperation for advancing towards the formulation of a regional instru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tates that all signatory countries may participate in the working group, in which they may be represented by the Focal Points or a representative appointed by th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n-signatory countries of the region may participate as observers in these meet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lan of Action to 2014 Cont’d</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tates that, at its first meeting, the working group will establish a calendar and define the form of its meet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group shall also specify the number of meetings to be held each year (at least two), favouring the use ICTs and possibly meeting during regional meetings to which the signatories are conven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Objectives of Working Group</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e main objective of the working group is to make a proposal to intensify regional and international cooperation with regards to training and financing needs and operations, both for the public sector and for the public in gener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Objectives Cont’d</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ctions To Be Take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view and analyse the ECLAC questionnaire and repor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dentify nee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mpile a list of training resources availab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Prepare a proposal for the consideration of the Focal Poin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xpected Outcom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raining and cooperation proposals and a list of opportunities in this conne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Progress to Date</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First meeting of working group on capacity-building was held and attended b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Focal Points of the Declaration and other representatives of the states signatories of the declaratio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Members of the public (registered at the Regional Public Mechanis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Progress to Date Cont’d</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Coordinators suggested the following objectives for 2013:</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Identify capacity building needs and generate a list of resources available for government and the public</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Identify best practices with regards to the three pillars of Principle 10</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Make recommendations to focal points regarding intensification of cooperation based on needs, funding and capacity building options, both for public sector as well as the general public. (scope and prioritie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Progress to Date Cont’d</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Quickr site established to continue group discussions and exchange of ideas/information. (Site is being administered by ECLAC)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http://teamrooms.cepal.org/principio10la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20:18:11Z</dcterms:created>
  <dc:creator>princess.gordon</dc:creator>
  <dc:description/>
  <dc:language>en-US</dc:language>
  <cp:lastModifiedBy>SGB Intern19-Komu Mwati</cp:lastModifiedBy>
  <dcterms:modified xsi:type="dcterms:W3CDTF">2016-12-19T09:20:04Z</dcterms:modified>
  <cp:revision>44</cp:revision>
  <dc:subject/>
  <dc:title>The Latin America and Caribbean Principle 10 Initiative and Jamaica</dc:title>
</cp:coreProperties>
</file>