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
        <p:nvSpPr>
          <p:cNvPr id="13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move the slide</a:t>
            </a:r>
            <a:endParaRPr b="0" lang="en-US" sz="6400" spc="-1" strike="noStrike">
              <a:solidFill>
                <a:srgbClr val="44422c"/>
              </a:solidFill>
              <a:latin typeface="Hoefler Text"/>
            </a:endParaRPr>
          </a:p>
        </p:txBody>
      </p:sp>
      <p:sp>
        <p:nvSpPr>
          <p:cNvPr id="13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89C6-FE7E-4838-BCF4-72FF6E91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raining of regional and national scientists/policy experts in source impact modeling and use of the policy tool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Production of briefing notes summarizing the model's results, analyses and training outcomes tailored to assist policy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Continuation of support to GPNM in order to provide a necessary stimulus and framework for the effective development, replication, up-scaling and sharing of these key outcom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Facilitation of the Final Evaluation of the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7ECD-310A-4AE7-9D64-9154C00FC7D2}"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ible role of the GPNM Secretariat in the INMS includes working with the partners to refine the scope, objectives and key activities of the project, as well as budget allocation; finalizing the institutional arrangements for project implementation; and working with the partners who will draft the final project document for submission to the GEF Secretari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Secretariat will continue to provide advisory services to SACEP/SAS with regards to the project on “Controlling Nutrient Loading and Eutrophication of Coastal Waters of the South Asian Seas Region” which seeks to identify the sources of nutrients that end up in the coastal waters and develop a regional action plan as well as establish a regional policy forum to monitor progress in the implementation of the acti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Secretariat plans to design a project to address nutrient loading into coastal waters of the Caribbean due to poor agricultural practices, discharge of untreated wastewater and nutrient run-off from tourist facilities, especially golf courses. The details of this project will be worked out in consultation with CAR/RCU, in order to align the project activities with the LBS Protocol to the Cartagena Convention and the work plan of the GPNM Caribbea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GPNM will work with the GPA’s Wastewater Management project, which will also support the promotion of recovery of phosphorous from wastewater (sew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FC02-8761-4038-A6F5-D6BBFA98141E}"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85A5-B15F-4F26-9194-41823C65A462}"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tools have been developed in recent years to increase awareness of the nitrogen issue by decision makers and the general public, as well as to educate farmers and others in the agricultural sector on better nutrient management. These include the N-Calculator, a ‘nitrogen footprint’ model, and N-Visualisation. The GPNM Secretariat will facilitate a process to synthesise this knowledge as well as case studies of policy initiatives by national governments.  </a:t>
            </a:r>
            <a:endParaRPr b="0" lang="en-US" sz="1200" spc="-1" strike="noStrike">
              <a:solidFill>
                <a:srgbClr val="000000"/>
              </a:solidFill>
              <a:latin typeface="Calibri"/>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A983-F4DA-44F2-99F0-D0ECD3403934}"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through the network of partners, aims to develop adequate and appropriate guidelines, educational programmes, independent extension services and dedicated outreach and advocacy services throughout the world by offering opportunities to develop networks among the members to establish and strengthen communities of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considerable scope for farmers to improve the efficiency of their nutrient management. The GPNM Secretariat will therefore seek to facilitate the development of new approaches and projects and help governments and regional bodies in setting of national and region specific targets on nutrient use efficiency (NUE), assessing nutrient load into coastal waters, and nutrient load induced changes in biodiversity (e.g. CBD Aichi target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work to secure commitments from stakeholders on regular reporting on the progress towards goals for improved NUE  and publishing periodic reports on pro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proposes to develop and strengthen web-based tools to disseminate knowledge and experiences in order to support action on the ground</a:t>
            </a:r>
            <a:endParaRPr b="0" lang="en-US" sz="1200" spc="-1" strike="noStrike">
              <a:solidFill>
                <a:srgbClr val="000000"/>
              </a:solidFill>
              <a:latin typeface="Calibri"/>
            </a:endParaRPr>
          </a:p>
        </p:txBody>
      </p:sp>
      <p:sp>
        <p:nvSpPr>
          <p:cNvPr id="1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358A-BE7B-4A47-AFFF-1DE5FEF4DC16}"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proposes to focus its activities to improve scientific understanding and use the science to define technological and management measures which will improve nutrient use efficiency and reduce nutrients losses into the environment, by holding of periodic meetings of partners at global and regional levels to share experiences and developing the agenda for action; and by facilitation of dialogues and exchange of experiences among policy makers and other relevant stakeholders to promote nutrient use efficiency. It proposes to hold special sessions/side events on nutrient related issues at global and regional meetings of relev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aims to develop adequate and appropriate guidelines, educational programmes, and dedicated outreach and advocacy services through identifying, reviewing and compiling nutrient BMPs (covering cost-effective and sustainable technology and policy options) under different socio-political settings and disseminating them through web and face-to-face meetings/worksh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also proposes to continue supporting the development of a “policy toolbox” related to managing nutrient impacts in order to support development of nutrient reduction strategies. This may include facilitating the design of a training module and associated curriculum to disseminate the key contents of the “policy toolbox”, targeting resource managers and policy m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moting activities to raise awareness and dissemination of information will also be a part of the Work Plan in order to enhance capabilities of partners and stak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B538-34E2-44DE-9847-C2D542D0E7AD}"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PNM, through the network of partners, aims to develop adequate and appropriate guidelines, educational programmes, independent extension services and dedicated outreach and advocacy services throughout the world, with activities such as production of policy briefs, information documents and case studies to inform relevant stakeholders of the rationale and benefits of improving NUE and galvanize concerted actions to promote sustainable nutrient man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retariat wishes to facilitate the exchange of scientific data, methodologies and research applications among various stakeholders to support national/country-level research and extending the BMPs to farmers through eXtension (electronic extension), outreach and technology transfer; and support the development and facilitation of eXtension training programmes for farmers. The Secretariat also proposes facilitating the design of cost-effective on-the-ground interventions, reflecting the interests of the part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0BEB-AC7D-4864-8875-FE467DE0B02C}"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ization of the quantitative modeling to estimate and map present day contributions of different watershed based nutrient sources to coastal nutrient loading and their effects; to indicate when nutrient over-enrichment problem areas are likely to occur; and to estimate the magnitude of expected effects of further nutrient loading on coastal systems under a range of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Synthesizing available scientific, technological and policy options for managing nutrient over-enrichment impacts in the coastal zone from key nutrient source sectors such as agriculture, wastewater and aquaculture, and their bringing together in an overall Policy Tool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esting and application of the model and tool box in the Manila Bay watershed with a view to development of stakeholder owned, cost-effective and policy relevant nutrient reduction strategies (containing relevant stress reduction and environmental quality indicators), which can be mainstreamed into broader pl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Replication of the ‘Ecosystem Health Report Card’ approach in the Laguna de Bay, the Philippines, drawing from the experience gained in the Chilika Lake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3821-82D7-4A88-9B53-C3E03CAD4DBE}" type="slidenum">
              <a:rPr b="0" lang="en-US" sz="1200" spc="-1" strike="noStrike">
                <a:solidFill>
                  <a:srgbClr val="44422c"/>
                </a:solidFill>
                <a:latin typeface="Hoefler Text"/>
              </a:rPr>
              <a:t>&lt;number&gt;</a:t>
            </a:fld>
            <a:endParaRPr b="0" lang="en-US" sz="1200" spc="-1" strike="noStrike">
              <a:solidFill>
                <a:srgbClr val="44422c"/>
              </a:solidFill>
              <a:latin typeface="Hoefler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0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1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1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19"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3"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5"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6"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1"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33"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4"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5"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6"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7"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8"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4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4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6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6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7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7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78"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0"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8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8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3"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397"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99"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0"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0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5"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07"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8"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09"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0"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1"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12"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2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2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2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3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4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4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4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5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5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6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6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7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7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8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8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49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49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0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1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2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3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3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4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5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5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6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6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7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7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7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8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9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0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0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1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1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1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2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3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3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4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4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4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5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6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7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8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8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9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9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9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0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1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6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6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2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2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3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4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4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5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5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5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6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6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6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7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7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7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8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8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79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0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0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0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1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2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2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2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3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3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4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4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5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5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6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6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7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7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8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9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0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1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1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3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3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4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4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5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5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5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6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8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7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8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8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9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9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9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0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1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1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2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2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2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9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9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3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4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5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6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6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7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7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8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9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0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0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1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2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2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0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0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3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3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3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4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4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4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5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5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5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6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6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7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8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8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8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7"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19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0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0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0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1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1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19"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2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2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3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3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4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4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3"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5"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57"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5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6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4"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5"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7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8"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0"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82"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3"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4"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5"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6"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7"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1"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3"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9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96"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1"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2"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4"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6"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0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0"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12"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3"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1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7"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8"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20"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1"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2"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3"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4"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5"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29"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1"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3"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34"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38"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39"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0"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4"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48"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2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0"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1"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3"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4"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5"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6"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58"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9"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0"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1"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2"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3"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0"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2"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5"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6"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38"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9"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4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4"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46"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7"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8"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9"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50"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51"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5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6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7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8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2"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4"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9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97"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1"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2"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3"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5"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07"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1"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13"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4"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16"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8"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9"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21"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2"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3"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4"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5"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6"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28"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0"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2"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3"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37"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8"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39"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16"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7"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18"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1"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2"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3"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5"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6"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47"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49"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0"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5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4"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5"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57"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8"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59"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0"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1"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62"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5"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7"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69"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0"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0"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1"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2"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358560"/>
            <a:ext cx="10464840" cy="9501480"/>
          </a:xfrm>
          <a:prstGeom prst="rect">
            <a:avLst/>
          </a:prstGeom>
          <a:noFill/>
          <a:ln w="0">
            <a:noFill/>
          </a:ln>
        </p:spPr>
        <p:txBody>
          <a:bodyPr lIns="0" rIns="0" tIns="0" bIns="0" anchor="ctr">
            <a:noAutofit/>
          </a:bodyPr>
          <a:p>
            <a:pPr marL="268200"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4"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5" name="PlaceHolder 3"/>
          <p:cNvSpPr>
            <a:spLocks noGrp="1"/>
          </p:cNvSpPr>
          <p:nvPr>
            <p:ph/>
          </p:nvPr>
        </p:nvSpPr>
        <p:spPr>
          <a:xfrm>
            <a:off x="66319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6"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78" name="PlaceHolder 2"/>
          <p:cNvSpPr>
            <a:spLocks noGrp="1"/>
          </p:cNvSpPr>
          <p:nvPr>
            <p:ph/>
          </p:nvPr>
        </p:nvSpPr>
        <p:spPr>
          <a:xfrm>
            <a:off x="1269720" y="2408400"/>
            <a:ext cx="510660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79"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0" name="PlaceHolder 4"/>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2"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3"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4" name="PlaceHolder 4"/>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6" name="PlaceHolder 2"/>
          <p:cNvSpPr>
            <a:spLocks noGrp="1"/>
          </p:cNvSpPr>
          <p:nvPr>
            <p:ph/>
          </p:nvPr>
        </p:nvSpPr>
        <p:spPr>
          <a:xfrm>
            <a:off x="1269720" y="240840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87" name="PlaceHolder 3"/>
          <p:cNvSpPr>
            <a:spLocks noGrp="1"/>
          </p:cNvSpPr>
          <p:nvPr>
            <p:ph/>
          </p:nvPr>
        </p:nvSpPr>
        <p:spPr>
          <a:xfrm>
            <a:off x="1269720" y="5809320"/>
            <a:ext cx="1046484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89" name="PlaceHolder 2"/>
          <p:cNvSpPr>
            <a:spLocks noGrp="1"/>
          </p:cNvSpPr>
          <p:nvPr>
            <p:ph/>
          </p:nvPr>
        </p:nvSpPr>
        <p:spPr>
          <a:xfrm>
            <a:off x="12697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0" name="PlaceHolder 3"/>
          <p:cNvSpPr>
            <a:spLocks noGrp="1"/>
          </p:cNvSpPr>
          <p:nvPr>
            <p:ph/>
          </p:nvPr>
        </p:nvSpPr>
        <p:spPr>
          <a:xfrm>
            <a:off x="6631920" y="240840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1" name="PlaceHolder 4"/>
          <p:cNvSpPr>
            <a:spLocks noGrp="1"/>
          </p:cNvSpPr>
          <p:nvPr>
            <p:ph/>
          </p:nvPr>
        </p:nvSpPr>
        <p:spPr>
          <a:xfrm>
            <a:off x="12697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2" name="PlaceHolder 5"/>
          <p:cNvSpPr>
            <a:spLocks noGrp="1"/>
          </p:cNvSpPr>
          <p:nvPr>
            <p:ph/>
          </p:nvPr>
        </p:nvSpPr>
        <p:spPr>
          <a:xfrm>
            <a:off x="6631920" y="5809320"/>
            <a:ext cx="5106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294" name="PlaceHolder 2"/>
          <p:cNvSpPr>
            <a:spLocks noGrp="1"/>
          </p:cNvSpPr>
          <p:nvPr>
            <p:ph/>
          </p:nvPr>
        </p:nvSpPr>
        <p:spPr>
          <a:xfrm>
            <a:off x="126972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5" name="PlaceHolder 3"/>
          <p:cNvSpPr>
            <a:spLocks noGrp="1"/>
          </p:cNvSpPr>
          <p:nvPr>
            <p:ph/>
          </p:nvPr>
        </p:nvSpPr>
        <p:spPr>
          <a:xfrm>
            <a:off x="480816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6" name="PlaceHolder 4"/>
          <p:cNvSpPr>
            <a:spLocks noGrp="1"/>
          </p:cNvSpPr>
          <p:nvPr>
            <p:ph/>
          </p:nvPr>
        </p:nvSpPr>
        <p:spPr>
          <a:xfrm>
            <a:off x="8346600" y="240840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7" name="PlaceHolder 5"/>
          <p:cNvSpPr>
            <a:spLocks noGrp="1"/>
          </p:cNvSpPr>
          <p:nvPr>
            <p:ph/>
          </p:nvPr>
        </p:nvSpPr>
        <p:spPr>
          <a:xfrm>
            <a:off x="126972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8" name="PlaceHolder 6"/>
          <p:cNvSpPr>
            <a:spLocks noGrp="1"/>
          </p:cNvSpPr>
          <p:nvPr>
            <p:ph/>
          </p:nvPr>
        </p:nvSpPr>
        <p:spPr>
          <a:xfrm>
            <a:off x="480816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
        <p:nvSpPr>
          <p:cNvPr id="299" name="PlaceHolder 7"/>
          <p:cNvSpPr>
            <a:spLocks noGrp="1"/>
          </p:cNvSpPr>
          <p:nvPr>
            <p:ph/>
          </p:nvPr>
        </p:nvSpPr>
        <p:spPr>
          <a:xfrm>
            <a:off x="8346600" y="5809320"/>
            <a:ext cx="3369600" cy="310536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4" name="PlaceHolder 2"/>
          <p:cNvSpPr>
            <a:spLocks noGrp="1"/>
          </p:cNvSpPr>
          <p:nvPr>
            <p:ph type="subTitle"/>
          </p:nvPr>
        </p:nvSpPr>
        <p:spPr>
          <a:xfrm>
            <a:off x="1269720" y="2408400"/>
            <a:ext cx="10464840" cy="6510240"/>
          </a:xfrm>
          <a:prstGeom prst="rect">
            <a:avLst/>
          </a:prstGeom>
          <a:noFill/>
          <a:ln w="0">
            <a:noFill/>
          </a:ln>
        </p:spPr>
        <p:txBody>
          <a:bodyPr lIns="0" rIns="0" tIns="0" bIns="0" anchor="ctr">
            <a:noAutofit/>
          </a:bodyPr>
          <a:p>
            <a:pPr marL="268200" indent="0" algn="ctr">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358560"/>
            <a:ext cx="10464840" cy="2049480"/>
          </a:xfrm>
          <a:prstGeom prst="rect">
            <a:avLst/>
          </a:prstGeom>
          <a:noFill/>
          <a:ln w="0">
            <a:noFill/>
          </a:ln>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43412c"/>
              </a:solidFill>
              <a:latin typeface="Hoefler Text"/>
            </a:endParaRPr>
          </a:p>
        </p:txBody>
      </p:sp>
      <p:sp>
        <p:nvSpPr>
          <p:cNvPr id="306" name="PlaceHolder 2"/>
          <p:cNvSpPr>
            <a:spLocks noGrp="1"/>
          </p:cNvSpPr>
          <p:nvPr>
            <p:ph/>
          </p:nvPr>
        </p:nvSpPr>
        <p:spPr>
          <a:xfrm>
            <a:off x="1269720" y="2408400"/>
            <a:ext cx="10464840" cy="6510240"/>
          </a:xfrm>
          <a:prstGeom prst="rect">
            <a:avLst/>
          </a:prstGeom>
          <a:noFill/>
          <a:ln w="0">
            <a:noFill/>
          </a:ln>
        </p:spPr>
        <p:txBody>
          <a:bodyPr lIns="50760" rIns="90000" tIns="50760" bIns="50760" anchor="ctr">
            <a:normAutofit/>
          </a:bodyPr>
          <a:p>
            <a:pPr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3412c"/>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2408400"/>
            <a:ext cx="10464840" cy="65102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fontScale="95000"/>
          </a:bodyPr>
          <a:p>
            <a:pPr marL="6649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1836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071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252880" indent="-4100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3683160"/>
            <a:ext cx="10464840" cy="238752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72640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22080" y="1625760"/>
            <a:ext cx="5879880" cy="3047760"/>
          </a:xfrm>
          <a:prstGeom prst="rect">
            <a:avLst/>
          </a:prstGeom>
          <a:noFill/>
          <a:ln w="0">
            <a:noFill/>
          </a:ln>
          <a:effectLst>
            <a:outerShdw dist="25455" dir="2700000" blurRad="0" rotWithShape="0">
              <a:srgbClr val="ffffff">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414" name="PlaceHolder 2"/>
          <p:cNvSpPr>
            <a:spLocks noGrp="1"/>
          </p:cNvSpPr>
          <p:nvPr>
            <p:ph type="body"/>
          </p:nvPr>
        </p:nvSpPr>
        <p:spPr>
          <a:xfrm>
            <a:off x="622080" y="5181120"/>
            <a:ext cx="5879880" cy="304812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71000"/>
          </a:bodyPr>
          <a:p>
            <a:pPr marL="2433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43360" indent="-24336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pic>
        <p:nvPicPr>
          <p:cNvPr id="415" name="Picture 3" descr=""/>
          <p:cNvPicPr/>
          <p:nvPr/>
        </p:nvPicPr>
        <p:blipFill>
          <a:blip r:embed="rId3"/>
          <a:stretch/>
        </p:blipFill>
        <p:spPr>
          <a:xfrm>
            <a:off x="1244520" y="4800600"/>
            <a:ext cx="463572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body"/>
          </p:nvPr>
        </p:nvSpPr>
        <p:spPr>
          <a:xfrm>
            <a:off x="1269720" y="2408400"/>
            <a:ext cx="10464840" cy="65102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fontScale="95000"/>
          </a:bodyPr>
          <a:p>
            <a:pPr marL="6649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1836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0712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252880" indent="-4100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792880" indent="-4104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45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491"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77000"/>
          </a:bodyPr>
          <a:p>
            <a:pPr marL="447120" indent="-2649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84096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24164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64268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52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56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4" name="PlaceHolder 1"/>
          <p:cNvSpPr>
            <a:spLocks noGrp="1"/>
          </p:cNvSpPr>
          <p:nvPr>
            <p:ph type="body"/>
          </p:nvPr>
        </p:nvSpPr>
        <p:spPr>
          <a:xfrm>
            <a:off x="1269720" y="1657440"/>
            <a:ext cx="10464840" cy="801360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0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4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68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39" name="PlaceHolder 2"/>
          <p:cNvSpPr>
            <a:spLocks noGrp="1"/>
          </p:cNvSpPr>
          <p:nvPr>
            <p:ph type="body"/>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95000"/>
          </a:bodyPr>
          <a:p>
            <a:pPr marL="58176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06884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56384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205848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553120" indent="-357120">
              <a:spcBef>
                <a:spcPts val="33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1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5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79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83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87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0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4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98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2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6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77" name="PlaceHolder 2"/>
          <p:cNvSpPr>
            <a:spLocks noGrp="1"/>
          </p:cNvSpPr>
          <p:nvPr>
            <p:ph type="body"/>
          </p:nvPr>
        </p:nvSpPr>
        <p:spPr>
          <a:xfrm>
            <a:off x="1269720" y="2488680"/>
            <a:ext cx="1046484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94000"/>
          </a:bodyPr>
          <a:p>
            <a:pPr marL="546120" indent="-3236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1026360" indent="-3222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51596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2005560" indent="-3222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494800" indent="-32184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09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13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4"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175"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13"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0"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51"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8"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289"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6" name="PlaceHolder 1"/>
          <p:cNvSpPr>
            <a:spLocks noGrp="1"/>
          </p:cNvSpPr>
          <p:nvPr>
            <p:ph type="body"/>
          </p:nvPr>
        </p:nvSpPr>
        <p:spPr>
          <a:xfrm>
            <a:off x="1269720" y="1574280"/>
            <a:ext cx="10464840" cy="8178840"/>
          </a:xfrm>
          <a:prstGeom prst="rect">
            <a:avLst/>
          </a:prstGeom>
          <a:noFill/>
          <a:ln w="0">
            <a:noFill/>
          </a:ln>
          <a:effectLst>
            <a:outerShdw dist="25455" dir="2700000" blurRad="0" rotWithShape="0">
              <a:srgbClr val="ffffff">
                <a:alpha val="75000"/>
              </a:srgbClr>
            </a:outerShdw>
          </a:effectLst>
        </p:spPr>
        <p:txBody>
          <a:bodyPr lIns="50760" rIns="90000" tIns="50760" bIns="50760" anchor="ctr">
            <a:normAutofit/>
          </a:bodyPr>
          <a:p>
            <a:pPr marL="70020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Click to edit the outline text format</a:t>
            </a:r>
            <a:endParaRPr b="0" lang="en-US" sz="3800" spc="-1" strike="noStrike">
              <a:solidFill>
                <a:srgbClr val="43412c"/>
              </a:solidFill>
              <a:latin typeface="Hoefler Text"/>
            </a:endParaRPr>
          </a:p>
          <a:p>
            <a:pPr lvl="1" marL="12463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cond Outline Level</a:t>
            </a:r>
            <a:endParaRPr b="0" lang="en-US" sz="3800" spc="-1" strike="noStrike">
              <a:solidFill>
                <a:srgbClr val="43412c"/>
              </a:solidFill>
              <a:latin typeface="Hoefler Text"/>
            </a:endParaRPr>
          </a:p>
          <a:p>
            <a:pPr lvl="2" marL="1797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Third Outline Level</a:t>
            </a:r>
            <a:endParaRPr b="0" lang="en-US" sz="3800" spc="-1" strike="noStrike">
              <a:solidFill>
                <a:srgbClr val="43412c"/>
              </a:solidFill>
              <a:latin typeface="Hoefler Text"/>
            </a:endParaRPr>
          </a:p>
          <a:p>
            <a:pPr lvl="3" marL="2371680" indent="-43164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ourth Outline Level</a:t>
            </a:r>
            <a:endParaRPr b="0" lang="en-US" sz="3800" spc="-1" strike="noStrike">
              <a:solidFill>
                <a:srgbClr val="43412c"/>
              </a:solidFill>
              <a:latin typeface="Hoefler Text"/>
            </a:endParaRPr>
          </a:p>
          <a:p>
            <a:pPr lvl="4"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Fifth Outline Level</a:t>
            </a:r>
            <a:endParaRPr b="0" lang="en-US" sz="3800" spc="-1" strike="noStrike">
              <a:solidFill>
                <a:srgbClr val="43412c"/>
              </a:solidFill>
              <a:latin typeface="Hoefler Text"/>
            </a:endParaRPr>
          </a:p>
          <a:p>
            <a:pPr lvl="5"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ixth Outline Level</a:t>
            </a:r>
            <a:endParaRPr b="0" lang="en-US" sz="3800" spc="-1" strike="noStrike">
              <a:solidFill>
                <a:srgbClr val="43412c"/>
              </a:solidFill>
              <a:latin typeface="Hoefler Text"/>
            </a:endParaRPr>
          </a:p>
          <a:p>
            <a:pPr lvl="6" marL="2940120" indent="-432000">
              <a:spcBef>
                <a:spcPts val="3501"/>
              </a:spcBef>
              <a:buClr>
                <a:srgbClr val="4341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3412c"/>
                </a:solidFill>
                <a:latin typeface="Hoefler Text"/>
              </a:rPr>
              <a:t>Seventh Outline Level</a:t>
            </a:r>
            <a:endParaRPr b="0" lang="en-US" sz="3800" spc="-1" strike="noStrike">
              <a:solidFill>
                <a:srgbClr val="43412c"/>
              </a:solidFill>
              <a:latin typeface="Hoefler Text"/>
            </a:endParaRPr>
          </a:p>
        </p:txBody>
      </p:sp>
      <p:sp>
        <p:nvSpPr>
          <p:cNvPr id="1327" name="PlaceHolder 2"/>
          <p:cNvSpPr>
            <a:spLocks noGrp="1"/>
          </p:cNvSpPr>
          <p:nvPr>
            <p:ph type="title"/>
          </p:nvPr>
        </p:nvSpPr>
        <p:spPr>
          <a:xfrm>
            <a:off x="1269720" y="358560"/>
            <a:ext cx="10464840" cy="2049480"/>
          </a:xfrm>
          <a:prstGeom prst="rect">
            <a:avLst/>
          </a:prstGeom>
          <a:noFill/>
          <a:ln w="0">
            <a:noFill/>
          </a:ln>
          <a:effectLst>
            <a:outerShdw dist="25455" dir="2700000" blurRad="0" rotWithShape="0">
              <a:srgbClr val="ffffff">
                <a:alpha val="75000"/>
              </a:srgbClr>
            </a:outerShdw>
          </a:effectLst>
        </p:spPr>
        <p:txBody>
          <a:bodyPr lIns="50760" rIns="90000" tIns="50760" bIns="50760" anchor="ctr">
            <a:noAutofit/>
          </a:bodyPr>
          <a:p>
            <a:pPr marL="1440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3412c"/>
                </a:solidFill>
                <a:latin typeface="Hoefler Text"/>
              </a:rPr>
              <a:t>Click to edit the title text format</a:t>
            </a:r>
            <a:endParaRPr b="0" lang="en-US" sz="6400" spc="-1" strike="noStrike">
              <a:solidFill>
                <a:srgbClr val="43412c"/>
              </a:solidFill>
              <a:latin typeface="Hoefler Text"/>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115" name="PlaceHolder 2"/>
          <p:cNvSpPr>
            <a:spLocks noGrp="1"/>
          </p:cNvSpPr>
          <p:nvPr>
            <p:ph type="body"/>
          </p:nvPr>
        </p:nvSpPr>
        <p:spPr>
          <a:xfrm>
            <a:off x="1270080" y="2488680"/>
            <a:ext cx="491472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77000"/>
          </a:bodyPr>
          <a:p>
            <a:pPr marL="447120" indent="-2649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84096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24164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64268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2043720" indent="-26388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153" name="PlaceHolder 2"/>
          <p:cNvSpPr>
            <a:spLocks noGrp="1"/>
          </p:cNvSpPr>
          <p:nvPr>
            <p:ph type="body"/>
          </p:nvPr>
        </p:nvSpPr>
        <p:spPr>
          <a:xfrm>
            <a:off x="7517880" y="2488680"/>
            <a:ext cx="4216680" cy="6350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69000"/>
          </a:bodyPr>
          <a:p>
            <a:pPr marL="400680" indent="-23760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Click to edit the outline text format</a:t>
            </a:r>
            <a:endParaRPr b="0" lang="en-US" sz="3200" spc="-1" strike="noStrike">
              <a:solidFill>
                <a:srgbClr val="44422c"/>
              </a:solidFill>
              <a:latin typeface="Hoefler Text"/>
            </a:endParaRPr>
          </a:p>
          <a:p>
            <a:pPr lvl="1" marL="753480" indent="-23652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cond Outline Level</a:t>
            </a:r>
            <a:endParaRPr b="0" lang="en-US" sz="3200" spc="-1" strike="noStrike">
              <a:solidFill>
                <a:srgbClr val="44422c"/>
              </a:solidFill>
              <a:latin typeface="Hoefler Text"/>
            </a:endParaRPr>
          </a:p>
          <a:p>
            <a:pPr lvl="2" marL="111276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Third Outline Level</a:t>
            </a:r>
            <a:endParaRPr b="0" lang="en-US" sz="3200" spc="-1" strike="noStrike">
              <a:solidFill>
                <a:srgbClr val="44422c"/>
              </a:solidFill>
              <a:latin typeface="Hoefler Text"/>
            </a:endParaRPr>
          </a:p>
          <a:p>
            <a:pPr lvl="3" marL="1472040" indent="-23652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ourth Outline Level</a:t>
            </a:r>
            <a:endParaRPr b="0" lang="en-US" sz="3200" spc="-1" strike="noStrike">
              <a:solidFill>
                <a:srgbClr val="44422c"/>
              </a:solidFill>
              <a:latin typeface="Hoefler Text"/>
            </a:endParaRPr>
          </a:p>
          <a:p>
            <a:pPr lvl="4"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Fifth Outline Level</a:t>
            </a:r>
            <a:endParaRPr b="0" lang="en-US" sz="3200" spc="-1" strike="noStrike">
              <a:solidFill>
                <a:srgbClr val="44422c"/>
              </a:solidFill>
              <a:latin typeface="Hoefler Text"/>
            </a:endParaRPr>
          </a:p>
          <a:p>
            <a:pPr lvl="5"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ixth Outline Level</a:t>
            </a:r>
            <a:endParaRPr b="0" lang="en-US" sz="3200" spc="-1" strike="noStrike">
              <a:solidFill>
                <a:srgbClr val="44422c"/>
              </a:solidFill>
              <a:latin typeface="Hoefler Text"/>
            </a:endParaRPr>
          </a:p>
          <a:p>
            <a:pPr lvl="6" marL="1831320" indent="-236160">
              <a:spcBef>
                <a:spcPts val="4201"/>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Hoefler Text"/>
              </a:rPr>
              <a:t>Seventh Outline Level</a:t>
            </a:r>
            <a:endParaRPr b="0" lang="en-US" sz="32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393480"/>
            <a:ext cx="10464840" cy="198108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1269720" y="914040"/>
            <a:ext cx="10464840" cy="7924680"/>
          </a:xfrm>
          <a:prstGeom prst="rect">
            <a:avLst/>
          </a:prstGeom>
          <a:noFill/>
          <a:ln w="0">
            <a:noFill/>
          </a:ln>
          <a:effectLst>
            <a:outerShdw dist="25455" dir="2700000" blurRad="0" rotWithShape="0">
              <a:srgbClr val="ffffff">
                <a:alpha val="75000"/>
              </a:srgbClr>
            </a:outerShdw>
          </a:effectLst>
        </p:spPr>
        <p:txBody>
          <a:bodyPr lIns="50760" rIns="50760" tIns="50760" bIns="50760" anchor="ctr">
            <a:normAutofit fontScale="92000"/>
          </a:bodyPr>
          <a:p>
            <a:pPr marL="56340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03500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51452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199332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2472480" indent="-345960">
              <a:spcBef>
                <a:spcPts val="5800"/>
              </a:spcBef>
              <a:buClr>
                <a:srgbClr val="44422c"/>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286000"/>
            <a:ext cx="10464840" cy="2387520"/>
          </a:xfrm>
          <a:prstGeom prst="rect">
            <a:avLst/>
          </a:prstGeom>
          <a:noFill/>
          <a:ln w="0">
            <a:noFill/>
          </a:ln>
          <a:effectLst>
            <a:outerShdw dist="25455" dir="2700000" blurRad="0" rotWithShape="0">
              <a:srgbClr val="ffffff">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44422c"/>
                </a:solidFill>
                <a:latin typeface="Hoefler Text"/>
              </a:rPr>
              <a:t>Click to edit the title text format</a:t>
            </a:r>
            <a:endParaRPr b="0" lang="en-US" sz="6400" spc="-1" strike="noStrike">
              <a:solidFill>
                <a:srgbClr val="44422c"/>
              </a:solidFill>
              <a:latin typeface="Hoefler Text"/>
            </a:endParaRPr>
          </a:p>
        </p:txBody>
      </p:sp>
      <p:sp>
        <p:nvSpPr>
          <p:cNvPr id="301" name="PlaceHolder 2"/>
          <p:cNvSpPr>
            <a:spLocks noGrp="1"/>
          </p:cNvSpPr>
          <p:nvPr>
            <p:ph type="body"/>
          </p:nvPr>
        </p:nvSpPr>
        <p:spPr>
          <a:xfrm>
            <a:off x="1269720" y="5181480"/>
            <a:ext cx="10464840" cy="1625760"/>
          </a:xfrm>
          <a:prstGeom prst="rect">
            <a:avLst/>
          </a:prstGeom>
          <a:noFill/>
          <a:ln w="0">
            <a:noFill/>
          </a:ln>
          <a:effectLst>
            <a:outerShdw dist="25455" dir="2700000" blurRad="0" rotWithShape="0">
              <a:srgbClr val="ffffff">
                <a:alpha val="75000"/>
              </a:srgbClr>
            </a:outerShdw>
          </a:effectLst>
        </p:spPr>
        <p:txBody>
          <a:bodyPr lIns="50760" rIns="50760" tIns="50760" bIns="50760" anchor="t">
            <a:normAutofit fontScale="37000"/>
          </a:bodyPr>
          <a:p>
            <a:pPr marL="1267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Click to edit the outline text format</a:t>
            </a:r>
            <a:endParaRPr b="0" lang="en-US" sz="3800" spc="-1" strike="noStrike">
              <a:solidFill>
                <a:srgbClr val="44422c"/>
              </a:solidFill>
              <a:latin typeface="Hoefler Text"/>
            </a:endParaRPr>
          </a:p>
          <a:p>
            <a:pPr lvl="1"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cond Outline Level</a:t>
            </a:r>
            <a:endParaRPr b="0" lang="en-US" sz="3800" spc="-1" strike="noStrike">
              <a:solidFill>
                <a:srgbClr val="44422c"/>
              </a:solidFill>
              <a:latin typeface="Hoefler Text"/>
            </a:endParaRPr>
          </a:p>
          <a:p>
            <a:pPr lvl="2"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Third Outline Level</a:t>
            </a:r>
            <a:endParaRPr b="0" lang="en-US" sz="3800" spc="-1" strike="noStrike">
              <a:solidFill>
                <a:srgbClr val="44422c"/>
              </a:solidFill>
              <a:latin typeface="Hoefler Text"/>
            </a:endParaRPr>
          </a:p>
          <a:p>
            <a:pPr lvl="3"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ourth Outline Level</a:t>
            </a:r>
            <a:endParaRPr b="0" lang="en-US" sz="3800" spc="-1" strike="noStrike">
              <a:solidFill>
                <a:srgbClr val="44422c"/>
              </a:solidFill>
              <a:latin typeface="Hoefler Text"/>
            </a:endParaRPr>
          </a:p>
          <a:p>
            <a:pPr lvl="4"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fth Outline Level</a:t>
            </a:r>
            <a:endParaRPr b="0" lang="en-US" sz="3800" spc="-1" strike="noStrike">
              <a:solidFill>
                <a:srgbClr val="44422c"/>
              </a:solidFill>
              <a:latin typeface="Hoefler Text"/>
            </a:endParaRPr>
          </a:p>
          <a:p>
            <a:pPr lvl="5"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ixth Outline Level</a:t>
            </a:r>
            <a:endParaRPr b="0" lang="en-US" sz="3800" spc="-1" strike="noStrike">
              <a:solidFill>
                <a:srgbClr val="44422c"/>
              </a:solidFill>
              <a:latin typeface="Hoefler Text"/>
            </a:endParaRPr>
          </a:p>
          <a:p>
            <a:pPr lvl="6" marL="126720" indent="-126720" algn="ctr">
              <a:buClr>
                <a:srgbClr val="44422c"/>
              </a:buClr>
              <a:buFont typeface="Hoefler Tex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Seventh Outline Level</a:t>
            </a:r>
            <a:endParaRPr b="0" lang="en-US" sz="3800" spc="-1" strike="noStrike">
              <a:solidFill>
                <a:srgbClr val="44422c"/>
              </a:solidFill>
              <a:latin typeface="Hoefler Text"/>
            </a:endParaRPr>
          </a:p>
        </p:txBody>
      </p:sp>
      <p:pic>
        <p:nvPicPr>
          <p:cNvPr id="302" name="Picture 3" descr=""/>
          <p:cNvPicPr/>
          <p:nvPr/>
        </p:nvPicPr>
        <p:blipFill>
          <a:blip r:embed="rId3"/>
          <a:stretch/>
        </p:blipFill>
        <p:spPr>
          <a:xfrm>
            <a:off x="4191120" y="4800600"/>
            <a:ext cx="4635360" cy="1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0" y="3809520"/>
            <a:ext cx="13004640" cy="42260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GPNM proposed Action Plan</a:t>
            </a:r>
            <a:endParaRPr b="0" lang="en-US" sz="57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2015-16</a:t>
            </a:r>
            <a:endParaRPr b="0" lang="en-US" sz="57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44422c"/>
              </a:solidFill>
              <a:latin typeface="Hoefler Text"/>
            </a:endParaRPr>
          </a:p>
        </p:txBody>
      </p:sp>
      <p:pic>
        <p:nvPicPr>
          <p:cNvPr id="1372" name="Picture 2" descr=""/>
          <p:cNvPicPr/>
          <p:nvPr/>
        </p:nvPicPr>
        <p:blipFill>
          <a:blip r:embed="rId1"/>
          <a:stretch/>
        </p:blipFill>
        <p:spPr>
          <a:xfrm>
            <a:off x="0" y="-108000"/>
            <a:ext cx="13004640" cy="3467160"/>
          </a:xfrm>
          <a:prstGeom prst="rect">
            <a:avLst/>
          </a:prstGeom>
          <a:ln w="0">
            <a:noFill/>
          </a:ln>
        </p:spPr>
      </p:pic>
      <p:pic>
        <p:nvPicPr>
          <p:cNvPr id="1373" name="Picture 2" descr=""/>
          <p:cNvPicPr/>
          <p:nvPr/>
        </p:nvPicPr>
        <p:blipFill>
          <a:blip r:embed="rId2"/>
          <a:stretch/>
        </p:blipFill>
        <p:spPr>
          <a:xfrm>
            <a:off x="5743440" y="7694640"/>
            <a:ext cx="1517760" cy="178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400" name="Picture 2" descr=""/>
          <p:cNvPicPr/>
          <p:nvPr/>
        </p:nvPicPr>
        <p:blipFill>
          <a:blip r:embed="rId1"/>
          <a:stretch/>
        </p:blipFill>
        <p:spPr>
          <a:xfrm>
            <a:off x="0" y="-108000"/>
            <a:ext cx="13004640" cy="3467160"/>
          </a:xfrm>
          <a:prstGeom prst="rect">
            <a:avLst/>
          </a:prstGeom>
          <a:ln w="0">
            <a:noFill/>
          </a:ln>
        </p:spPr>
      </p:pic>
      <p:sp>
        <p:nvSpPr>
          <p:cNvPr id="1401" name="Rectangle 1"/>
          <p:cNvSpPr/>
          <p:nvPr/>
        </p:nvSpPr>
        <p:spPr>
          <a:xfrm>
            <a:off x="0" y="3406680"/>
            <a:ext cx="13004640" cy="646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44422c"/>
                </a:solidFill>
                <a:latin typeface="Hoefler Text"/>
              </a:rPr>
              <a:t>UNEP/GEF Global Nutrient Cycle project</a:t>
            </a:r>
            <a:endParaRPr b="0" lang="en-US" sz="3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Training in source impact modeling and use of the policy tool box;</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Production of briefing notes summarizing the model's results, analyses and training outcomes;</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Continuation of support to GPNM for the effective development, replication, up-scaling and sharing of these key outcomes; and</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Facilitation of the Final Evaluation of the project.</a:t>
            </a: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403" name="Picture 2" descr=""/>
          <p:cNvPicPr/>
          <p:nvPr/>
        </p:nvPicPr>
        <p:blipFill>
          <a:blip r:embed="rId1"/>
          <a:stretch/>
        </p:blipFill>
        <p:spPr>
          <a:xfrm>
            <a:off x="0" y="-108000"/>
            <a:ext cx="13004640" cy="3467160"/>
          </a:xfrm>
          <a:prstGeom prst="rect">
            <a:avLst/>
          </a:prstGeom>
          <a:ln w="0">
            <a:noFill/>
          </a:ln>
        </p:spPr>
      </p:pic>
      <p:sp>
        <p:nvSpPr>
          <p:cNvPr id="1404" name="Rectangle 1"/>
          <p:cNvSpPr/>
          <p:nvPr/>
        </p:nvSpPr>
        <p:spPr>
          <a:xfrm>
            <a:off x="0" y="3406680"/>
            <a:ext cx="13004640" cy="60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44422c"/>
                </a:solidFill>
                <a:latin typeface="Hoefler Text"/>
              </a:rPr>
              <a:t>Other projects</a:t>
            </a:r>
            <a:endParaRPr b="0" lang="en-US" sz="4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INMS;</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Controlling Nutrient Loading and Eutrophication of Coastal Waters of the South Asian Seas Region;</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Nutrient loading into the Caribbean Sea</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GPA’s Wastewater Management project</a:t>
            </a:r>
            <a:endParaRPr b="0" lang="en-US" sz="3800" spc="-1" strike="noStrike">
              <a:solidFill>
                <a:srgbClr val="44422c"/>
              </a:solidFill>
              <a:latin typeface="Hoefler Tex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sp>
        <p:nvSpPr>
          <p:cNvPr id="1406" name="TextBox 9"/>
          <p:cNvSpPr/>
          <p:nvPr/>
        </p:nvSpPr>
        <p:spPr>
          <a:xfrm>
            <a:off x="0" y="3362400"/>
            <a:ext cx="12353760" cy="506700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422c"/>
                </a:solidFill>
                <a:latin typeface="Calibri"/>
              </a:rPr>
              <a:t>Indicative Budget</a:t>
            </a:r>
            <a:endParaRPr b="0" lang="en-US" sz="4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u="sng">
                <a:solidFill>
                  <a:srgbClr val="44422c"/>
                </a:solidFill>
                <a:uFillTx/>
                <a:latin typeface="Calibri"/>
              </a:rPr>
              <a:t>2015</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u="sng">
                <a:solidFill>
                  <a:srgbClr val="44422c"/>
                </a:solidFill>
                <a:uFillTx/>
                <a:latin typeface="Calibri"/>
              </a:rPr>
              <a:t>2016</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GEF</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955K</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115K (GNC &amp; INM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Other:</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ea typeface="ヒラギノ明朝 ProN W3"/>
              </a:rPr>
              <a:t>Secured</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150K</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50K (SACEP)</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ea typeface="ヒラギノ明朝 ProN W3"/>
              </a:rPr>
              <a:t>Unsecured</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1,292K</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	</a:t>
            </a:r>
            <a:r>
              <a:rPr b="1" lang="en-US" sz="2800" spc="-1" strike="noStrike">
                <a:solidFill>
                  <a:srgbClr val="44422c"/>
                </a:solidFill>
                <a:latin typeface="Calibri"/>
                <a:ea typeface="ヒラギノ明朝 ProN W3"/>
              </a:rPr>
              <a:t>702K</a:t>
            </a:r>
            <a:endParaRPr b="0" lang="en-US" sz="2800" spc="-1" strike="noStrike">
              <a:solidFill>
                <a:srgbClr val="44422c"/>
              </a:solidFill>
              <a:latin typeface="Hoefler Text"/>
            </a:endParaRPr>
          </a:p>
          <a:p>
            <a:pPr lvl="1" marL="914400" indent="-457200">
              <a:lnSpc>
                <a:spcPct val="100000"/>
              </a:lnSpc>
              <a:buClr>
                <a:srgbClr val="4442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22c"/>
                </a:solidFill>
                <a:latin typeface="Calibri"/>
              </a:rPr>
              <a:t>Total</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2,397K</a:t>
            </a:r>
            <a:r>
              <a:rPr b="1" lang="en-US" sz="2800" spc="-1" strike="noStrike">
                <a:solidFill>
                  <a:srgbClr val="44422c"/>
                </a:solidFill>
                <a:latin typeface="Calibri"/>
              </a:rPr>
              <a:t>	</a:t>
            </a:r>
            <a:r>
              <a:rPr b="1" lang="en-US" sz="2800" spc="-1" strike="noStrike">
                <a:solidFill>
                  <a:srgbClr val="44422c"/>
                </a:solidFill>
                <a:latin typeface="Calibri"/>
              </a:rPr>
              <a:t>	</a:t>
            </a:r>
            <a:r>
              <a:rPr b="1" lang="en-US" sz="2800" spc="-1" strike="noStrike">
                <a:solidFill>
                  <a:srgbClr val="44422c"/>
                </a:solidFill>
                <a:latin typeface="Calibri"/>
              </a:rPr>
              <a:t>867K</a:t>
            </a:r>
            <a:endParaRPr b="0" lang="en-US" sz="2800" spc="-1" strike="noStrike">
              <a:solidFill>
                <a:srgbClr val="44422c"/>
              </a:solidFill>
              <a:latin typeface="Hoefler Text"/>
            </a:endParaRPr>
          </a:p>
        </p:txBody>
      </p:sp>
      <p:pic>
        <p:nvPicPr>
          <p:cNvPr id="1407" name="Picture 2" descr=""/>
          <p:cNvPicPr/>
          <p:nvPr/>
        </p:nvPicPr>
        <p:blipFill>
          <a:blip r:embed="rId1"/>
          <a:stretch/>
        </p:blipFill>
        <p:spPr>
          <a:xfrm>
            <a:off x="0" y="-108000"/>
            <a:ext cx="13004640" cy="34671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Main Elements</a:t>
            </a:r>
            <a:endParaRPr b="0" lang="en-US" sz="57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Advocacy &amp; consensus-building</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Stimulate discussion &amp; assessment of scientific evidence</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Inform intergovernmental agreements</a:t>
            </a:r>
            <a:endParaRPr b="0" lang="en-US" sz="40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22c"/>
              </a:solidFill>
              <a:latin typeface="Hoefler Text"/>
            </a:endParaRPr>
          </a:p>
        </p:txBody>
      </p:sp>
      <p:pic>
        <p:nvPicPr>
          <p:cNvPr id="1375" name="Picture 2" descr=""/>
          <p:cNvPicPr/>
          <p:nvPr/>
        </p:nvPicPr>
        <p:blipFill>
          <a:blip r:embed="rId1"/>
          <a:stretch/>
        </p:blipFill>
        <p:spPr>
          <a:xfrm>
            <a:off x="0" y="-108000"/>
            <a:ext cx="13004640" cy="3467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700" spc="-1" strike="noStrike">
                <a:solidFill>
                  <a:srgbClr val="44422c"/>
                </a:solidFill>
                <a:latin typeface="Hoefler Text"/>
              </a:rPr>
              <a:t>Main Activities</a:t>
            </a:r>
            <a:endParaRPr b="0" lang="en-US" sz="57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Build consensus to promote nutrient use efficiency and facilitate on-the-ground actions </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Support implementation of the current GEF funded Global Nutrient Cycle project</a:t>
            </a:r>
            <a:endParaRPr b="0" lang="en-US" sz="4000" spc="-1" strike="noStrike">
              <a:solidFill>
                <a:srgbClr val="44422c"/>
              </a:solidFill>
              <a:latin typeface="Hoefler Text"/>
            </a:endParaRPr>
          </a:p>
          <a:p>
            <a:pPr marL="387360" indent="-387360">
              <a:spcBef>
                <a:spcPts val="33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22c"/>
                </a:solidFill>
                <a:latin typeface="Hoefler Text"/>
              </a:rPr>
              <a:t>Facilitate PPG phase of INMS</a:t>
            </a:r>
            <a:endParaRPr b="0" lang="en-US" sz="4000" spc="-1" strike="noStrike">
              <a:solidFill>
                <a:srgbClr val="44422c"/>
              </a:solidFill>
              <a:latin typeface="Hoefler Text"/>
            </a:endParaRPr>
          </a:p>
          <a:p>
            <a:pPr marL="387360" indent="-387360"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22c"/>
              </a:solidFill>
              <a:latin typeface="Hoefler Text"/>
            </a:endParaRPr>
          </a:p>
        </p:txBody>
      </p:sp>
      <p:pic>
        <p:nvPicPr>
          <p:cNvPr id="1377" name="Picture 2" descr=""/>
          <p:cNvPicPr/>
          <p:nvPr/>
        </p:nvPicPr>
        <p:blipFill>
          <a:blip r:embed="rId1"/>
          <a:stretch/>
        </p:blipFill>
        <p:spPr>
          <a:xfrm>
            <a:off x="0" y="-108000"/>
            <a:ext cx="13004640" cy="3467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0" y="3358800"/>
            <a:ext cx="13004640" cy="5853240"/>
          </a:xfrm>
          <a:prstGeom prst="rect">
            <a:avLst/>
          </a:prstGeom>
          <a:noFill/>
          <a:ln w="0">
            <a:noFill/>
          </a:ln>
          <a:effectLst>
            <a:outerShdw dist="25455" dir="2700000" blurRad="0" rotWithShape="0">
              <a:srgbClr val="ffffff">
                <a:alpha val="75000"/>
              </a:srgbClr>
            </a:outerShdw>
          </a:effectLst>
        </p:spPr>
        <p:txBody>
          <a:bodyPr lIns="50760" rIns="50760" tIns="50760" bIns="50760" anchor="ctr">
            <a:noAutofit/>
          </a:bodyPr>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4422c"/>
                </a:solidFill>
                <a:latin typeface="Hoefler Text"/>
              </a:rPr>
              <a:t>Outcome: Improved knowledge and changed attitudes towards nutrient management by governments, business and CSO sectors, through a strong and vibrant GPNM, in order to address the root causes of eutrophication world-wide and to deal with nutrient losses.</a:t>
            </a:r>
            <a:endParaRPr b="0" lang="en-US" sz="27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44422c"/>
                </a:solidFill>
                <a:latin typeface="Hoefler Text"/>
              </a:rPr>
              <a:t>Core Components:</a:t>
            </a:r>
            <a:endParaRPr b="0" lang="en-US" sz="27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1) Knowledge Generation,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2) Extension and Technical Services,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3) Outreach and Advocacy, and </a:t>
            </a:r>
            <a:endParaRPr b="0" lang="en-US" sz="2800" spc="-1" strike="noStrike">
              <a:solidFill>
                <a:srgbClr val="44422c"/>
              </a:solidFill>
              <a:latin typeface="Hoefler Text"/>
            </a:endParaRPr>
          </a:p>
          <a:p>
            <a:pPr marL="387360" indent="-387360">
              <a:lnSpc>
                <a:spcPct val="8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Hoefler Text"/>
              </a:rPr>
              <a:t>(4) Partnership and Network Development</a:t>
            </a:r>
            <a:endParaRPr b="0" lang="en-US" sz="2800" spc="-1" strike="noStrike">
              <a:solidFill>
                <a:srgbClr val="44422c"/>
              </a:solidFill>
              <a:latin typeface="Hoefler Text"/>
            </a:endParaRPr>
          </a:p>
        </p:txBody>
      </p:sp>
      <p:pic>
        <p:nvPicPr>
          <p:cNvPr id="1379" name="Picture 2" descr=""/>
          <p:cNvPicPr/>
          <p:nvPr/>
        </p:nvPicPr>
        <p:blipFill>
          <a:blip r:embed="rId1"/>
          <a:stretch/>
        </p:blipFill>
        <p:spPr>
          <a:xfrm>
            <a:off x="0" y="-108000"/>
            <a:ext cx="13004640" cy="346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1" name="Picture 12" descr=""/>
          <p:cNvPicPr/>
          <p:nvPr/>
        </p:nvPicPr>
        <p:blipFill>
          <a:blip r:embed="rId1"/>
          <a:stretch/>
        </p:blipFill>
        <p:spPr>
          <a:xfrm>
            <a:off x="11650680" y="8416800"/>
            <a:ext cx="1407960" cy="1330560"/>
          </a:xfrm>
          <a:prstGeom prst="rect">
            <a:avLst/>
          </a:prstGeom>
          <a:ln w="0">
            <a:noFill/>
          </a:ln>
        </p:spPr>
      </p:pic>
      <p:sp>
        <p:nvSpPr>
          <p:cNvPr id="1382" name="TextBox 9"/>
          <p:cNvSpPr/>
          <p:nvPr/>
        </p:nvSpPr>
        <p:spPr>
          <a:xfrm>
            <a:off x="0" y="3359160"/>
            <a:ext cx="12353760" cy="628524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22c"/>
                </a:solidFill>
                <a:latin typeface="Calibri"/>
              </a:rPr>
              <a:t></a:t>
            </a:r>
            <a:r>
              <a:rPr b="0" lang="en-US" sz="2300" spc="-1" strike="noStrike">
                <a:solidFill>
                  <a:srgbClr val="44422c"/>
                </a:solidFill>
                <a:latin typeface="Calibri"/>
              </a:rPr>
              <a:t>	</a:t>
            </a:r>
            <a:r>
              <a:rPr b="0" lang="en-US" sz="2800" spc="-1" strike="noStrike">
                <a:solidFill>
                  <a:srgbClr val="44422c"/>
                </a:solidFill>
                <a:latin typeface="Calibri"/>
              </a:rPr>
              <a:t>Building knowledge through sharing of lessons learned to assist governments and other stakeholders in the analyses of policies, development of business models and choice of technological options for sustainable production and use of nutrient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Creation/development of a global knowledge-base on policy experiences and ways to adapt such experiences to specific national circumstances and make it available to all stakeholders </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Promotion of activities that raise awareness and dissemination of information for enhancing capabilities of partners</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422c"/>
                </a:solidFill>
                <a:latin typeface="Calibri"/>
              </a:rPr>
              <a:t></a:t>
            </a:r>
            <a:r>
              <a:rPr b="0" lang="en-US" sz="2800" spc="-1" strike="noStrike">
                <a:solidFill>
                  <a:srgbClr val="44422c"/>
                </a:solidFill>
                <a:latin typeface="Calibri"/>
              </a:rPr>
              <a:t>	</a:t>
            </a:r>
            <a:r>
              <a:rPr b="0" lang="en-US" sz="2800" spc="-1" strike="noStrike">
                <a:solidFill>
                  <a:srgbClr val="44422c"/>
                </a:solidFill>
                <a:latin typeface="Calibri"/>
              </a:rPr>
              <a:t>Facilitation and/or development of new approaches and projects to complement governments’ efforts to reform/develop policy frameworks for sustainable nutrient management </a:t>
            </a:r>
            <a:endParaRPr b="0" lang="en-US" sz="28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422c"/>
              </a:solidFill>
              <a:latin typeface="Hoefler Text"/>
            </a:endParaRPr>
          </a:p>
        </p:txBody>
      </p:sp>
      <p:pic>
        <p:nvPicPr>
          <p:cNvPr id="1383"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381"/>
                                        </p:tgtEl>
                                        <p:attrNameLst>
                                          <p:attrName>style.visibility</p:attrName>
                                        </p:attrNameLst>
                                      </p:cBhvr>
                                      <p:to>
                                        <p:strVal val="visible"/>
                                      </p:to>
                                    </p:set>
                                    <p:animEffect filter="fade" transition="in">
                                      <p:cBhvr additive="repl">
                                        <p:cTn id="7" dur="500"/>
                                        <p:tgtEl>
                                          <p:spTgt spid="1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5" name="Picture 12" descr=""/>
          <p:cNvPicPr/>
          <p:nvPr/>
        </p:nvPicPr>
        <p:blipFill>
          <a:blip r:embed="rId1"/>
          <a:stretch/>
        </p:blipFill>
        <p:spPr>
          <a:xfrm>
            <a:off x="11650680" y="8416800"/>
            <a:ext cx="1407960" cy="1330560"/>
          </a:xfrm>
          <a:prstGeom prst="rect">
            <a:avLst/>
          </a:prstGeom>
          <a:ln w="0">
            <a:noFill/>
          </a:ln>
        </p:spPr>
      </p:pic>
      <p:sp>
        <p:nvSpPr>
          <p:cNvPr id="1386" name="TextBox 9"/>
          <p:cNvSpPr/>
          <p:nvPr/>
        </p:nvSpPr>
        <p:spPr>
          <a:xfrm>
            <a:off x="0" y="3359160"/>
            <a:ext cx="12353760" cy="555300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4422c"/>
                </a:solidFill>
                <a:latin typeface="Calibri"/>
              </a:rPr>
              <a:t></a:t>
            </a:r>
            <a:r>
              <a:rPr b="0" lang="en-US" sz="2300" spc="-1" strike="noStrike">
                <a:solidFill>
                  <a:srgbClr val="44422c"/>
                </a:solidFill>
                <a:latin typeface="Calibri"/>
              </a:rPr>
              <a:t>	</a:t>
            </a:r>
            <a:r>
              <a:rPr b="0" lang="en-US" sz="3200" spc="-1" strike="noStrike">
                <a:solidFill>
                  <a:srgbClr val="44422c"/>
                </a:solidFill>
                <a:latin typeface="Calibri"/>
              </a:rPr>
              <a:t>Offer opportunities to develop networks among the members in order to establish and strengthen a community of practice</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 indicators to assess progress towards globally agreed targets (e.g., Aichi target 8, GPA/IGR-3 Manila Declaration,  Rio+20 outcomes etc.)</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Setting of region/nation specific targets on NUE &amp; nutrient load into coastal waters (e.g. Aichi target 8)</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Secure commitments from stakeholders on regular reporting on the progress towards NUE  and publish periodic reports on progress </a:t>
            </a:r>
            <a:endParaRPr b="0" lang="en-US" sz="3200" spc="-1" strike="noStrike">
              <a:solidFill>
                <a:srgbClr val="44422c"/>
              </a:solidFill>
              <a:latin typeface="Hoefler Text"/>
            </a:endParaRPr>
          </a:p>
        </p:txBody>
      </p:sp>
      <p:pic>
        <p:nvPicPr>
          <p:cNvPr id="1387"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1385"/>
                                        </p:tgtEl>
                                        <p:attrNameLst>
                                          <p:attrName>style.visibility</p:attrName>
                                        </p:attrNameLst>
                                      </p:cBhvr>
                                      <p:to>
                                        <p:strVal val="visible"/>
                                      </p:to>
                                    </p:set>
                                    <p:animEffect filter="fade" transition="in">
                                      <p:cBhvr additive="repl">
                                        <p:cTn id="14"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89" name="Picture 12" descr=""/>
          <p:cNvPicPr/>
          <p:nvPr/>
        </p:nvPicPr>
        <p:blipFill>
          <a:blip r:embed="rId1"/>
          <a:stretch/>
        </p:blipFill>
        <p:spPr>
          <a:xfrm>
            <a:off x="11650680" y="8416800"/>
            <a:ext cx="1407960" cy="1330560"/>
          </a:xfrm>
          <a:prstGeom prst="rect">
            <a:avLst/>
          </a:prstGeom>
          <a:ln w="0">
            <a:noFill/>
          </a:ln>
        </p:spPr>
      </p:pic>
      <p:sp>
        <p:nvSpPr>
          <p:cNvPr id="1390" name="TextBox 9"/>
          <p:cNvSpPr/>
          <p:nvPr/>
        </p:nvSpPr>
        <p:spPr>
          <a:xfrm>
            <a:off x="0" y="3359160"/>
            <a:ext cx="12353760" cy="555300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Holding of periodic meetings of partners to share experiences and define agenda for action</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Identification, review and compilation of best nutrient management practices and dissemination through web and meetings/workshops</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ment of a “policy toolbox” related to managing nutrient impacts from key source/sectors, to support national actions,  especially development of nutrient reduction strategies, and designing of training module and associated curriculum</a:t>
            </a:r>
            <a:endParaRPr b="0" lang="en-US" sz="3200" spc="-1" strike="noStrike">
              <a:solidFill>
                <a:srgbClr val="44422c"/>
              </a:solidFill>
              <a:latin typeface="Hoefler Text"/>
            </a:endParaRPr>
          </a:p>
        </p:txBody>
      </p:sp>
      <p:pic>
        <p:nvPicPr>
          <p:cNvPr id="1391"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1389"/>
                                        </p:tgtEl>
                                        <p:attrNameLst>
                                          <p:attrName>style.visibility</p:attrName>
                                        </p:attrNameLst>
                                      </p:cBhvr>
                                      <p:to>
                                        <p:strVal val="visible"/>
                                      </p:to>
                                    </p:set>
                                    <p:animEffect filter="fade" transition="in">
                                      <p:cBhvr additive="repl">
                                        <p:cTn id="21" dur="500"/>
                                        <p:tgtEl>
                                          <p:spTgt spid="1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93" name="Picture 12" descr=""/>
          <p:cNvPicPr/>
          <p:nvPr/>
        </p:nvPicPr>
        <p:blipFill>
          <a:blip r:embed="rId1"/>
          <a:stretch/>
        </p:blipFill>
        <p:spPr>
          <a:xfrm>
            <a:off x="11596680" y="3359160"/>
            <a:ext cx="1407960" cy="1330200"/>
          </a:xfrm>
          <a:prstGeom prst="rect">
            <a:avLst/>
          </a:prstGeom>
          <a:ln w="0">
            <a:noFill/>
          </a:ln>
        </p:spPr>
      </p:pic>
      <p:sp>
        <p:nvSpPr>
          <p:cNvPr id="1394" name="TextBox 9"/>
          <p:cNvSpPr/>
          <p:nvPr/>
        </p:nvSpPr>
        <p:spPr>
          <a:xfrm>
            <a:off x="0" y="3359160"/>
            <a:ext cx="12353760" cy="6040440"/>
          </a:xfrm>
          <a:prstGeom prst="rect">
            <a:avLst/>
          </a:prstGeom>
          <a:noFill/>
          <a:ln w="0">
            <a:noFill/>
          </a:ln>
        </p:spPr>
        <p:style>
          <a:lnRef idx="0"/>
          <a:fillRef idx="0"/>
          <a:effectRef idx="0"/>
          <a:fontRef idx="minor"/>
        </p:style>
        <p:txBody>
          <a:bodyPr lIns="129960" rIns="129960" tIns="65160" bIns="65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4422c"/>
                </a:solidFill>
                <a:latin typeface="Calibri"/>
              </a:rPr>
              <a:t>Immediate Actions:</a:t>
            </a: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Production of policy briefs, information documents and case studies to promote sustainable nutrient management.</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Facilitation of dialogues for policy reform in support of technological and management innovation to promote NUE</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Facilitation and design of cost-effective on-the-ground interventions reflecting interests of the partners </a:t>
            </a:r>
            <a:endParaRPr b="0" lang="en-US" sz="3200" spc="-1" strike="noStrike">
              <a:solidFill>
                <a:srgbClr val="44422c"/>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22c"/>
                </a:solidFill>
                <a:latin typeface="Calibri"/>
              </a:rPr>
              <a:t></a:t>
            </a:r>
            <a:r>
              <a:rPr b="0" lang="en-US" sz="3200" spc="-1" strike="noStrike">
                <a:solidFill>
                  <a:srgbClr val="44422c"/>
                </a:solidFill>
                <a:latin typeface="Calibri"/>
              </a:rPr>
              <a:t>	</a:t>
            </a:r>
            <a:r>
              <a:rPr b="0" lang="en-US" sz="3200" spc="-1" strike="noStrike">
                <a:solidFill>
                  <a:srgbClr val="44422c"/>
                </a:solidFill>
                <a:latin typeface="Calibri"/>
              </a:rPr>
              <a:t>Development of eXtension training programme and facilitation of exchange of scientific data, methodologies and research applications among various stakeholders to support research and extending the BMPs to the small holder farmers</a:t>
            </a:r>
            <a:endParaRPr b="0" lang="en-US" sz="3200" spc="-1" strike="noStrike">
              <a:solidFill>
                <a:srgbClr val="44422c"/>
              </a:solidFill>
              <a:latin typeface="Hoefler Text"/>
            </a:endParaRPr>
          </a:p>
        </p:txBody>
      </p:sp>
      <p:pic>
        <p:nvPicPr>
          <p:cNvPr id="1395" name="Picture 2" descr=""/>
          <p:cNvPicPr/>
          <p:nvPr/>
        </p:nvPicPr>
        <p:blipFill>
          <a:blip r:embed="rId2"/>
          <a:stretch/>
        </p:blipFill>
        <p:spPr>
          <a:xfrm>
            <a:off x="0" y="-108000"/>
            <a:ext cx="13004640" cy="3467160"/>
          </a:xfrm>
          <a:prstGeom prst="rect">
            <a:avLst/>
          </a:prstGeom>
          <a:ln w="0">
            <a:noFill/>
          </a:ln>
        </p:spPr>
      </p:pic>
    </p:spTree>
  </p:cSld>
  <p:transition spd="med">
    <p:fade/>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0">
                                  <p:stCondLst>
                                    <p:cond delay="0"/>
                                  </p:stCondLst>
                                  <p:childTnLst>
                                    <p:set>
                                      <p:cBhvr>
                                        <p:cTn id="27" dur="1" fill="hold">
                                          <p:stCondLst>
                                            <p:cond delay="0"/>
                                          </p:stCondLst>
                                        </p:cTn>
                                        <p:tgtEl>
                                          <p:spTgt spid="1393"/>
                                        </p:tgtEl>
                                        <p:attrNameLst>
                                          <p:attrName>style.visibility</p:attrName>
                                        </p:attrNameLst>
                                      </p:cBhvr>
                                      <p:to>
                                        <p:strVal val="visible"/>
                                      </p:to>
                                    </p:set>
                                    <p:animEffect filter="fade" transition="in">
                                      <p:cBhvr additive="repl">
                                        <p:cTn id="28" dur="500"/>
                                        <p:tgtEl>
                                          <p:spTgt spid="1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Content Placeholder 4"/>
          <p:cNvSpPr/>
          <p:nvPr/>
        </p:nvSpPr>
        <p:spPr>
          <a:xfrm>
            <a:off x="812880" y="3251160"/>
            <a:ext cx="11540880" cy="5137200"/>
          </a:xfrm>
          <a:prstGeom prst="rect">
            <a:avLst/>
          </a:prstGeom>
          <a:noFill/>
          <a:ln w="0">
            <a:noFill/>
          </a:ln>
        </p:spPr>
        <p:style>
          <a:lnRef idx="0"/>
          <a:fillRef idx="0"/>
          <a:effectRef idx="0"/>
          <a:fontRef idx="minor"/>
        </p:style>
        <p:txBody>
          <a:bodyPr lIns="129960" rIns="129960" tIns="65160" bIns="65160" anchor="t">
            <a:norm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p:txBody>
      </p:sp>
      <p:pic>
        <p:nvPicPr>
          <p:cNvPr id="1397" name="Picture 2" descr=""/>
          <p:cNvPicPr/>
          <p:nvPr/>
        </p:nvPicPr>
        <p:blipFill>
          <a:blip r:embed="rId1"/>
          <a:stretch/>
        </p:blipFill>
        <p:spPr>
          <a:xfrm>
            <a:off x="0" y="-108000"/>
            <a:ext cx="13004640" cy="3467160"/>
          </a:xfrm>
          <a:prstGeom prst="rect">
            <a:avLst/>
          </a:prstGeom>
          <a:ln w="0">
            <a:noFill/>
          </a:ln>
        </p:spPr>
      </p:pic>
      <p:sp>
        <p:nvSpPr>
          <p:cNvPr id="1398" name="Rectangle 1"/>
          <p:cNvSpPr/>
          <p:nvPr/>
        </p:nvSpPr>
        <p:spPr>
          <a:xfrm>
            <a:off x="0" y="3581280"/>
            <a:ext cx="13004640" cy="58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44422c"/>
                </a:solidFill>
                <a:latin typeface="Hoefler Text"/>
              </a:rPr>
              <a:t>UNEP/GEF Global Nutrient Cycle project</a:t>
            </a:r>
            <a:endParaRPr b="0" lang="en-US" sz="3800" spc="-1" strike="noStrike">
              <a:solidFill>
                <a:srgbClr val="44422c"/>
              </a:solidFill>
              <a:latin typeface="Hoefler Tex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44422c"/>
              </a:solidFill>
              <a:latin typeface="Hoefler Text"/>
            </a:endParaRPr>
          </a:p>
          <a:p>
            <a:pPr>
              <a:buClr>
                <a:srgbClr val="444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Finalization of the quantitative modeling </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   </a:t>
            </a:r>
            <a:r>
              <a:rPr b="0" lang="en-US" sz="3800" spc="-1" strike="noStrike">
                <a:solidFill>
                  <a:srgbClr val="44422c"/>
                </a:solidFill>
                <a:latin typeface="Hoefler Text"/>
              </a:rPr>
              <a:t>Synthesizing available scientific, technological and policy options and their bringing together in Policy Tool Box; </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Testing and application of the model and tool box in the Manila Bay watershed;</a:t>
            </a:r>
            <a:endParaRPr b="0" lang="en-US" sz="3800" spc="-1" strike="noStrike">
              <a:solidFill>
                <a:srgbClr val="44422c"/>
              </a:solidFill>
              <a:latin typeface="Hoefl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422c"/>
                </a:solidFill>
                <a:latin typeface="Hoefler Text"/>
              </a:rPr>
              <a:t>•</a:t>
            </a:r>
            <a:r>
              <a:rPr b="0" lang="en-US" sz="3800" spc="-1" strike="noStrike">
                <a:solidFill>
                  <a:srgbClr val="44422c"/>
                </a:solidFill>
                <a:latin typeface="Hoefler Text"/>
              </a:rPr>
              <a:t>	</a:t>
            </a:r>
            <a:r>
              <a:rPr b="0" lang="en-US" sz="3800" spc="-1" strike="noStrike">
                <a:solidFill>
                  <a:srgbClr val="44422c"/>
                </a:solidFill>
                <a:latin typeface="Hoefler Text"/>
              </a:rPr>
              <a:t>Replication of the ‘Ecosystem Health Report Card’ approach in the Laguna de Bay</a:t>
            </a:r>
            <a:endParaRPr b="0" lang="en-US" sz="3800" spc="-1" strike="noStrike">
              <a:solidFill>
                <a:srgbClr val="44422c"/>
              </a:solidFill>
              <a:latin typeface="Hoefler Text"/>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jan Datta</dc:creator>
  <dc:description/>
  <dc:language>en-US</dc:language>
  <cp:lastModifiedBy>Petter Malvik</cp:lastModifiedBy>
  <dcterms:modified xsi:type="dcterms:W3CDTF">2016-08-26T10:16:41Z</dcterms:modified>
  <cp:revision>23</cp:revision>
  <dc:subject/>
  <dc:title>Benthic Mapping</dc:title>
</cp:coreProperties>
</file>