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A8B0-A370-4EB8-B571-139970BC2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A498-B6B8-4149-B986-348E99999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4C6E-4B1E-4252-B09A-0A2B04D2AD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DBEB-6055-4F39-98B6-D859BEE1F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9583-7F32-4408-A773-2CA18D228C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3A3-BDD6-432D-8D34-102885610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25F2-8162-4F66-814D-B9FE525A04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E193-EC8E-4D30-B67E-BFD41D2B4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C425-B089-4315-93D9-3B44B72888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4FD7-39B5-4D77-838E-60FB61D38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07AD-33D7-472F-846F-526BE56477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A0B7-7A60-4E69-B71F-58C5C69BC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58D4-5117-44F7-AF24-74EAFD51EF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261E-1398-4957-9348-7F82F3C25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4519-33BC-41F5-9393-11C24297F7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EFCC-3135-4804-BEE0-A25ECE0C8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27B5-7932-47A2-9EB0-F11B3CD497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C636-7AB2-4899-89D0-DD89220D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14B3-5EA9-4503-B7A8-AFA248FE8F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E4EE-06CA-4DD3-A747-47A2D4B3A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C224-7250-4B24-B1B2-B516348A05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0667-AED9-4D1F-BFBF-4E9601DB9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3017-E9A6-4801-81DF-C6BB476298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DDD6-60A7-43A2-B5A9-0710D40C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2FE1-6081-4047-8BB7-63AF59818F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F109-E05A-4E18-9C4F-7B5A123CE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AE93-0417-4645-BFE3-85055B7724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C429-4016-4061-A409-D1329771D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3D75-B28D-4D0D-9856-B1E28542CC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FBCB-07AB-46D0-9ABE-176917B5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00BE-4951-4A77-89E4-B7C91370A8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A92A-3A1A-4E30-ABFA-1139B8790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012A-B66B-432E-9EF1-D8E73EF5F9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A601-C70C-44AE-8585-9A6FD944C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204-191F-45C4-9D01-DC16AC87B7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5518-5E53-4433-90D5-7B7FE9B2D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08A2-30C6-4CAC-AF2A-531FE9B293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514F-E440-4ADA-845B-84626B78B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ADA7-319B-409C-A929-0088FCCB14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579F-F8D6-48B2-8822-4FA1837AC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C868-C55D-4EC5-BB1D-13A895D943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5CF9-D79C-4CDB-B2D0-E3E024FF1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4E3E-9642-41D4-9BC8-2E29624AC7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8AA6-AE7A-430B-B080-D12F66A34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E2A3-5A11-4E54-9BA1-E463C5D391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BB1-E6A1-4638-8EF1-3108AB79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85A-A4F3-45C7-BD16-17536A6A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0FE-BF64-41D3-951D-8D9AADA7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F27-915E-4E2C-91E6-3F195571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E3DD-1553-4766-BFB1-D2F31B03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59E2-24A4-48C4-9386-6667C800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1D25-E499-48AF-BA3D-0364DBCF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EF65-EA29-4D16-B42D-02DBA2DD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DD52-F143-461E-BEA2-84BFC1CD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32FA-B0EE-42B4-A6AE-F06A4A1A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3634-6B54-403A-AF2F-D850BB42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FFA-A930-4EEC-B84B-563A8FBF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560B-DA89-4E82-B46B-E6BBDA12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D712-D4E3-49DF-A41F-A30C2722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4469-6870-4485-99AA-44A1F52B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B882-312E-4D9A-B536-BF688944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D31F-8C16-4208-808A-C410CD05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25E-B49F-49EA-8D3B-73E39F6E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7AF-1779-4676-8665-C862FED3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2D4-1203-4D5D-BD00-C7188D47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75C-1DF4-4ED3-9FA3-61B3F22E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027-0B17-41D9-A044-0D0EEC8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D22-C44A-4B5B-ADAD-8CE47067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DFC-25CE-4A8A-9C4B-6589B53C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CF22-D374-4550-A435-7E6A83991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B44E-F07E-496F-91C9-F72362B374B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600-9A31-4907-A92F-57F080D94D6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7162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Introduction à l’évaluation environnementa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E8FF-3BA5-41C0-BF9D-E6DB8D390D0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EEI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prend les questions sociales, économiques et environnementales dans l’analy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eut montrer les relations de cause à effets entre les actions humaines et les phénomènes environnementaux, ainsi que leurs conséquences sur les modes de vi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1347-0052-409C-BD80-D9C789F3825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-15228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Arial"/>
              </a:rPr>
              <a:t>L’EEI doit inclure une évaluation des politiques pour l’ensemble du système</a:t>
            </a:r>
            <a:r>
              <a:rPr b="0" lang="en-GB" sz="3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nséquences délibérées ou accidentelles des politiques sont souvent  dispers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 dans l’espace, à travers les secteurs de l’économie ou  le milieu environmental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effets de politiques sont souvent tardif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nséquences des politiques peuvent être  marginalement co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û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uses et cumul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;  elles peuvent aussi être  les causes de problèmes environnementaux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bien-être  et la vulnérabilité humains sont affect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par le système dans son ensemble et par les politiques utilisées  pour g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r ce systè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729D-A4AF-4490-A7FC-7142C0E8F8B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533520" y="2209680"/>
            <a:ext cx="190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Toon3"/>
          <p:cNvPicPr/>
          <p:nvPr/>
        </p:nvPicPr>
        <p:blipFill>
          <a:blip r:embed="rId1"/>
          <a:stretch/>
        </p:blipFill>
        <p:spPr>
          <a:xfrm>
            <a:off x="4038480" y="1600200"/>
            <a:ext cx="3556080" cy="48006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132" name="Text Box 4"/>
          <p:cNvSpPr/>
          <p:nvPr/>
        </p:nvSpPr>
        <p:spPr>
          <a:xfrm>
            <a:off x="304920" y="1676520"/>
            <a:ext cx="35049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Les forces motrices et pressions humaines et naturelles ont un impact sur l’environn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66680" y="228240"/>
            <a:ext cx="62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EEI: Bien-être  hu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8626-F5D5-4D9E-B426-4941D82CE1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26"/>
          <p:cNvSpPr/>
          <p:nvPr/>
        </p:nvSpPr>
        <p:spPr>
          <a:xfrm>
            <a:off x="533520" y="2209680"/>
            <a:ext cx="190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27" descr="Toon2"/>
          <p:cNvPicPr/>
          <p:nvPr/>
        </p:nvPicPr>
        <p:blipFill>
          <a:blip r:embed="rId1"/>
          <a:stretch/>
        </p:blipFill>
        <p:spPr>
          <a:xfrm>
            <a:off x="1219320" y="2743200"/>
            <a:ext cx="5657760" cy="3933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137" name="Text Box 1028"/>
          <p:cNvSpPr/>
          <p:nvPr/>
        </p:nvSpPr>
        <p:spPr>
          <a:xfrm>
            <a:off x="457200" y="1066680"/>
            <a:ext cx="78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Services environnementaux et bien-être  humains touchés, le fossé grandit entre les pos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dants et les 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munis et la vul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rabilité s’accentue pour les 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mun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29"/>
          <p:cNvSpPr/>
          <p:nvPr/>
        </p:nvSpPr>
        <p:spPr>
          <a:xfrm>
            <a:off x="990720" y="258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EI: Bien-être  et vulnérabilité hu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8917-1E99-4202-B146-9ABDB87B63A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238800" cy="3654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141" name="Text Box 3"/>
          <p:cNvSpPr/>
          <p:nvPr/>
        </p:nvSpPr>
        <p:spPr>
          <a:xfrm>
            <a:off x="914400" y="188280"/>
            <a:ext cx="79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EI: Bien-être  et vul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abilité hu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57200" y="1295280"/>
            <a:ext cx="7162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Parvenir à l’atteinte du bien-être  humain est un exercice d’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quili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6DF7-1FA9-4BC2-822A-A5BFC7AEE3E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91440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 multidimensionnel et comprend des éléments inexistants dans le rapport état  de l’environnement tradi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533520" y="1224000"/>
            <a:ext cx="74674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ilieu environnemental (état  et tendances du sol, de l’eau, de l’atmosphère et de la biodiversit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nctionnel (procure des biens et services environnementa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urniture aux différents secteurs (ex: liens avec l’utilisation énergétique, le tourisme, l’agriculture, la fabrication industrielle, l’exploitation minière et les échanges commercia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DD89-5EE0-40C0-90F5-50DF5AEED6D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95320" y="0"/>
            <a:ext cx="824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 multidimensionnel… (su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33520" y="1224000"/>
            <a:ext cx="76960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Questions intersectorielles (liées à la production, consommation, parité, pauvreté, au bien-être  et à la vulnérabilité humai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Questions environmentales (dégradation des sols, de l’air et pollution des eaux, catastrophes naturelles, surexploitation  des ressou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rrélations</a:t>
            </a:r>
            <a:r>
              <a:rPr b="1" lang="en-US" sz="2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 sein et entre tous les phénomènes ci-des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s politiques et analy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3DFC-D3EC-4C37-8305-D91D6DF85F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723924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e les états et tendances environnementaux avec des reponses poli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e l’analyse environnementale aux tendances et politiques sociales et économ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e les perspectives mondiales et aut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e les perspectives historiques et d’aven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ait appel à une expertise environnement-socio-économique diversifi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0DD4-81B1-4F69-8697-907A6102A13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d à 5 questions consécutives, suivant une séquence bien particulière (voir ci-dessous), permettant de lier les activités économiques à l’environnement et aux politiques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90720" y="152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98EE-D1CC-4864-8482-480260D212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Les 5 questions de l’EEI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6705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mesure alternative pourrait-être  prise (options pour l’action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s options futures (scénarios) pour un développement  durable (ou non durabl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s sont les mesures prises et sont-elles efficaces (répons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conséquence pour l’environnement et l’human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arrive-t-il à l’environnement et pourquoi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001000" y="14479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001000" y="1386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152280" y="5683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Times New Roman"/>
              </a:rPr>
              <a:t>SOE tradi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153280" y="359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001000" y="4738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8001000" y="2057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8001000" y="5424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7848720" y="1219320"/>
            <a:ext cx="380880" cy="5257800"/>
          </a:xfrm>
          <a:custGeom>
            <a:avLst/>
            <a:gdLst>
              <a:gd name="textAreaLeft" fmla="*/ 0 w 380880"/>
              <a:gd name="textAreaRight" fmla="*/ 137520 w 3808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1295280" y="54100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2932-E56E-463A-8C68-D18C68E4A68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POURQUOI LE MODULE 1?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Text Box 2051"/>
          <p:cNvSpPr/>
          <p:nvPr/>
        </p:nvSpPr>
        <p:spPr>
          <a:xfrm>
            <a:off x="457200" y="1219320"/>
            <a:ext cx="73152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ur mener à bien un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 et un rapport i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sur l’environnement probants: comprendre les dif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s types d’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 et leurs dif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ces ou liens avec l’EEI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 module traite des dif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s et situe le contexte 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al de l’E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E005-D9C6-4ED1-A22C-8B771E8931F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tude d’Impact Environnemental (EI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outil utilisé pour déterminer l’impact social, économique et environnemental de développements majeurs; propose des mesures pour atténuer les impac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pécifique à un site et à un proj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 une réponse politique dans le contexte de l’EE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écessite une participation publ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9863-0768-42C9-8440-F344FB40D1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valuation Environnementale Stratégique (EES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aite des effets d’une stratégie d’action proposée (politique, programme et plan) et identifie la meilleure option environnementale pratic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outil de soutien à la dé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ide à incorporer les principes de durabilité au processus d’élaboration de poli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cure un contexte pour l’évaluation des effets cumulés de différents projets ou initiativ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cure un contexte pour filtrer les projets (EIE complète ou partiel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ns le contexte EEI, les EES sont des réponses politiqu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C95B-35A4-47B7-B411-BB079EE12D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’évaluation et le rapport sur l’environnement par les entrepris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util de soutien à la gestion (certification IS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 à une obligation statutaire ou à une 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sponsabilité sociale des entrepri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ns le contexte EEI, c’est à la fois une action et une réponse politi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DEEB-4883-4763-9095-4B56D67E7A0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OBJECTIFS DU MODUL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62120" y="1208160"/>
            <a:ext cx="746748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nter les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s types d’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 environmentale et l’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lution de l’E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nter l’historique de l’EEI et la  manière dont elle contribue à la prise de 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nner un aper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ç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 des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approches relatives aux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ntifier des opportuni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de synergie entre les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approches pour l’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87A3-D61D-4586-A769-5E2B352ABE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es différents types d’Evaluation Environnemental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tat  de l’Environment (SO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ion et rapport 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int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gr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s sur l’Environnement (ER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tude d’Impact Environnemental (E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ion Environnementale Stratégique (E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ion et rapport sur l’environnement par les entrepri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04B3-B40B-4EBD-AEDF-1FB8D640014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tat  de l’Environnement (SO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ntre d’intérêt: l’aspect biophysique de l’environn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énéralement fait par une agence gouvernement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e contient pas de stratégies pour le fut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 la base de l’EE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34B4-BF52-48D1-8CD7-FCC852B568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es rapports Etat  de l’Environnement (SOE) traditionnels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premiers rapports sur l’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at de l’environnement se focalisaient sur l’état  de l’environnement au moment de l’évaluation. On les appelle “Rapports sur l’état  de l’environnement traditionnel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Rapports Etat  de l’Environnement traditionnels ont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utiles pour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ttre en exergue les tendances et conditions environnementales exis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curer des sujets à effet de levier aux d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id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resser un inventaire des ressources pouvant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ê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e utilis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 comme point de depart dans la planification du d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eloppement durab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70D4-4408-4D15-B1CC-ADC2B23376A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es rapports SOE traditionnels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ints faibles dans plusieurs domaine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ynth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è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s narratives de l’état  de l’environnement, pas des analyses pour la planification du développement  dur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s intégrés à l’évaluation des forces motrices et politiques causant ou influenant les tendances environnementales identifi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s li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analytiquement aux changements potentiels de l’état  actuel de l’environn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SOE devraient être  transformés en EEI tenant compte de la dynamique des phénomènes environnementaux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7E0-EDCB-4017-AFF9-C80E74A2F03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L’ </a:t>
            </a: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é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volution de l’EEI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soin d’évaluation élarg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 nous devions réagir à des questions corr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, il nous fau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e évaluation r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iste et des pratiques de  reporting communiquant les problèmes et solutions aux décideurs et au public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processus d’évaluation de rapport plus 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rgi tenant compte des liens entre les questions 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logiques, socio-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omiques et politiques, de  manière plus syst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tiqu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DBB8-1886-4011-9BA4-6FD843577F2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Evaluation et le Rapport Int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r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sur l’Environnement (ERIE) est un processus visant à produire et communiquer une information pertinente aux politiques sur les interactions cl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entre l’environnement naturel et la soci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humain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66680" y="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TION ET RAPPORT INTEGRES SUR L’ENVIRONNEMENT (ER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Virginia Gitari</cp:lastModifiedBy>
  <dcterms:modified xsi:type="dcterms:W3CDTF">2017-05-26T08:37:12Z</dcterms:modified>
  <cp:revision>2</cp:revision>
  <dc:subject/>
  <dc:title>   </dc:title>
</cp:coreProperties>
</file>