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5C1E-9528-4DB3-A3A0-5D816D60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BDE-D99F-41A3-85D4-309F5920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156-262C-49EF-9326-0735C9F8B8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4C23-9F6F-42C7-A8EE-E223BA51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7B7-0B5C-46A8-B3C2-0FEC3150DC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8D1-047B-4251-98C0-67847FB04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EB29-E8EB-4F7D-A9EA-3CE730ABA1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8EF-67A8-4F26-B758-ED531B7A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E29A-574E-4244-B87C-30B767042B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D36-1DC1-406B-80B3-BE05C687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F19-9E7C-4E43-BDD8-9DC4BF080C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113F-119F-4EE7-8B9D-0DB0D359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458-A4FE-4981-A2C6-CAD4EDEB3B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1679-ADAB-4DC9-9C7D-8D90F203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393-FDD4-424B-A1B6-5271D2814A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C9D3-284D-459F-B2C6-DE9BACEFF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7DAB-EBE8-4FF2-BE11-4BD47891AF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4AF8-0B26-4AF2-8995-B80CF177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6CA-1EEF-4245-BB9B-51ED9875D9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5D8B-CB22-46A9-965E-B7D848C7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0E3A-AC91-402D-94C2-9FC49C76CC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B00E-7FC0-4227-9561-CCDE4E59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8C5D-34DB-4972-A55C-0451E9F374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14A-4F38-458D-8267-968CEEB3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80E-356B-4B06-8C95-1EE95CFAE6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2E1-395E-4932-908F-731DB8F39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BBA8-FFE6-4935-B80F-B6C1D24518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E0F-4914-4978-899C-8FFC7290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8D67-41F3-4F20-884A-DCECC3D35A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D671-2592-43A6-A3EC-294ACD80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E452-DA3A-4982-87DB-5BCBEFED65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F075-01CB-45EA-B48E-B6CD8CA7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96D-DAFF-442A-854B-C6CB1727EF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48D-D6D0-468B-B9C0-24AA0370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E3D9-890D-42E5-8290-0DFAA1F530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39E7-BA14-4809-ADE0-D4111D6B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5D1-93D8-4621-85FF-8B40C30018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47E-051B-4FF9-92C0-94E8333D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0368-F0D6-4F95-B795-CE1A077365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8A2-BAB4-4CF1-81B2-8C1E5BF5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DFD-BD22-43C4-B220-8583CDCF3A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3728-352B-4C4C-A57A-533FE77AB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4390-4840-45AD-8219-E86E4B0A6E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157-1C52-47B5-99B6-F0977CA3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285-56EB-4788-928F-068DE040AE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771-BC8E-4758-831A-49F8710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1BF-FEA9-449E-854C-83CEA54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9A3-18CD-4482-A8CA-BE4F5BAF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B7A-EAE7-41D9-98FF-E959678D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C44B-FC28-4617-AF64-9560A03E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ED90-C29C-4A2A-988F-E0897E1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0B41-6F94-45E0-A7C3-796E47C2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0B63-632B-4986-ABA1-0CD767F5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2EBD-8968-40CE-84B8-2BFEDE0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401E-4ED4-4A35-A8B1-DAA6FBD9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E6C7-3EC9-4D0D-9BAB-7414C31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B81-2681-4722-9CC4-1EC60D50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0961-E3D7-4CAE-B3E7-62DB34D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098-60A1-4B68-938E-1DE8C9F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CAED-A33B-4929-99B7-102C9AE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D63D-2E9F-42AC-BAF6-6246554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A4C4-3637-4C48-9C6A-BB0D671C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B2D-7989-4E11-9DAF-445DC58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CB0-76B8-44E6-AB52-C2BB1623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61A-FEC0-4280-AA45-5DFBE4F5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656-8560-4EC3-9D0F-11442DF2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307-D768-4E1B-8586-4DC650C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64B-3463-4F04-B90D-732A187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7D9-1FDC-4517-886D-E42E0D3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9C20-BBA9-4B44-A4C3-9E508533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D506-F202-4B2B-BA35-CA884D37475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95C-7FEC-46B9-9ADC-A8B7C229CAE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 à l’évaluation environnementa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C8D0-0ADD-40A4-BD25-A6AF4FA10B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prend les questions sociales, économiques et environnementales dans l’analy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eut montrer les relations de cause à effets entre les actions humaines et les phénomènes environnementaux, ainsi que leurs conséquences sur les modes de vi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A3BF-D909-47EB-8ED1-CDD6FA2B8A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L’EEI doit inclure une évaluation des politiques pour l’ensemble du système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nséquences délibérées ou accidentelles des politiques sont souvent  dispers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dans l’espace, à travers les secteurs de l’économie ou  le milieu environmental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effets de politiques sont souvent tardif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nséquences des politiques peuvent être  marginalement co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uses et cumu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;  elles peuvent aussi être  les causes de problèmes environnementau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bien-être  et la vulnérabilité humains sont affect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par le système dans son ensemble et par les politiques utilisées  pour g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r ce systè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FCF-EB65-47C2-A1DD-7812833972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3520" y="2209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Toon3"/>
          <p:cNvPicPr/>
          <p:nvPr/>
        </p:nvPicPr>
        <p:blipFill>
          <a:blip r:embed="rId1"/>
          <a:stretch/>
        </p:blipFill>
        <p:spPr>
          <a:xfrm>
            <a:off x="4038480" y="1600200"/>
            <a:ext cx="3556080" cy="4800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32" name="Text Box 4"/>
          <p:cNvSpPr/>
          <p:nvPr/>
        </p:nvSpPr>
        <p:spPr>
          <a:xfrm>
            <a:off x="304920" y="1676520"/>
            <a:ext cx="3504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Les forces motrices et pressions humaines et naturelles ont un impact sur l’environn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6680" y="228240"/>
            <a:ext cx="62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EEI: Bien-être  hu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5C5-C26B-44C1-8A21-DC08A04CBB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26"/>
          <p:cNvSpPr/>
          <p:nvPr/>
        </p:nvSpPr>
        <p:spPr>
          <a:xfrm>
            <a:off x="533520" y="2209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27" descr="Toon2"/>
          <p:cNvPicPr/>
          <p:nvPr/>
        </p:nvPicPr>
        <p:blipFill>
          <a:blip r:embed="rId1"/>
          <a:stretch/>
        </p:blipFill>
        <p:spPr>
          <a:xfrm>
            <a:off x="1219320" y="2743200"/>
            <a:ext cx="5657760" cy="3933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37" name="Text Box 1028"/>
          <p:cNvSpPr/>
          <p:nvPr/>
        </p:nvSpPr>
        <p:spPr>
          <a:xfrm>
            <a:off x="457200" y="106668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Services environnementaux et bien-être  humains touchés, le fossé grandit entre les pos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dants et les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munis et la vul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rabilité s’accentue pour les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mun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9"/>
          <p:cNvSpPr/>
          <p:nvPr/>
        </p:nvSpPr>
        <p:spPr>
          <a:xfrm>
            <a:off x="990720" y="258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EI: Bien-être  et vulnérabilité hu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BAA5-B82A-4995-A482-D62EEE4FAB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238800" cy="3654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41" name="Text Box 3"/>
          <p:cNvSpPr/>
          <p:nvPr/>
        </p:nvSpPr>
        <p:spPr>
          <a:xfrm>
            <a:off x="914400" y="188280"/>
            <a:ext cx="79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EI: Bien-être  et vul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bilité hu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1295280"/>
            <a:ext cx="7162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Parvenir à l’atteinte du bien-être  humain est un exercice d’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quili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DB06-7214-4823-AAF4-8FCD27C3AA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91440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 multidimensionnel et comprend des éléments inexistants dans le rapport état  de l’environnement tradi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lieu environnemental (état  et tendances du sol, de l’eau, de l’atmosphère et de la biodiversit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nctionnel (procure des biens et services environnement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urniture aux différents secteurs (ex: liens avec l’utilisation énergétique, le tourisme, l’agriculture, la fabrication industrielle, l’exploitation minière et les échanges commerci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316-75B0-4357-9A46-2B0271299C6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 multidimensionnel… (su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33520" y="1224000"/>
            <a:ext cx="76960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ions intersectorielles (liées à la production, consommation, parité, pauvreté, au bien-être  et à la vulnérabilité huma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ions environmentales (dégradation des sols, de l’air et pollution des eaux, catastrophes naturelles, surexploitation  des res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rrélations</a:t>
            </a:r>
            <a:r>
              <a:rPr b="1" lang="en-US" sz="2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 sein et entre tous les phénomènes ci-des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s politiques et analy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3B0-405E-4B77-A5FC-62BEC939D43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23924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e les états et tendances environnementaux avec des reponses poli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’analyse environnementale aux tendances et politiques sociales et économ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es perspectives mondiales et aut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es perspectives historiques et d’aven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ait appel à une expertise environnement-socio-économique diversifi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F96-9E40-4721-A7FE-DFC10C9578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d à 5 questions consécutives, suivant une séquence bien particulière (voir ci-dessous), permettant de lier les activités économiques à l’environnement et aux politique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90720" y="152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76C3-545D-4C1C-A135-F9D8A1CADE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Les 5 questions de 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6705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001000" y="14479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001000" y="13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152280" y="5683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Times New Roman"/>
              </a:rPr>
              <a:t>SOE tradi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153280" y="359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01000" y="4738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001000" y="2057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8001000" y="5424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7848720" y="1219320"/>
            <a:ext cx="380880" cy="5257800"/>
          </a:xfrm>
          <a:custGeom>
            <a:avLst/>
            <a:gdLst>
              <a:gd name="textAreaLeft" fmla="*/ 0 w 380880"/>
              <a:gd name="textAreaRight" fmla="*/ 13752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295280" y="54100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2F0A-B1D9-4008-8F68-FF7DC40CFD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POURQUOI LE MODULE 1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Text Box 2051"/>
          <p:cNvSpPr/>
          <p:nvPr/>
        </p:nvSpPr>
        <p:spPr>
          <a:xfrm>
            <a:off x="457200" y="1219320"/>
            <a:ext cx="73152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ur mener à bien u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t un rapport i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sur l’environnement probants: comprendre le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s types d’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t leur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ces ou liens avec l’EEI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traite de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s et situe le contexte 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al de l’E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CFD1-93C3-4454-B022-D883858B42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tude d’Impact Environnemental (EI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outil utilisé pour déterminer l’impact social, économique et environnemental de développements majeurs; propose des mesures pour atténuer les impac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que à un site et à un proj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 une réponse politique dans le contexte de l’EE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écessite une participation publ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A30-3464-4088-B29C-881791088C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ation Environnementale Stratégique (EES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ite des effets d’une stratégie d’action proposée (politique, programme et plan) et identifie la meilleure option environnementale pratic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outil de soutien à la d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ide à incorporer les principes de durabilité au processus d’élaboration de poli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 un contexte pour l’évaluation des effets cumulés de différents projets ou initiativ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 un contexte pour filtrer les projets (EIE complète ou partiel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ns le contexte EEI, les EES sont des réponses politiqu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21F-72E5-41CD-A5CB-621C3D5DCA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’évaluation et le rapport sur l’environnement par les entrepris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util de soutien à la gestion (certification IS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à une obligation statutaire ou à une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sponsabilité sociale des entrepri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ns le contexte EEI, c’est à la fois une action et une réponse politi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366-F4FD-4B71-9F8F-0525445851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OBJECTIFS DU MODUL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120" y="1208160"/>
            <a:ext cx="746748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nter l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s types d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nvironmentale et l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ution de l’E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nter l’historique de l’EEI et la  manière dont elle contribue à la prise de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un aper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ç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 d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approches relatives aux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r des opportuni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de synergie entre l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approches pour l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9E31-AF98-4B0A-9B16-DFF2C48E32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es différents types d’Evaluation Environnemental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tat  de l’Environment (SO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t rapport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t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gr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 sur l’Environnement (ER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tude d’Impact Environnemental (E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nvironnementale Stratégique (E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t rapport sur l’environnement par les entrepri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FC1-6817-4947-90EF-94C509F144F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tat  de l’Environnement (SO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ntre d’intérêt: l’aspect biophysique de l’environn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énéralement fait par une agence gouvernement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e contient pas de stratégies pour le fut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 la base de l’E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2C20-2927-4EAD-AE78-E491C8EA53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rapports Etat  de l’Environnement (SOE) traditionnel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premiers rapports sur l’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at de l’environnement se focalisaient sur l’état  de l’environnement au moment de l’évaluation. On les appelle “Rapports sur l’état  de l’environnement traditionnel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apports Etat  de l’Environnement traditionnels ont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utiles pour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en exergue les tendances et conditions environnemental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r des sujets à effet de levier aux d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d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resser un inventaire des ressources pouvant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ê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e utilis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comme point de depart dans la planification du d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eloppement dura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55C-2CEF-476F-8004-8825F3A64BC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es rapports SOE traditionnels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ints faibles dans plusieurs domaine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ynth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è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s narratives de l’état  de l’environnement, pas des analyses pour la planification du développement  dur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s intégrés à l’évaluation des forces motrices et politiques causant ou influenant les tendances environnementales identifi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s li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analytiquement aux changements potentiels de l’état  actuel de l’environn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OE devraient être  transformés en EEI tenant compte de la dynamique des phénomènes environnementaux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0B22-4C9C-4BA2-BD49-D65515BCA7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 </a:t>
            </a: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é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volution de 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soin d’évaluation élar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us devions réagir à des questions corr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, il nous fau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évaluation r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iste et des pratiques de  reporting communiquant les problèmes et solutions aux décideurs et au public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rocessus d’évaluation de rapport plus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rgi tenant compte des liens entre les questions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ogiques, socio-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omiques et politiques, de  manière plus syst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tiqu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3C6A-AD44-4CF2-8E54-7E50C8E3DC3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valuation et le Rapport Int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sur l’Environnement (ERIE) est un processus visant à produire et communiquer une information pertinente aux politiques sur les interactions cl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entre l’environnement naturel et la soci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humain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66680" y="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ON ET RAPPORT INTEGRES SUR L’ENVIRONNEMENT (ER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Virginia Gitari</cp:lastModifiedBy>
  <dcterms:modified xsi:type="dcterms:W3CDTF">2017-05-26T08:37:12Z</dcterms:modified>
  <cp:revision>2</cp:revision>
  <dc:subject/>
  <dc:title>   </dc:title>
</cp:coreProperties>
</file>