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385-6EE5-4787-A3F4-DF6A211A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6C7E-CF2E-4925-93EE-4C87723D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798-1DCC-4A4D-B6B0-C93563AC46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9E49-CD4D-432E-9A3A-DDFE0283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3344-B321-4594-AB39-92D61C6BD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0137-1C98-4286-BEE5-8A1EEBBC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9CE6-90DB-4876-8995-957CE6700D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10A-EABD-436F-AD09-1F5493B4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70A4-0064-4BF6-9A90-83E40A6CD4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A2F0-6FA5-479B-A2F5-91A7E717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9FA-AC91-45BC-B15B-FAFAAA3A7F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D2C6-18CF-4A24-B220-C03A003ED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CCAE-1641-49FC-BB05-A4DACA103C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9E5-C1A1-46CA-BE3D-C797EB0D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C09-529C-4295-B503-EDDAE8DF81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4E8-4F0F-4F40-AABD-1DAD0D28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7D75-0302-4491-8FC9-5190A20675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2E34-1D80-4352-851D-613E30A7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08E-31F8-4FB5-9517-E2F12192C5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AE7E-FFBE-49EC-80F5-C2E3BC32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E9D-A8C8-4510-B1EA-0D01C48288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04D5-B702-493C-AC5C-9C706B23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9EE9-41BA-48A2-97A0-F36C080E9D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83E-2CA5-4C8C-B5CB-A83E9C01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A7F-B013-445E-8D18-DE95BF4A00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4D0D-7A32-4EC9-A8DB-7E0C1895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FABF-BBD4-4BB3-87C2-9C58190C28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50B5-BDFA-409F-A32D-6ACF4B02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AD60-1699-48F6-B4FE-AAF54C7BC3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8E6-EFCA-49E8-A738-968D9391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FD1-8507-4423-BA9A-44C543D1A0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7A5-792D-4293-AA1D-9EEA91A0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F86-109B-480B-B1C7-1D0E2F1745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662-74F1-4D08-BDEC-AC384D05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716A-7A10-42D3-AB71-5351938294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8B3-3EB7-448C-8A70-3F3F024A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E5A5-C78B-4C30-A728-A2F8B93301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B3F-57C5-4CD4-93A1-73670D9E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32A-8B2A-4ABF-AE67-A586CFD6EF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C9E4-B1C5-46F5-9F41-B09FF909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2FE-7AFC-4FE8-8E04-D814F627D4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FC0-849B-4696-915F-96702EBF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D8D4-63C3-49D5-9E82-D737F2C471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DA0-E24C-443E-8F13-FD9B0F9D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BA1-17F7-465E-AE26-D3195536C9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9D8-C688-4E53-B96E-C37A4FB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D5D-D673-44C0-8F16-19D7D2B1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81D-9F6D-4C60-8C06-A8C5617E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A62-FD10-443D-94AD-0C995C84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D85-4908-4698-AA7A-307E28A3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84ED-1123-4158-A69E-5B00D42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8FF-3A45-407D-98CA-D342EE6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B7C-7AC0-48F3-B4B3-8702EBEE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90D2-4540-47A8-AFC2-81B8CCC3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C898-3F27-44EB-A628-D73B526A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389-E9E4-4ED0-BC3D-AFAAECCB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DA9-445D-4AA9-8C2A-5AE2AC3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52D3-1A6E-4EAD-9C29-2DE26AE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4E16-65CB-45B8-98C3-28EFC7B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7A21-7944-46CC-8F57-A4CB4D7A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C1E0-7A9F-4F22-B839-0FA0F948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820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83240" y="12193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820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83240" y="37666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ECF-1ECC-485D-91F4-AD2FF50B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5C9-ED84-4BCF-95C1-4C5C882D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2A0-AA29-4AA4-8A88-4190E2E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158-C5FC-4E33-8DD6-9835004F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170-65B6-4C6C-BED2-B9119431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D9A-12B1-4E0F-91CB-777F410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9600" y="37666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4A2-463A-4DEF-B3E4-25FCD87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9600" y="12193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666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6D0-822A-4087-BF91-2EFB5EC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DDB-E28A-4C01-8A04-54310254C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6639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057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9FF-5998-47AB-9264-DCFE5627E4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 rot="16207200">
            <a:off x="-1332360" y="247536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Of Early War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>
            <a:hlinkClick r:id="" action="ppaction://hlinkshowjump?jump=previousslide"/>
          </p:cNvPr>
          <p:cNvSpPr/>
          <p:nvPr/>
        </p:nvSpPr>
        <p:spPr>
          <a:xfrm>
            <a:off x="8648640" y="563868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8016840" y="6019920"/>
          <a:ext cx="112716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16840" y="6019920"/>
                    <a:ext cx="11271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4F0-8D21-445E-87E5-B0374865B0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7162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MODULE 1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Introduction à l’évaluation environnementa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067F-C5C2-4B8F-9BAD-56FBD6F2971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’EEI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prend les questions sociales, économiques et environnementales dans l’analy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ut montrer les relations de cause à effets entre les actions humaines et les phénomènes environnementaux, ainsi que leurs conséquences sur les modes de vi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31E7-C3F3-43F8-8BCA-DAD443E45D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808080"/>
                </a:solidFill>
                <a:latin typeface="Arial"/>
                <a:ea typeface="Arial"/>
              </a:rPr>
              <a:t>L’EEI doit inclure une évaluation des politiques pour l’ensemble du système</a:t>
            </a:r>
            <a:r>
              <a:rPr b="0" lang="en-GB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élibérées ou accidentelles des politiques sont souvent  disper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dans l’espace, à travers les secteurs de l’économie ou  le milieu environmental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effets de politiques sont souvent tardif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conséquences des politiques peuvent être  marginalement co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û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uses et cumul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;  elles peuvent aussi être  les causes de problèmes environnementau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 bien-être  et la vulnérabilité humains sont affec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par le système dans son ensemble et par les politiques utilisées  pour g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r ce systè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133-E87A-4E68-87F3-B636159BDF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Toon3"/>
          <p:cNvPicPr/>
          <p:nvPr/>
        </p:nvPicPr>
        <p:blipFill>
          <a:blip r:embed="rId1"/>
          <a:stretch/>
        </p:blipFill>
        <p:spPr>
          <a:xfrm>
            <a:off x="4038480" y="1600200"/>
            <a:ext cx="3556080" cy="48006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2" name="Text Box 4"/>
          <p:cNvSpPr/>
          <p:nvPr/>
        </p:nvSpPr>
        <p:spPr>
          <a:xfrm>
            <a:off x="304920" y="1676520"/>
            <a:ext cx="3504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Les forces motrices et pressions humaines et naturelles ont un impact sur l’environn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6680" y="228240"/>
            <a:ext cx="62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EEI: Bien-être  hu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F0E2-AA48-4A0E-8DF5-F94156745B2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26"/>
          <p:cNvSpPr/>
          <p:nvPr/>
        </p:nvSpPr>
        <p:spPr>
          <a:xfrm>
            <a:off x="533520" y="2209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27" descr="Toon2"/>
          <p:cNvPicPr/>
          <p:nvPr/>
        </p:nvPicPr>
        <p:blipFill>
          <a:blip r:embed="rId1"/>
          <a:stretch/>
        </p:blipFill>
        <p:spPr>
          <a:xfrm>
            <a:off x="1219320" y="2743200"/>
            <a:ext cx="5657760" cy="3933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37" name="Text Box 1028"/>
          <p:cNvSpPr/>
          <p:nvPr/>
        </p:nvSpPr>
        <p:spPr>
          <a:xfrm>
            <a:off x="457200" y="106668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Services environnementaux et bien-être  humains touchés, le fossé grandit entre les pos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dants et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 et la vul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rabilité s’accentue pour les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SimSun"/>
              </a:rPr>
              <a:t>mun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9"/>
          <p:cNvSpPr/>
          <p:nvPr/>
        </p:nvSpPr>
        <p:spPr>
          <a:xfrm>
            <a:off x="990720" y="258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é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A95-436F-4ADE-9629-68E42D813B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238800" cy="3654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141" name="Text Box 3"/>
          <p:cNvSpPr/>
          <p:nvPr/>
        </p:nvSpPr>
        <p:spPr>
          <a:xfrm>
            <a:off x="914400" y="188280"/>
            <a:ext cx="79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EI: Bien-être  et vul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bilité hu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1295280"/>
            <a:ext cx="7162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Parvenir à l’atteinte du bien-être  humain est un exercice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é</a:t>
            </a:r>
            <a:r>
              <a:rPr b="1" lang="en-US" sz="3000" spc="-1" strike="noStrike">
                <a:solidFill>
                  <a:srgbClr val="ffffff"/>
                </a:solidFill>
                <a:latin typeface="Arial Unicode MS"/>
                <a:ea typeface="SimSun"/>
              </a:rPr>
              <a:t>quili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02BE-9B35-464E-975E-F0DF518E71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91440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 et comprend des éléments inexistants dans le rapport état  de l’environnement tradi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33520" y="1224000"/>
            <a:ext cx="74674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lieu environnemental (état  et tendances du sol, de l’eau, de l’atmosphère et de la biodiversit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nctionnel (procure des biens et services environnement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urniture aux différents secteurs (ex: liens avec l’utilisation énergétique, le tourisme, l’agriculture, la fabrication industrielle, l’exploitation minière et les échanges commerci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AC8-178B-4C7B-BEB6-3C6F673C6B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95320" y="0"/>
            <a:ext cx="824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 multidimensionnel… (su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33520" y="1224000"/>
            <a:ext cx="769608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intersectorielles (liées à la production, consommation, parité, pauvreté, au bien-être  et à la vulnérabilité huma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stions environmentales (dégradation des sols, de l’air et pollution des eaux, catastrophes naturelles, surexploitation  des res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rrélations</a:t>
            </a:r>
            <a:r>
              <a:rPr b="1" lang="en-US" sz="2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 sein et entre tous les phénomènes ci-des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s politiques et analy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FF2-FBE3-4435-996C-3B6C6AE8EA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23924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e les états et tendances environnementaux avec des reponses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’analyse environnementale aux tendances et politiques sociales et économ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mondiales et aut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corpore les perspectives historiques et d’aven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ait appel à une expertise environnement-socio-économique diversifi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2BB3-0DDB-4BB5-9B6D-5FD2A173AD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d à 5 questions consécutives, suivant une séquence bien particulière (voir ci-dessous), permettant de lier les activités économiques à l’environnement et aux politique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90720" y="152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  <a:ea typeface="Times New Roman"/>
              </a:rPr>
              <a:t>L’E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25B-9437-4D3F-854B-8821B18C68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Les 5 questions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6705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mesure alternative pourrait-être  prise (options pour l’action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s options futures (scénarios) pour un développement  durable (ou non durabl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lles sont les mesures prises et sont-elles efficaces (réponse)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lle conséquence pour l’environnement et l’humanité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’arrive-t-il à l’environnement et pourquoi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001000" y="14479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001000" y="13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152280" y="5683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Times New Roman"/>
              </a:rPr>
              <a:t>SOE tradi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153280" y="35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01000" y="4738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001000" y="2057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8001000" y="5424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7848720" y="1219320"/>
            <a:ext cx="380880" cy="5257800"/>
          </a:xfrm>
          <a:custGeom>
            <a:avLst/>
            <a:gdLst>
              <a:gd name="textAreaLeft" fmla="*/ 0 w 380880"/>
              <a:gd name="textAreaRight" fmla="*/ 13752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295280" y="54100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83D-C178-4661-B576-069F98FBA5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POURQUOI LE MODULE 1?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Text Box 2051"/>
          <p:cNvSpPr/>
          <p:nvPr/>
        </p:nvSpPr>
        <p:spPr>
          <a:xfrm>
            <a:off x="457200" y="1219320"/>
            <a:ext cx="73152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ur mener à bien u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un rapport i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probants: comprendre l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t leur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ces ou liens avec l’EEI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 module traite des dif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 et situe le contexte 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al de l’E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E116-5E38-45B2-9169-E352054187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ude d’Impact Environnemental (EI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utilisé pour déterminer l’impact social, économique et environnemental de développements majeurs; propose des mesures pour atténuer les impac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pécifique à un site et à un proj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une réponse politique dans le contexte de l’E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écessite une participation publ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EE97-B4F4-41F9-AD10-E7A996829D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valuation Environnementale Stratégique (EES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ite des effets d’une stratégie d’action proposée (politique, programme et plan) et identifie la meilleure option environnementale pratic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outil de soutien à la dé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ide à incorporer les principes de durabilité au processus d’élaboration de polit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l’évaluation des effets cumulés de différents projets ou initiati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 un contexte pour filtrer les projets (EIE complète ou partiel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les EES sont des réponses politiqu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4C62-5ED3-4988-AEB4-206A764EB3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’évaluation et le rapport sur l’environnement par les entrepris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util de soutien à la gestion (certification IS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éponse à une obligation statutaire ou à une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sponsabilité sociale des entrepri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ans le contexte EEI, c’est à la fois une action et une réponse politi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EFE9-D400-4DF6-B182-95701DD40A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OBJECTIFS DU MODUL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120" y="1208160"/>
            <a:ext cx="746748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s types d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 environmentale et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lution de l’E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nter l’historique de l’EEI et la  manière dont elle contribue à la prise de 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onner un aper</a:t>
            </a: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ç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 d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relatives aux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r des opportuni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de synergie entre les diff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ntes approches pour l’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é</a:t>
            </a: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l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AB8-C88F-4320-9678-DB2524E33BD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différents types d’Evaluation Environnemental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at  de l’Environment (SO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int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gr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 sur l’Environnement (ER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tude d’Impact Environnemental (E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nvironnementale Stratégique (E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aluation et rapport sur l’environnement par les entrepr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757-6C04-4880-9832-3A13E7CA78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tat  de l’Environnement (SO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entre d’intérêt: l’aspect biophysique de l’environn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énéralement fait par une agence gouvernement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e contient pas de stratégies pour le fut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 la base de l’E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549-80E4-4BA9-8562-3C567345F27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Les rapports Etat  de l’Environnement (SOE) traditionnels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premiers rapports sur l’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at de l’environnement se focalisaient sur l’état  de l’environnement au moment de l’évaluation. On les appelle “Rapports sur l’état  de l’environnement traditionnel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Rapports Etat  de l’Environnement traditionnels o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utiles pour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ettre en exergue les tendances et conditions environnementales exis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curer des sujets à effet de levier aux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d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resser un inventaire des ressources pouvant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ê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e utilis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comme point de depart dans la planification du d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eloppement dura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8B4-7E3E-4F1E-85B4-C8C179F031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es rapports SOE traditionnels (suite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315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ints faibles dans plusieurs domaine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ynth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è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s narratives de l’état  de l’environnement, pas des analyses pour la planification du développement  dur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intégrés à l’évaluation des forces motrices et politiques causant ou influenant les tendances environnementales identif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s li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analytiquement aux changements potentiels de l’état  actuel de l’environn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es SOE devraient être  transformés en EEI tenant compte de la dynamique des phénomènes environnementaux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210-903E-47C5-9A68-6311E6AC7A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L’ </a:t>
            </a:r>
            <a:r>
              <a:rPr b="1" lang="en-GB" sz="36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é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volution de l’EEI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soin d’évaluation élarg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us devions réagir à des questions cor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, il nous fau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e évaluation r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iste et des pratiques de  reporting communiquant les problèmes et solutions aux décideurs et au public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 processus d’évaluation de rapport plu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rgi tenant compte des liens entre les questions 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ogiques, socio-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omiques et politiques, de  manière plus syst</a:t>
            </a:r>
            <a:r>
              <a:rPr b="1" lang="en-GB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tiqu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6058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3D3-F829-462D-9701-113746F802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’Evaluation et le Rapport In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r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sur l’Environnement (ERIE) est un processus visant à produire et communiquer une information pertinente aux politiques sur les interactions cl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 entre l’environnement naturel et la soci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</a:t>
            </a:r>
            <a:r>
              <a:rPr b="1" lang="en-GB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humain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66680" y="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ON ET RAPPORT INTEGRES SUR L’ENVIRONNEMENT (ER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7:04:25Z</dcterms:created>
  <dc:creator>Elijah Munyao</dc:creator>
  <dc:description/>
  <dc:language>en-US</dc:language>
  <cp:lastModifiedBy>Virginia Gitari</cp:lastModifiedBy>
  <dcterms:modified xsi:type="dcterms:W3CDTF">2017-05-26T08:37:12Z</dcterms:modified>
  <cp:revision>2</cp:revision>
  <dc:subject/>
  <dc:title>   </dc:title>
</cp:coreProperties>
</file>