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885C-69E6-43DA-8B6E-EE5E23C74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CBEE-682D-4711-9B90-8A033945F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 impact strategy should be prepared once you have initiated the process for an integrated environmental assessment. It is part of the “institutional setup” for a GEO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-type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process (see Module 2). The manager, or management team, for the GEO process should be responsible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veloping the impact strategy, or ensuring that an impact strategy is develope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lementing the strategy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nitoring performance on the strategy to ensure that it is achieving the results you are seeking, and modifying or adjusting it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if nece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B30-2E47-4658-A047-4C139BB4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C3E-8F9D-4B53-A39E-FF60A683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8D0-6A92-453B-86E1-898364CE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E94-6678-4FC8-B421-9EF229AE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24B-3FEB-4F25-BDF9-B852F7D7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E86-9788-4606-874C-1F39D753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465-E2DF-4810-AC87-903D6F48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CB9-BEBB-4E01-A564-565ECC53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9A1-5952-4246-9162-72F89B79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6B1-7DDE-4F4E-BA31-99BCD8F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C1D-76CF-43FE-A3B6-F7743470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A3D-6C8C-4B19-95E4-C58A5EA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D5D8-85B0-4D21-A81A-28EBE9C6E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GEO bindcovserrevwide08.qx.jpg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571680" y="38577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  <a:ea typeface="Times New Roman"/>
              </a:rPr>
              <a:t>Module 3: Developing an impact strategy for your integrated environmental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tages Of The GEO-based IEA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8" descr=""/>
          <p:cNvPicPr/>
          <p:nvPr/>
        </p:nvPicPr>
        <p:blipFill>
          <a:blip r:embed="rId1"/>
          <a:stretch/>
        </p:blipFill>
        <p:spPr>
          <a:xfrm>
            <a:off x="433440" y="1324080"/>
            <a:ext cx="8277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derations for 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has the assessment been manda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olitical and bureaucratic con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build bridges with those who might not be in favour of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E reports were prepared in the past, what happened to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riorities for action were recommen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re they acted up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involved in the assessment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participants add or detract legitimacy from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derations for 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aking place in the current bureaucratic context that mi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senior bureaucrats from supporting your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m to apply your findings in support of a certain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aking place more generally in your country that might lead to a window of opport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oups of 3–4, discuss the context of a previous national assessment in your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as the context for previous assessments with which you are famili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you operating under a legal or policy manda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your assessments part of a larger program for government accountabilit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Setting the Stage for an Impact Strate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Setting the Stage for an Impact Strate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y were your assessments mandated, directed or commission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re your assessments a high priority for your superio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other things concern the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Setting the Stage for an Impact Strate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/will higher-level decision-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rs use your find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Issue Attention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at the issue attention cycles are will help in choosing actors to engage with and when to engage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n the public, political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cratic radar scr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new information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for action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Issue Attention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atten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global environmental risks has tended to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a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ears and even decades behind scientific and technical develop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ycle ca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se relatively rapid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 remain high for a short period of time, and then drop off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other cases,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re may be two cycl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a specific iss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Phases of Issu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adual build-u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scientific and analytic capacity through research, monitoring and assessment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 a long period; characterized by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latively low public atten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nlikely that new institutions will become involve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a major extent with the iss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Phases of Issu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apid rise in public atten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negotiation of leadership, and an emergent need for new instit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ed for coalitions of actors to push the issue forward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comes recogniz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alition buildin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encouraged over increased participation by individual or isolated groups of 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t a G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68360" y="2133720"/>
            <a:ext cx="82296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2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Impac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uilding an Impa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Phases of Issu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kages between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-intensive a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-intensiv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unctions increase in frequency and run in both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also a general decline in public attention to the issue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611280" y="40464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of Issue Development According to  Level of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63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ion: Issue Rad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in plenary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sues are of most concern to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tizens in your country right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is your political leadership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pond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align findings from you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 with these concer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t a G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1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2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Impac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 Impa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mpact Strategy Builds on Communications Activiti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2349360"/>
          <a:ext cx="8229600" cy="3327480"/>
        </p:xfrm>
        <a:graphic>
          <a:graphicData uri="http://schemas.openxmlformats.org/drawingml/2006/table">
            <a:tbl>
              <a:tblPr/>
              <a:tblGrid>
                <a:gridCol w="1152360"/>
                <a:gridCol w="3095640"/>
                <a:gridCol w="3981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Communications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is to effect change and to identify your potential role as a change agent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is to ensure people understand the findings and recommendation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group of key actors and those who have access to those actor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er audience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t the beginning of the assessment process, monitored and adjusted throughout the proces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the impact strategy; usually implemented towards the end of the strategy when findings and recommendations are known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rcRect l="0" t="0" r="0" b="7501"/>
          <a:stretch/>
        </p:blipFill>
        <p:spPr>
          <a:xfrm>
            <a:off x="828720" y="620640"/>
            <a:ext cx="7128000" cy="6224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5"/>
          <p:cNvSpPr/>
          <p:nvPr/>
        </p:nvSpPr>
        <p:spPr>
          <a:xfrm>
            <a:off x="1476360" y="2462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for an Impac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7236000" y="65088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IS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in Building an Impa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reating the change stat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What you would like the impact of your assessment to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elationship manag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Identify the key actors that you are seeking to influence, and build connections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Gather and analyse the knowledge for the assess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Opportunity manag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Move the knowledge into the hands of those you want to influ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Monitoring and improv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Determine whether your impact strategy is working, and adjust it as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1. Creating the Change Statement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ould you like to see changed o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ne differently as a direct result of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 impact statement may be broad,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identify key policy mechanisms, o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focus on one priority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hange statement may be broad, such as getting policy-makers to use the I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ey departmental decision-makers will use th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ormation gathered during the assessment to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 policy priorities, departmental strategic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lans and bu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statement could also identify key policy mechanism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overty Reduction Strategy Paper planning and implementation process is adjusted to increase attention to environmental degradation, protection and rehabilitation, based on the findings of the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articulate the reasons for conducting an Integrated Environmental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understanding of the political context for implementing the results of an I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develop strategies and communication tools to increase the impact of an I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mfortable with the process of assessing the audience for each IEA, understanding how each audience defines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at a meaningful impact is a dynamic result, requiring an ongoing strategy which is much more than a single product at the end of an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statement could focus on one key priority you want your findings to ad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government institutes a national watershed management plan that takes into consideration the responsibilities and capacities of villagers to protect and rehabilitate their water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 : Relationship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eople you want to reach and obtain a better understanding of their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people acquire inform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o they tru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sten to, and how can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 the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e concept of relationship management is maintaining the connections and influence over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 : Knowledg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alyse what they need to know, and what you need to know that will help them take or influence the deci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how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tr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final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e and sal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by including participation of decision-mak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gre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particip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in the knowledge development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: Opportunity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knowledge into the hands of those you want to infl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dvantage of key windows to move the assessment findings into the hands of others, and creating opportunity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development of “key messages” is essential in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26920" y="5373720"/>
            <a:ext cx="7056720" cy="8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Key messages are short, simple, plain language statements that capture the essence of the wor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: Monitoring, Evaluation and Impr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cremental changes in attitudes, actions and behavi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map incremental changes that will lead to decisions or changes you are see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interactions with your contacts and the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ontact form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ssible Continuum of Behaviour Changes in Target 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ent to target 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s are set up with target 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king and 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ctors seek information from others to verify information in the I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reports messages that are consistent with I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ctors issue new policy briefs, white papers, frameworks, regulations, other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ctors ask for more work from IEA process leaders (e.g., follow-up investigations, more in-depth assessme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The Impact of IEA and G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groups of 3–5, consid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changes do you feel are reasonable and meaningful from such an assess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know whether or not such changes were made and were sustai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enary, one spokesperson report for the group, summarizing changes to be expec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ies of Assessments that had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Learning Group (2001) found that self-conscious process evaluation was rare in the management of global environmental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ly, there are few examples of formal “impact strategies” to draw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theless, we can learn from assessments that have ha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ies of Assessments that had Impa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ennium Ecosystem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2360" y="274320"/>
            <a:ext cx="353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eptual Understanding of the National IEA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282600"/>
            <a:ext cx="6443640" cy="63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0" y="282600"/>
            <a:ext cx="645012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(NSoER)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Impact Statement (change des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in the objectives for the report is a desire for stronger environmental policies and programmes, based on credible and relevant knowledge of the South Africa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s strategy notes a key les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 continues to view the report as another technical report by government with few linkages to the daily lives of South Af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learly demonstrate linkages to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Relationshi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trategy identifies only two categories: media and stakeholders as targets of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“impact strategy” would be more specific and detailed with regard to relationships that need to be built and man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3: Knowled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trategy was developed as parallel activity to the IEA process, and does not include details of how information would be gathered and ana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core knowledge management functions were iden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view resource management and environmental issues report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ssess the conditions and prospects of the environment, and identify potenti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tinue the development of appropriat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Opportun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ategy clearly recogn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planning activities to inform and engage stakeholders throughout the NSo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paration of key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act of issue attention cycles on receptivity to key messages (how issues of current relevance could either reinforce messages or draw attention away from th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Opportun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556000" y="2263680"/>
            <a:ext cx="6335640" cy="4405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66560" y="2781360"/>
            <a:ext cx="18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 planned for each stage of the NSo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5: Monitoring, evalu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greement at the outse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communications impact assess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n impact assessment of the NS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ign the communications strategy in light of the impact assessment to achieve desired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deas were never implemented—but they  are a good set of objectives for 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ies of Assessments that had Impa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Module 3 for two other cas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Ecosystem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0" r="0" b="7501"/>
          <a:stretch/>
        </p:blipFill>
        <p:spPr>
          <a:xfrm>
            <a:off x="828720" y="620640"/>
            <a:ext cx="7128000" cy="6224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116000" y="2462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: Building an Impac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7236000" y="65088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IS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: Draft an Impact Stat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you like to see changed o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ne differently as a direct result of you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impact statement may be broad, ma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key policy mechanisms, or ma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cus on one priority a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: Identify WHO You are Trying to Impa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8360" y="1700280"/>
            <a:ext cx="8229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eople you want to reach and obtain a better understanding of their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these people acquire inform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do they tru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are the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listen to, and how can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ch the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e concept of relationship management is maintaining the connections and influence over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t a G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1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uilding an Impa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4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mplementing an Impact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rate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Determine WHAT Knowledge Needs to be Collected and How that Knowledge is Collect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alyse what they need to know, and what you need to know that will help them take or influence the deci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27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how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tr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final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27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e and sal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by including participation of decision-mak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27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gre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particip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in the knowledge development proces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4: Plan HOW to Bring the Report to the Attention of Target Audien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knowledge into the hands of those you want to infl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dvantage of key windows to move the assessment findings into the hands of others, and creating opportunity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development of “key messages” is essential in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5373720"/>
            <a:ext cx="7056720" cy="8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Key messages are short, simple, plain language statements that capture the essence of the wor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ling the Strategy Together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f group strateg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–10 minutes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Revie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similar and dissimilar among the 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strengths of the 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as need further ref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: Monitoring, Evaluation and Impr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cremental changes in attitudes, actions and behavi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map incremental changes that will lead to decisions or changes you are see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interactions with your contacts and the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pac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impac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 you prepare an impac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need an impac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is an Impact Strate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4200" y="1773000"/>
            <a:ext cx="3384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65240" indent="-165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 impact strategy consists of the steps you take to ensure that the work you do will lead to real progress on key issues or concer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t is proactive in nature, and adaptive in a public policy environment where priorities of governments and citizens can shift and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7501"/>
          <a:stretch/>
        </p:blipFill>
        <p:spPr>
          <a:xfrm>
            <a:off x="3495600" y="1197000"/>
            <a:ext cx="5613480" cy="4902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021440" y="6237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IS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is it Prepared and Who Prepares i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strategy is initiated in the “institutional set-up” stage of the GEO process. It is formalized in the “scoping and design” stage, implemented in stages 4, 5 and 6, and regularly monitored, assessed and impr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ager of the GEO process is responsible f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th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performance on the strategy to ensure results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achieved, and modifying or adjusting the strategy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tages Of The GEO-based IEA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79" descr=""/>
          <p:cNvPicPr/>
          <p:nvPr/>
        </p:nvPicPr>
        <p:blipFill>
          <a:blip r:embed="rId1"/>
          <a:stretch/>
        </p:blipFill>
        <p:spPr>
          <a:xfrm>
            <a:off x="399960" y="1028880"/>
            <a:ext cx="834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0:30:56Z</dcterms:created>
  <dc:creator>Carissa Wieler</dc:creator>
  <dc:description/>
  <dc:language>en-US</dc:language>
  <cp:lastModifiedBy>Charles Thrift</cp:lastModifiedBy>
  <dcterms:modified xsi:type="dcterms:W3CDTF">2008-11-13T17:48:11Z</dcterms:modified>
  <cp:revision>47</cp:revision>
  <dc:subject/>
  <dc:title>GEO Resource Book</dc:title>
</cp:coreProperties>
</file>