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EDDC-06AA-49BE-9ACD-FE47ECB5B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0927-0861-4484-9043-17C7FCFBF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59A-35C1-4297-AB46-11213AFC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307-D128-43E4-B630-F636C74E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702-B5A0-422B-8403-01E835A7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929-3213-4F14-AE8D-E9263AA1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F028-FCF1-45FC-B2F5-AB6B68AF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4B52-2957-41C4-B4AB-3DF1DBF2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7CC7-6B4C-491E-87F2-55112F12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98B5-C31F-49E7-BAC3-9C719B9D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05C6-EBF3-44AD-96FF-4FF4FF69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A772-F2FD-4185-AEA7-9DA6684F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0B32-A15C-4FB7-830A-25FD79E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8FE-D84F-4E55-A8F2-806CFD8A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B67C-573E-476A-ACA3-E0F44CFF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0BE4-6AA9-4647-AD3C-3EEC3DF0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FD7A-8D70-42D1-9D4B-B7B556FE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BC8D-517F-4D88-9328-CE4C5C79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CF88-51FB-4A28-A8FA-7EC722A6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1BB-B336-48F6-8E7A-0B79B118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FF5-C243-4D6B-AC99-A7940C0E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DFE-3EEA-4DAF-B837-7BC1D0D5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7D7-01B5-4BF2-9D4B-83C4F7FC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31F-5D31-4FC4-9F61-516DEEC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DF9-1420-42FB-B8B5-B4187FAF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AFF-551D-42BC-A39D-9B5B483E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0174-985A-4DFA-BC74-240EBC464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7A4D-1D68-4C56-A27A-025A831F5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lide Number Placeholder 3"/>
          <p:cNvSpPr/>
          <p:nvPr/>
        </p:nvSpPr>
        <p:spPr>
          <a:xfrm>
            <a:off x="8610480" y="66294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DECC-8719-4FDF-8B6E-EE020F148B2E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banner-v.jpg"/>
          <p:cNvPicPr/>
          <p:nvPr/>
        </p:nvPicPr>
        <p:blipFill>
          <a:blip r:embed="rId2"/>
          <a:stretch/>
        </p:blipFill>
        <p:spPr>
          <a:xfrm>
            <a:off x="0" y="0"/>
            <a:ext cx="11066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logo-unep.jpg"/>
          <p:cNvPicPr/>
          <p:nvPr/>
        </p:nvPicPr>
        <p:blipFill>
          <a:blip r:embed="rId3"/>
          <a:stretch/>
        </p:blipFill>
        <p:spPr>
          <a:xfrm>
            <a:off x="8381880" y="220680"/>
            <a:ext cx="457200" cy="54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4CD6-E9E9-418D-815E-011E118C7C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8680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270B-F9D1-406C-9C29-BBF5A77E98E9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1515-3807-46A3-B5AA-DAA4B0346C16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143000" y="-38088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o Andino sobre Extracción de Oro Artesanal y en Pequeña Escala (ASG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images1"/>
          <p:cNvPicPr/>
          <p:nvPr/>
        </p:nvPicPr>
        <p:blipFill>
          <a:blip r:embed="rId1"/>
          <a:stretch/>
        </p:blipFill>
        <p:spPr>
          <a:xfrm>
            <a:off x="8248680" y="152280"/>
            <a:ext cx="743040" cy="67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LOGO FORO ANDINO"/>
          <p:cNvPicPr/>
          <p:nvPr/>
        </p:nvPicPr>
        <p:blipFill>
          <a:blip r:embed="rId2"/>
          <a:stretch/>
        </p:blipFill>
        <p:spPr>
          <a:xfrm>
            <a:off x="5791320" y="4952880"/>
            <a:ext cx="3352680" cy="16700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-457200" y="358128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Juan Fernando Caicedo R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NUMA DTIE Productos Químico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edellín</a:t>
            </a: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, 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21 Novemb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143000" y="1828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Resultados de la Conferencia Diplomática y revisión de la ASG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dentro del Convenio de Minamata sobre el Mercu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D852-F0B5-45AE-96C0-181950B05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B24B-D8C1-497C-85C9-F08BA93D9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5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images1"/>
          <p:cNvPicPr/>
          <p:nvPr/>
        </p:nvPicPr>
        <p:blipFill>
          <a:blip r:embed="rId3"/>
          <a:stretch/>
        </p:blipFill>
        <p:spPr>
          <a:xfrm>
            <a:off x="8172360" y="152280"/>
            <a:ext cx="743040" cy="677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0"/>
          <p:cNvSpPr/>
          <p:nvPr/>
        </p:nvSpPr>
        <p:spPr>
          <a:xfrm>
            <a:off x="1371600" y="1447920"/>
            <a:ext cx="75438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establecimiento de modalidades de asociación para facilitar el cumplimiento de los compromisos contraídos en virtud del presente artícu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uso de los mecanismos de intercambio de información existe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promover conocimientos, mejores prácticas ambientales y tecnologías alternativas que sean viables desde el punto de vista ambiental, técnico, social y econó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UCHAS GRACIAS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137160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 (Art.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1E8F-633A-4725-9E1A-502471662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40B8-640C-4084-86D8-178FF3940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1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Minamata Convention on Mercury _ Convention_Page_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mages1"/>
          <p:cNvPicPr/>
          <p:nvPr/>
        </p:nvPicPr>
        <p:blipFill>
          <a:blip r:embed="rId4"/>
          <a:stretch/>
        </p:blipFill>
        <p:spPr>
          <a:xfrm>
            <a:off x="8172360" y="152280"/>
            <a:ext cx="7430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76EE-1C31-40CE-B898-41FE4F9B4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Signatory countries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CABB-926A-487E-ACAD-B92717F2B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609-B02C-46AB-B61C-8B922657A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images1"/>
          <p:cNvPicPr/>
          <p:nvPr/>
        </p:nvPicPr>
        <p:blipFill>
          <a:blip r:embed="rId3"/>
          <a:stretch/>
        </p:blipFill>
        <p:spPr>
          <a:xfrm>
            <a:off x="8172360" y="152280"/>
            <a:ext cx="743040" cy="677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43000" y="152280"/>
            <a:ext cx="723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504800" y="1143000"/>
            <a:ext cx="733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os de un « largo » camino sobre el mercurio (principios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mer enfoque: Alianza Mundial sobre el Mercu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icio del Comité Intergubernamental de negociación (2009 y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erencia de Plenipotenciarios (Octubre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rma……. y rat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ol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r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o de Minamata sobre el Mercuri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ector AS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657600" y="34290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835440" y="3886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10/10/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5181480" y="3124080"/>
            <a:ext cx="1131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C997-9193-4E6D-90E9-5412BBEB7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AA5-9306-4818-BF3B-12678C4D7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images1"/>
          <p:cNvPicPr/>
          <p:nvPr/>
        </p:nvPicPr>
        <p:blipFill>
          <a:blip r:embed="rId3"/>
          <a:stretch/>
        </p:blipFill>
        <p:spPr>
          <a:xfrm>
            <a:off x="8096400" y="152280"/>
            <a:ext cx="742680" cy="677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066680" y="1522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4"/>
          <a:stretch/>
        </p:blipFill>
        <p:spPr>
          <a:xfrm>
            <a:off x="4952880" y="1066680"/>
            <a:ext cx="4038840" cy="33800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/>
          <p:cNvSpPr/>
          <p:nvPr/>
        </p:nvSpPr>
        <p:spPr>
          <a:xfrm>
            <a:off x="1371600" y="1371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“proteger la salud humana y el medio ambiente de las emisiones y liberaciones antropógenas de mercurio y compuestos de mercurio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143000" y="2895480"/>
            <a:ext cx="45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rt.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SGM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xtracción de oro llevada a cabo por mineros particulares o pequeñas empresas con una inversión de capital y una producción limitad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V="1">
            <a:off x="5105520" y="3428640"/>
            <a:ext cx="190476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7010280" y="3200400"/>
            <a:ext cx="91440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1371600" y="464832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 permitido” se entiende cualquier uso por una Parte de mercurio o de compuestos de mercurio que esté en consonancia con el presente Convenio, incluidos, aunque no únicamente, los usos que estén en consonancia con los artículos 3, 4, 5, 6 y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2B89-417A-4E22-BA8C-5994DB3C0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A7AA-1D7C-41D1-B691-DCD5A208C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9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images1"/>
          <p:cNvPicPr/>
          <p:nvPr/>
        </p:nvPicPr>
        <p:blipFill>
          <a:blip r:embed="rId3"/>
          <a:stretch/>
        </p:blipFill>
        <p:spPr>
          <a:xfrm>
            <a:off x="8096400" y="152280"/>
            <a:ext cx="74268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1295280" y="76320"/>
            <a:ext cx="77724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ículos de releva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tículo 7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tracción de oro artesanal y en pequeñ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se aplicarán a las actividades de extracción y tratamiento de oro artesanales y en pequeña escala en las que se utilice amalgama de mercurio para extraer oro de la min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exo C: Extracción de oro artesanal y en pequeña escal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nacionale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tros artícul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Fuentes de suministro y comercio de mercu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Almacenamiento provisional ambiental racional de mercurio, distinto del mercurio de des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 Desechos de mercu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tios contamina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ectos relacionados con la salu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cambio de inform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ción, sensibilización y formación del públ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stigación, desarrollo y vigila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1143000" y="48006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6D50-A8A3-418F-933D-C0CB4FF40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2BF-9356-4704-8B76-C7376F819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8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images1"/>
          <p:cNvPicPr/>
          <p:nvPr/>
        </p:nvPicPr>
        <p:blipFill>
          <a:blip r:embed="rId3"/>
          <a:stretch/>
        </p:blipFill>
        <p:spPr>
          <a:xfrm>
            <a:off x="8096400" y="152280"/>
            <a:ext cx="742680" cy="67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1295280" y="76320"/>
            <a:ext cx="7772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ículos de relevanci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tros artículo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Planes de aplicació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…..Para. 4 Las partes también podrán coordinar los planes regionales para facilitar la aplicación del presente Conve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Presentación de in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 Recursos financieros y mecanismo financier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……Para. 6 El Mecanismo incluirá lo siguiente: 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a) El Fondo Fiduciario del Fondo para el Medio Ambiente Mundial; y 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b) Un Programa internacional específico para apoyar la creación de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capacidad y la asistencia técnica…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 Creación de capacidades, asistencia técnica y transferencia de tecnolog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219320" y="1371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5F84-9017-47D5-8571-DEA1E8651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5DBC-4606-45A3-BA67-E29E3ABA9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7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images1"/>
          <p:cNvPicPr/>
          <p:nvPr/>
        </p:nvPicPr>
        <p:blipFill>
          <a:blip r:embed="rId3"/>
          <a:stretch/>
        </p:blipFill>
        <p:spPr>
          <a:xfrm>
            <a:off x="8096400" y="152280"/>
            <a:ext cx="742680" cy="677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1066680" y="1522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 (Art.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83808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da Par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cuyo territorio se realicen actividades de extracción y tratamiento de oro artesanales y en pequeña escala sujetas al presente artículo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doptará medidas para reducir y, cuando sea viable, eliminar el uso de mercurio y de compuestos de mercurio de esas actividades y las emisiones y liberaciones de mercurio en el medio ambie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venientes de e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da Parte notificará a la Secreta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 en cualquier momento determina que las actividades de extracción y tratamiento de oro artesanales y en pequeña escala realizadas en su territorio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on más que insignific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Si así lo determina, la Par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aborará y aplicará un plan de acción 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conformidad con el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nexo 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esentará su plan de acción nacional a la Secreta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más tardar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es años después de la entrada en vigor del Convenio para esa Par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es años después de la notificación a la Secreta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i esa fecha fuese posterior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DA1E-0102-4C4B-A5B7-C58F6DCE5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F02-EF90-48AB-B8D3-B48898FF3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6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images1"/>
          <p:cNvPicPr/>
          <p:nvPr/>
        </p:nvPicPr>
        <p:blipFill>
          <a:blip r:embed="rId3"/>
          <a:stretch/>
        </p:blipFill>
        <p:spPr>
          <a:xfrm>
            <a:off x="8248680" y="152280"/>
            <a:ext cx="743040" cy="6778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1219320" y="87804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En lo sucesivo,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esentará un examen, cada tres años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 los progresos realiza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el cumplimiento de las obligaciones contraídas en virtud del presente artículo e incluirá esos exámenes en los informes que presente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formidad con el artículo 21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s Partes podrán cooperar entre s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con las organizaciones intergubernamentales y otras entidades pertinentes, según proceda, para lograr los objetivos del presente artículo. Esa cooperación podría incl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formulación de estrateg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prevenir el desvío de mercurio o compuestos de mercurio para su uso en la extracción y el tratamiento de oro artesanales y en pequeña esca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s iniciativas de educación, divulgación y creación de capac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promoción de investig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br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ácticas alternativas sostenibles en las que no se utilice mercur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prestación de asistencia técnica y financi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143000" y="152280"/>
            <a:ext cx="723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 (Art.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1:39:49Z</dcterms:created>
  <dc:creator>JFCaicedo</dc:creator>
  <dc:description/>
  <dc:language>en-US</dc:language>
  <cp:lastModifiedBy>auditorio</cp:lastModifiedBy>
  <dcterms:modified xsi:type="dcterms:W3CDTF">2013-11-22T23:19:38Z</dcterms:modified>
  <cp:revision>328</cp:revision>
  <dc:subject/>
  <dc:title>2 ASGM Global Forum</dc:title>
</cp:coreProperties>
</file>