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A954-BA6D-42BC-A07D-F968202D7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90BC-454C-4750-B587-D34DE2A5F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E8D-0BD9-400D-8D0D-050CFC24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3C2-877A-4855-B0CE-CD231949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19E4-FA58-4851-B0B7-0B78E497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5E1-5AB4-4885-90C2-23B3AEDA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AAFD-106F-44EA-A2A2-0AFCC71F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17B1-63BA-4D9D-B3EC-98C55DEF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5931-2F58-4F1D-9EA2-869EEDA1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8559-F339-4339-B31D-6E8801D8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3D16-B19A-4DB2-84C9-197DE67F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FE4D-529C-47FD-B439-C718B969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940B-80F5-4520-878E-0A5C9061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94A-B07B-4F75-9B9E-75EB7466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EF77-401E-43C5-9FF2-1390DD2A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B1AB-6F83-4F25-99BB-2E54DBE6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67E1-DF63-4EB6-BBDC-F282D304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3EF4-8DA7-4037-B5FD-B522D087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7774-9503-4A10-872D-21D8BB77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DA3-0875-4999-ACFC-22E494F8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C6D-607B-416C-8A45-39CCF02A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8327-5FCA-4A82-8FC1-7281F678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D8C-6DEC-4E89-826C-685E5833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45C-E72A-4D5F-A698-3A0CEE2F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B04C-187B-48E3-8C3C-54284BC1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0089-BB02-4FC6-A25C-EFF040B0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0933-05DF-45D7-A5C8-9CC93EA6A7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CE11-2FA0-4D3A-A1DB-5402244F5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lide Number Placeholder 3"/>
          <p:cNvSpPr/>
          <p:nvPr/>
        </p:nvSpPr>
        <p:spPr>
          <a:xfrm>
            <a:off x="8610480" y="66294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182B-037C-43C4-98F0-20842E595D33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banner-v.jpg"/>
          <p:cNvPicPr/>
          <p:nvPr/>
        </p:nvPicPr>
        <p:blipFill>
          <a:blip r:embed="rId2"/>
          <a:stretch/>
        </p:blipFill>
        <p:spPr>
          <a:xfrm>
            <a:off x="0" y="0"/>
            <a:ext cx="11066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logo-unep.jpg"/>
          <p:cNvPicPr/>
          <p:nvPr/>
        </p:nvPicPr>
        <p:blipFill>
          <a:blip r:embed="rId3"/>
          <a:stretch/>
        </p:blipFill>
        <p:spPr>
          <a:xfrm>
            <a:off x="8381880" y="220680"/>
            <a:ext cx="457200" cy="541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96B7-421D-4997-BB18-5384AE8835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8680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E9F1-7725-4763-ACE9-55641A076DCF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686800" y="66294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5CE9-806F-4A11-AA2A-776708E71AFA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143000" y="-380880"/>
            <a:ext cx="7238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o Andino sobre Extracción de Oro Artesanal y en Pequeña Escala (ASG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images1"/>
          <p:cNvPicPr/>
          <p:nvPr/>
        </p:nvPicPr>
        <p:blipFill>
          <a:blip r:embed="rId1"/>
          <a:stretch/>
        </p:blipFill>
        <p:spPr>
          <a:xfrm>
            <a:off x="8248680" y="152280"/>
            <a:ext cx="743040" cy="67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LOGO FORO ANDINO"/>
          <p:cNvPicPr/>
          <p:nvPr/>
        </p:nvPicPr>
        <p:blipFill>
          <a:blip r:embed="rId2"/>
          <a:stretch/>
        </p:blipFill>
        <p:spPr>
          <a:xfrm>
            <a:off x="5791320" y="4952880"/>
            <a:ext cx="3352680" cy="16700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-457200" y="3581280"/>
            <a:ext cx="8077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Juan Fernando Caicedo R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NUMA DTIE Productos Químicos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edellín</a:t>
            </a: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, Colo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21 Novemb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1143000" y="1828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Resultados de la Conferencia Diplomática y revisión de la ASG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dentro del Convenio de Minamata sobre el Mercu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7A30-7819-4EA7-8FAE-25EF635E5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3205-9B4B-421A-B07D-396A13027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5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Rectangle 6"/>
          <p:cNvSpPr/>
          <p:nvPr/>
        </p:nvSpPr>
        <p:spPr>
          <a:xfrm>
            <a:off x="1752480" y="0"/>
            <a:ext cx="6248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images1"/>
          <p:cNvPicPr/>
          <p:nvPr/>
        </p:nvPicPr>
        <p:blipFill>
          <a:blip r:embed="rId3"/>
          <a:stretch/>
        </p:blipFill>
        <p:spPr>
          <a:xfrm>
            <a:off x="8172360" y="152280"/>
            <a:ext cx="743040" cy="6778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0"/>
          <p:cNvSpPr/>
          <p:nvPr/>
        </p:nvSpPr>
        <p:spPr>
          <a:xfrm>
            <a:off x="1371600" y="1447920"/>
            <a:ext cx="75438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 establecimiento de modalidades de asociación para facilitar el cumplimiento de los compromisos contraídos en virtud del presente artícu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 uso de los mecanismos de intercambio de información existe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promover conocimientos, mejores prácticas ambientales y tecnologías alternativas que sean viables desde el punto de vista ambiental, técnico, social y econó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UCHAS GRACIAS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R SU ATEN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137160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Convenio de Minamata sobre el Mercurio (Art.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8A3F-A179-431E-987E-03A9BDD07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F297-BC0E-465E-9C98-82185B894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1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6"/>
          <p:cNvSpPr/>
          <p:nvPr/>
        </p:nvSpPr>
        <p:spPr>
          <a:xfrm>
            <a:off x="1752480" y="0"/>
            <a:ext cx="6248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Minamata Convention on Mercury _ Convention_Page_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images1"/>
          <p:cNvPicPr/>
          <p:nvPr/>
        </p:nvPicPr>
        <p:blipFill>
          <a:blip r:embed="rId4"/>
          <a:stretch/>
        </p:blipFill>
        <p:spPr>
          <a:xfrm>
            <a:off x="8172360" y="152280"/>
            <a:ext cx="7430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E3F8-C608-4D8E-BC49-95B7ABB5D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Signatory countries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987C-45FC-4CF1-A513-22E077E33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2DA3-4D28-4BD8-8AE1-35223BB81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3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Rectangle 6"/>
          <p:cNvSpPr/>
          <p:nvPr/>
        </p:nvSpPr>
        <p:spPr>
          <a:xfrm>
            <a:off x="1752480" y="0"/>
            <a:ext cx="6248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images1"/>
          <p:cNvPicPr/>
          <p:nvPr/>
        </p:nvPicPr>
        <p:blipFill>
          <a:blip r:embed="rId3"/>
          <a:stretch/>
        </p:blipFill>
        <p:spPr>
          <a:xfrm>
            <a:off x="8172360" y="152280"/>
            <a:ext cx="743040" cy="677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143000" y="152280"/>
            <a:ext cx="7238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Convenio de Minamata sobre el Mercu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504800" y="1143000"/>
            <a:ext cx="733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enzos de un « largo » camino sobre el mercurio (principios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imer enfoque: Alianza Mundial sobre el Mercu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icio del Comité Intergubernamental de negociación (2009 y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ferencia de Plenipotenciarios (Octubre 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rma……. y ratific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oli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lo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cu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er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venio de Minamata sobre el Mercurio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sector AS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3657600" y="34290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3835440" y="3886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10/10/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4"/>
          <a:stretch/>
        </p:blipFill>
        <p:spPr>
          <a:xfrm>
            <a:off x="5181480" y="3124080"/>
            <a:ext cx="1131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8437-45A9-4A60-A6F9-DFD8A67DF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07FA-760B-4659-B853-0F8A68B38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5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Rectangle 6"/>
          <p:cNvSpPr/>
          <p:nvPr/>
        </p:nvSpPr>
        <p:spPr>
          <a:xfrm>
            <a:off x="1752480" y="0"/>
            <a:ext cx="6248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images1"/>
          <p:cNvPicPr/>
          <p:nvPr/>
        </p:nvPicPr>
        <p:blipFill>
          <a:blip r:embed="rId3"/>
          <a:stretch/>
        </p:blipFill>
        <p:spPr>
          <a:xfrm>
            <a:off x="8096400" y="152280"/>
            <a:ext cx="742680" cy="6778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1066680" y="1522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Convenio de Minamata sobre el Mercu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4"/>
          <a:stretch/>
        </p:blipFill>
        <p:spPr>
          <a:xfrm>
            <a:off x="4952880" y="1066680"/>
            <a:ext cx="4038840" cy="33800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4"/>
          <p:cNvSpPr/>
          <p:nvPr/>
        </p:nvSpPr>
        <p:spPr>
          <a:xfrm>
            <a:off x="1371600" y="1371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.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“proteger la salud humana y el medio ambiente de las emisiones y liberaciones antropógenas de mercurio y compuestos de mercurio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1143000" y="2895480"/>
            <a:ext cx="456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Art.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SGM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xtracción de oro llevada a cabo por mineros particulares o pequeñas empresas con una inversión de capital y una producción limitada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V="1">
            <a:off x="5105520" y="3428640"/>
            <a:ext cx="190476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8"/>
          <p:cNvSpPr/>
          <p:nvPr/>
        </p:nvSpPr>
        <p:spPr>
          <a:xfrm>
            <a:off x="7010280" y="3200400"/>
            <a:ext cx="914400" cy="533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1371600" y="4648320"/>
            <a:ext cx="73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o permitido” se entiende cualquier uso por una Parte de mercurio o de compuestos de mercurio que esté en consonancia con el presente Convenio, incluidos, aunque no únicamente, los usos que estén en consonancia con los artículos 3, 4, 5, 6 y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C913-95EF-467B-970A-AEA7EC83A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90B9-449D-4630-85C2-C6A86CE97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9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6"/>
          <p:cNvSpPr/>
          <p:nvPr/>
        </p:nvSpPr>
        <p:spPr>
          <a:xfrm>
            <a:off x="1752480" y="0"/>
            <a:ext cx="6248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images1"/>
          <p:cNvPicPr/>
          <p:nvPr/>
        </p:nvPicPr>
        <p:blipFill>
          <a:blip r:embed="rId3"/>
          <a:stretch/>
        </p:blipFill>
        <p:spPr>
          <a:xfrm>
            <a:off x="8096400" y="152280"/>
            <a:ext cx="742680" cy="677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1295280" y="76320"/>
            <a:ext cx="77724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ículos de releva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rtículo 7: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xtracción de oro artesanal y en pequeñ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se aplicarán a las actividades de extracción y tratamiento de oro artesanales y en pequeña escala en las que se utilice amalgama de mercurio para extraer oro de la min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exo C: Extracción de oro artesanal y en pequeña escala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es nacionale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tros artículo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Fuentes de suministro y comercio de mercu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 Almacenamiento provisional ambiental racional de mercurio, distinto del mercurio de des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 Desechos de mercu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tios contamina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ectos relacionados con la salu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cambio de inform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ormación, sensibilización y formación del públ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vestigación, desarrollo y vigila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1143000" y="480060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2C34-CB0F-412A-954D-08076B229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FC11-1D09-4385-BCBF-E3824E466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8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Rectangle 6"/>
          <p:cNvSpPr/>
          <p:nvPr/>
        </p:nvSpPr>
        <p:spPr>
          <a:xfrm>
            <a:off x="1752480" y="0"/>
            <a:ext cx="6248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images1"/>
          <p:cNvPicPr/>
          <p:nvPr/>
        </p:nvPicPr>
        <p:blipFill>
          <a:blip r:embed="rId3"/>
          <a:stretch/>
        </p:blipFill>
        <p:spPr>
          <a:xfrm>
            <a:off x="8096400" y="152280"/>
            <a:ext cx="742680" cy="67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5"/>
          <p:cNvSpPr/>
          <p:nvPr/>
        </p:nvSpPr>
        <p:spPr>
          <a:xfrm>
            <a:off x="1295280" y="76320"/>
            <a:ext cx="77724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ículos de relevancia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tros artículo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 Planes de aplicació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…..Para. 4 Las partes también podrán coordinar los planes regionales para facilitar la aplicación del presente Conve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Presentación de in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 Recursos financieros y mecanismo financier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……Para. 6 El Mecanismo incluirá lo siguiente: 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a) El Fondo Fiduciario del Fondo para el Medio Ambiente Mundial; y 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b) Un Programa internacional específico para apoyar la creación de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  capacidad y la asistencia técnica…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4 Creación de capacidades, asistencia técnica y transferencia de tecnolog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1219320" y="1371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4FCC-1CE4-4DA0-8C23-8D4C5B93F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D73B-672A-4035-AFDE-B05B4B424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7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6"/>
          <p:cNvSpPr/>
          <p:nvPr/>
        </p:nvSpPr>
        <p:spPr>
          <a:xfrm>
            <a:off x="1752480" y="0"/>
            <a:ext cx="6248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images1"/>
          <p:cNvPicPr/>
          <p:nvPr/>
        </p:nvPicPr>
        <p:blipFill>
          <a:blip r:embed="rId3"/>
          <a:stretch/>
        </p:blipFill>
        <p:spPr>
          <a:xfrm>
            <a:off x="8096400" y="152280"/>
            <a:ext cx="742680" cy="677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1066680" y="1522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Convenio de Minamata sobre el Mercurio (Art.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90720" y="838080"/>
            <a:ext cx="7772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368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da Par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cuyo territorio se realicen actividades de extracción y tratamiento de oro artesanales y en pequeña escala sujetas al presente artículo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doptará medidas para reducir y, cuando sea viable, eliminar el uso de mercurio y de compuestos de mercurio de esas actividades y las emisiones y liberaciones de mercurio en el medio ambie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venientes de el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368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368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da Parte notificará a la Secretar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i en cualquier momento determina que las actividades de extracción y tratamiento de oro artesanales y en pequeña escala realizadas en su territorio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on más que insignific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Si así lo determina, la Par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368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laborará y aplicará un plan de acción nacion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conformidad con el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nexo 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368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resentará su plan de acción nacional a la Secretar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más tardar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es años después de la entrada en vigor del Convenio para esa Par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es años después de la notificación a la Secretar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si esa fecha fuese posterior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7589-E3EE-4D47-ABED-71F293004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9813-FDDD-4A14-92E9-5DB33758D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6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Rectangle 6"/>
          <p:cNvSpPr/>
          <p:nvPr/>
        </p:nvSpPr>
        <p:spPr>
          <a:xfrm>
            <a:off x="1752480" y="0"/>
            <a:ext cx="6248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images1"/>
          <p:cNvPicPr/>
          <p:nvPr/>
        </p:nvPicPr>
        <p:blipFill>
          <a:blip r:embed="rId3"/>
          <a:stretch/>
        </p:blipFill>
        <p:spPr>
          <a:xfrm>
            <a:off x="8248680" y="152280"/>
            <a:ext cx="743040" cy="6778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0"/>
          <p:cNvSpPr/>
          <p:nvPr/>
        </p:nvSpPr>
        <p:spPr>
          <a:xfrm>
            <a:off x="1219320" y="87804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En lo sucesivo,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resentará un examen, cada tres años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 los progresos realiza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el cumplimiento de las obligaciones contraídas en virtud del presente artículo e incluirá esos exámenes en los informes que presente de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formidad con el artículo 21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as Partes podrán cooperar entre s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con las organizaciones intergubernamentales y otras entidades pertinentes, según proceda, para lograr los objetivos del presente artículo. Esa cooperación podría incl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a formulación de estrategi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prevenir el desvío de mercurio o compuestos de mercurio para su uso en la extracción y el tratamiento de oro artesanales y en pequeña esca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as iniciativas de educación, divulgación y creación de capac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a promoción de investig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bre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rácticas alternativas sostenibles en las que no se utilice mercuri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a prestación de asistencia técnica y financie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143000" y="152280"/>
            <a:ext cx="7238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alibri"/>
              </a:rPr>
              <a:t>Convenio de Minamata sobre el Mercurio (Art.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1:39:49Z</dcterms:created>
  <dc:creator>JFCaicedo</dc:creator>
  <dc:description/>
  <dc:language>en-US</dc:language>
  <cp:lastModifiedBy>auditorio</cp:lastModifiedBy>
  <dcterms:modified xsi:type="dcterms:W3CDTF">2013-11-22T23:19:38Z</dcterms:modified>
  <cp:revision>328</cp:revision>
  <dc:subject/>
  <dc:title>2 ASGM Global Forum</dc:title>
</cp:coreProperties>
</file>