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8269-502B-4D8C-B8F6-9F607EB6C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03B8-E332-401E-B43F-AB0FF4E0B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43EB-BD9A-4A11-8095-B90D4C062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DA47-72C4-4FC3-8896-F84842D6B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175D-A1A3-4E8C-8152-05EE8A0CB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82BA-20A0-40BE-BC30-31395893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7A8-8CD8-4C0D-AC7B-93F7E562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D15-010C-4071-B845-C68D5E2D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8EC1-1AE3-4094-B3D3-CA813FFB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86ED-1DAD-4FF9-BA65-426E53A7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B5EA-0B82-4600-B735-B8B4F553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0ABB-88F2-44DE-956C-E32E76D8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BAEA-C7A5-4905-839F-D8C80749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9F9A-88C7-4D33-BC2D-A28F2BA6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662B-2E46-4112-B939-FC9FB961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B18B-7B6D-4862-BB60-72A6239A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2CA-DA18-4337-8079-9DD16194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C860-9509-4319-BA55-8010E3D5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E05C-9CFF-46B7-A907-A8D1C5A4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485B-5071-40CF-9CB1-FBC1655E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9AD2-F817-4A8A-A431-98AA7B2F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8F45-F97D-4933-9EC8-6D54F294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9A68-5BD7-427B-947A-59AAA7DD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845B-332B-4705-A858-26108759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33C-7C2B-417D-8B3C-9362292F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021-24B6-4575-9F61-F8AAC702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0F1-A356-450C-9158-AECC8310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B475-5035-4B18-A35D-EA2C01BE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BE3-8F9F-48CB-9440-5ED88FC8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9287-0FC4-4E3A-8120-B7DC7AE3DA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2657-D160-4EED-BF3E-E92797FC7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lide Number Placeholder 3"/>
          <p:cNvSpPr/>
          <p:nvPr/>
        </p:nvSpPr>
        <p:spPr>
          <a:xfrm>
            <a:off x="8610480" y="66294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11B2-5248-4500-8D87-B7A67157209B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banner-v.jpg"/>
          <p:cNvPicPr/>
          <p:nvPr/>
        </p:nvPicPr>
        <p:blipFill>
          <a:blip r:embed="rId2"/>
          <a:stretch/>
        </p:blipFill>
        <p:spPr>
          <a:xfrm>
            <a:off x="0" y="0"/>
            <a:ext cx="11066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logo-unep.jpg"/>
          <p:cNvPicPr/>
          <p:nvPr/>
        </p:nvPicPr>
        <p:blipFill>
          <a:blip r:embed="rId3"/>
          <a:stretch/>
        </p:blipFill>
        <p:spPr>
          <a:xfrm>
            <a:off x="8381880" y="220680"/>
            <a:ext cx="457200" cy="541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7D93-34F2-43F5-86DC-FBF74641A4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8680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B77E-875E-46A2-BAFF-031C11D23F21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ACC0-FBB0-4E25-BC05-8CF479F99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4" name="Picture 12" descr="home-new-blank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8" descr="logo-unep.jpg"/>
            <p:cNvPicPr/>
            <p:nvPr/>
          </p:nvPicPr>
          <p:blipFill>
            <a:blip r:embed="rId2"/>
            <a:stretch/>
          </p:blipFill>
          <p:spPr>
            <a:xfrm>
              <a:off x="8382240" y="220680"/>
              <a:ext cx="457200" cy="5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Rectangle 2"/>
          <p:cNvSpPr/>
          <p:nvPr/>
        </p:nvSpPr>
        <p:spPr>
          <a:xfrm>
            <a:off x="1143000" y="487692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Second Global Forum on Artisanal and Small Scale Gold Mining (ASG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alibri"/>
              </a:rPr>
              <a:t>Lima, Peru, 3 to 5 September 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981080" y="2209680"/>
            <a:ext cx="65534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1066680"/>
            <a:ext cx="807732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ff"/>
                </a:solidFill>
                <a:latin typeface="Arial"/>
              </a:rPr>
              <a:t>AN INTRODUCTION TO </a:t>
            </a:r>
            <a:br>
              <a:rPr sz="2800"/>
            </a:br>
            <a:r>
              <a:rPr b="1" lang="fr-CH" sz="2800" spc="-1" strike="noStrike">
                <a:solidFill>
                  <a:srgbClr val="0000ff"/>
                </a:solidFill>
                <a:latin typeface="Arial"/>
              </a:rPr>
              <a:t>NATIONAL ACTION PLA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ssion 1: EXPERIENCES IN DEVELOPING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TIONAL ACTION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ff"/>
                </a:solidFill>
                <a:latin typeface="Arial"/>
              </a:rPr>
              <a:t>Juan Fernando CAICEDO, Programme Officer, UN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686800" y="66294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589A-909E-46CF-A3AF-736D45C88346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world"/>
          <p:cNvPicPr/>
          <p:nvPr/>
        </p:nvPicPr>
        <p:blipFill>
          <a:blip r:embed="rId1"/>
          <a:stretch/>
        </p:blipFill>
        <p:spPr>
          <a:xfrm>
            <a:off x="1143000" y="2138400"/>
            <a:ext cx="8001000" cy="4567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alibri"/>
              </a:rPr>
              <a:t>Experiences in developing</a:t>
            </a:r>
            <a:br>
              <a:rPr sz="4000"/>
            </a:br>
            <a:r>
              <a:rPr b="1" lang="en-GB" sz="4000" spc="-1" strike="noStrike">
                <a:solidFill>
                  <a:srgbClr val="0000ff"/>
                </a:solidFill>
                <a:latin typeface="Calibri"/>
              </a:rPr>
              <a:t>national action pl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371600" y="144792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During this session we will discover common elements countries have developed and used while developing national action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676520" y="5029200"/>
            <a:ext cx="1523880" cy="1523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Calibri"/>
              </a:rPr>
              <a:t>Latin America and the Caribea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Peru &amp; Boli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Colo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505320" y="5181480"/>
            <a:ext cx="297180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Calibri"/>
              </a:rPr>
              <a:t>Africa: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Cote d’Ivoire, Senegal, Burkina Faso, Mali, Niger, Gambia, Nigeria and Gui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6781680" y="5029200"/>
            <a:ext cx="1981440" cy="1523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Calibri"/>
              </a:rPr>
              <a:t>Asian and the Pacific: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Cambod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686800" y="66294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1A4D-F793-49D7-9E83-E6C8DE347BFD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 Título"/>
          <p:cNvSpPr/>
          <p:nvPr/>
        </p:nvSpPr>
        <p:spPr>
          <a:xfrm>
            <a:off x="114300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 Título"/>
          <p:cNvSpPr/>
          <p:nvPr/>
        </p:nvSpPr>
        <p:spPr>
          <a:xfrm>
            <a:off x="838080" y="228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alibri"/>
              </a:rPr>
              <a:t>A travel from……to…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6"/>
          <p:cNvGrpSpPr/>
          <p:nvPr/>
        </p:nvGrpSpPr>
        <p:grpSpPr>
          <a:xfrm>
            <a:off x="6095880" y="2286000"/>
            <a:ext cx="2590920" cy="3505320"/>
            <a:chOff x="6095880" y="2286000"/>
            <a:chExt cx="2590920" cy="3505320"/>
          </a:xfrm>
        </p:grpSpPr>
        <p:sp>
          <p:nvSpPr>
            <p:cNvPr id="110" name="Rectangle 8"/>
            <p:cNvSpPr/>
            <p:nvPr/>
          </p:nvSpPr>
          <p:spPr>
            <a:xfrm>
              <a:off x="6095880" y="2286000"/>
              <a:ext cx="2590920" cy="35053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6248520" y="2625840"/>
              <a:ext cx="22096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inamata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onvention on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ercur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SGM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ational action pl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(Annex 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Line 9"/>
          <p:cNvSpPr/>
          <p:nvPr/>
        </p:nvSpPr>
        <p:spPr>
          <a:xfrm>
            <a:off x="4267080" y="4038480"/>
            <a:ext cx="1600200" cy="0"/>
          </a:xfrm>
          <a:prstGeom prst="line">
            <a:avLst/>
          </a:prstGeom>
          <a:ln w="247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5"/>
          <p:cNvGrpSpPr/>
          <p:nvPr/>
        </p:nvGrpSpPr>
        <p:grpSpPr>
          <a:xfrm>
            <a:off x="1371600" y="1600200"/>
            <a:ext cx="3048120" cy="4952880"/>
            <a:chOff x="1371600" y="1600200"/>
            <a:chExt cx="3048120" cy="4952880"/>
          </a:xfrm>
        </p:grpSpPr>
        <p:sp>
          <p:nvSpPr>
            <p:cNvPr id="114" name="Rectangle 7"/>
            <p:cNvSpPr/>
            <p:nvPr/>
          </p:nvSpPr>
          <p:spPr>
            <a:xfrm>
              <a:off x="1371600" y="1600200"/>
              <a:ext cx="2590920" cy="4952880"/>
            </a:xfrm>
            <a:prstGeom prst="rect">
              <a:avLst/>
            </a:prstGeom>
            <a:solidFill>
              <a:srgbClr val="99ccff"/>
            </a:solidFill>
            <a:ln w="57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5"/>
            <p:cNvSpPr/>
            <p:nvPr/>
          </p:nvSpPr>
          <p:spPr>
            <a:xfrm>
              <a:off x="1523880" y="1828800"/>
              <a:ext cx="28958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lobal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ercury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artnership’s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Experience:</a:t>
              </a:r>
              <a:br>
                <a:rPr sz="2400"/>
              </a:b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eveloping a nat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tegic plan to reduce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ercury use in ASG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(July 201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8686800" y="66294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9E8B-999A-4902-B4BC-E0C7F0297BAB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1 Título"/>
          <p:cNvSpPr/>
          <p:nvPr/>
        </p:nvSpPr>
        <p:spPr>
          <a:xfrm>
            <a:off x="114300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 Título"/>
          <p:cNvSpPr/>
          <p:nvPr/>
        </p:nvSpPr>
        <p:spPr>
          <a:xfrm>
            <a:off x="304920" y="838080"/>
            <a:ext cx="3504960" cy="1575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Global Mercury Partnership:</a:t>
            </a:r>
            <a:br>
              <a:rPr sz="2400"/>
            </a:b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Suggested content for a national strategic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33520" y="3108240"/>
            <a:ext cx="2895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cutive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and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ority goal and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aluation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e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3048120"/>
            <a:ext cx="2971800" cy="3352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1 Título"/>
          <p:cNvSpPr/>
          <p:nvPr/>
        </p:nvSpPr>
        <p:spPr>
          <a:xfrm>
            <a:off x="914400" y="1522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alibri"/>
              </a:rPr>
              <a:t>A travel from……to…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1 Título"/>
          <p:cNvSpPr/>
          <p:nvPr/>
        </p:nvSpPr>
        <p:spPr>
          <a:xfrm>
            <a:off x="3962520" y="990720"/>
            <a:ext cx="5029200" cy="12952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Minamata Convention on Mercury:</a:t>
            </a:r>
            <a:br>
              <a:rPr sz="2400"/>
            </a:b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Reference to </a:t>
            </a:r>
            <a:br>
              <a:rPr sz="2400"/>
            </a:b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ASGM national action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 Título"/>
          <p:cNvSpPr/>
          <p:nvPr/>
        </p:nvSpPr>
        <p:spPr>
          <a:xfrm>
            <a:off x="990720" y="137160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3886200" y="3124080"/>
            <a:ext cx="236232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3962520" y="3124080"/>
            <a:ext cx="2301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ticle 7: AS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.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) Develop and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) Submit to the 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) Provide a review every 3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6553080" y="2514600"/>
            <a:ext cx="2362320" cy="42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6537240" y="2590920"/>
            <a:ext cx="2301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nex C: AS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National action plans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lanes nacionales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lans d’action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nat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What the national action plan shall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What the national action plan may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1 Título"/>
          <p:cNvSpPr/>
          <p:nvPr/>
        </p:nvSpPr>
        <p:spPr>
          <a:xfrm>
            <a:off x="114300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 Título"/>
          <p:cNvSpPr/>
          <p:nvPr/>
        </p:nvSpPr>
        <p:spPr>
          <a:xfrm>
            <a:off x="152280" y="685800"/>
            <a:ext cx="2286000" cy="9144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Global Mercury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04920" y="2209680"/>
            <a:ext cx="2361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ecutive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roduction and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National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ority goal and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Implementation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Arial"/>
              </a:rPr>
              <a:t>Evaluation mechanism (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ne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52280" y="2057400"/>
            <a:ext cx="2667240" cy="4038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 Título"/>
          <p:cNvSpPr/>
          <p:nvPr/>
        </p:nvSpPr>
        <p:spPr>
          <a:xfrm>
            <a:off x="914400" y="1522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alibri"/>
              </a:rPr>
              <a:t>A travel from……to…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 Título"/>
          <p:cNvSpPr/>
          <p:nvPr/>
        </p:nvSpPr>
        <p:spPr>
          <a:xfrm>
            <a:off x="3352680" y="685800"/>
            <a:ext cx="5029200" cy="533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Minamata Convention on Merc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048120" y="1960560"/>
            <a:ext cx="2895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tional objectives and reduction targets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Actions to eliminate (b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Steps to facilitate formalization </a:t>
            </a:r>
            <a:br>
              <a:rPr sz="1800"/>
            </a:b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or regulation (c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Baseline estimates (d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9900"/>
                </a:solidFill>
                <a:latin typeface="Arial"/>
              </a:rPr>
              <a:t>Strategi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66cc"/>
                </a:solidFill>
                <a:latin typeface="Arial"/>
              </a:rPr>
              <a:t>Schedule for implementation (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2971800" y="1752480"/>
            <a:ext cx="2971800" cy="4496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4419720" y="4876920"/>
            <a:ext cx="1752480" cy="53316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6172200" y="1828800"/>
            <a:ext cx="2819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00"/>
                </a:solidFill>
                <a:latin typeface="Calibri"/>
              </a:rPr>
              <a:t>Promote reduction emissions &amp; releases of, exposure (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00"/>
                </a:solidFill>
                <a:latin typeface="Calibri"/>
              </a:rPr>
              <a:t>Manage trade &amp; preventing diversion Hg &amp; Hg compounds from both foreign and domestic sources (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00"/>
                </a:solidFill>
                <a:latin typeface="Calibri"/>
              </a:rPr>
              <a:t>Involve stakeholders implementation &amp; continuing development of the national action plan (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00"/>
                </a:solidFill>
                <a:latin typeface="Calibri"/>
              </a:rPr>
              <a:t>Public health strategy on the exposure of ASGM  miners and their communities (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00"/>
                </a:solidFill>
                <a:latin typeface="Calibri"/>
              </a:rPr>
              <a:t>Prevent exposure of vulnerable populations (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00"/>
                </a:solidFill>
                <a:latin typeface="Calibri"/>
              </a:rPr>
              <a:t>Provide information to ASGM miners and affected communities (j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3053880" y="6521400"/>
            <a:ext cx="17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663300"/>
                </a:solidFill>
                <a:latin typeface="Arial"/>
              </a:rPr>
              <a:t>* Art. 7 para 3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3413160" y="130644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Annex C para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6705720" y="609120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Annex C para.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1 Título"/>
          <p:cNvSpPr/>
          <p:nvPr/>
        </p:nvSpPr>
        <p:spPr>
          <a:xfrm>
            <a:off x="114300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 Título"/>
          <p:cNvSpPr/>
          <p:nvPr/>
        </p:nvSpPr>
        <p:spPr>
          <a:xfrm>
            <a:off x="304920" y="228600"/>
            <a:ext cx="3352680" cy="6094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alibri"/>
              </a:rPr>
              <a:t>Global Mercury Part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28600" y="1143000"/>
            <a:ext cx="3429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Arial"/>
              </a:rPr>
              <a:t>National overview (section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Baseline analys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1. Legal </a:t>
            </a:r>
            <a:br>
              <a:rPr sz="1600"/>
            </a:b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2. Geograp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3. Economics (earnings per capita, </a:t>
            </a:r>
            <a:r>
              <a:rPr b="1" lang="en-US" sz="1600" spc="-1" strike="noStrike" u="sng">
                <a:solidFill>
                  <a:srgbClr val="0066cc"/>
                </a:solidFill>
                <a:uFillTx/>
                <a:latin typeface="Arial"/>
              </a:rPr>
              <a:t>mercury supply, use and demand, gold trade and expo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4. Mining (ore bodies, processed used, </a:t>
            </a:r>
            <a:r>
              <a:rPr b="0" i="1" lang="en-US" sz="1600" spc="-1" strike="noStrike" u="sng">
                <a:solidFill>
                  <a:srgbClr val="cc0099"/>
                </a:solidFill>
                <a:uFillTx/>
                <a:latin typeface="Arial"/>
              </a:rPr>
              <a:t>number of people directly/indirectly involved - gender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and ag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5. Environment ( environmental destruction, contaminated sites,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mercury releases in soil, air and wat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6. </a:t>
            </a:r>
            <a:r>
              <a:rPr b="1" lang="en-US" sz="1600" spc="-1" strike="noStrike" u="sng">
                <a:solidFill>
                  <a:srgbClr val="cc3300"/>
                </a:solidFill>
                <a:uFillTx/>
                <a:latin typeface="Arial"/>
              </a:rPr>
              <a:t>Health information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(impacts, mercury </a:t>
            </a:r>
            <a:r>
              <a:rPr b="0" i="1" lang="en-US" sz="1600" spc="-1" strike="noStrike" u="sng">
                <a:solidFill>
                  <a:srgbClr val="cc0099"/>
                </a:solidFill>
                <a:uFillTx/>
                <a:latin typeface="Arial"/>
              </a:rPr>
              <a:t>exposure through various medi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7. </a:t>
            </a:r>
            <a:r>
              <a:rPr b="1" lang="en-US" sz="1600" spc="-1" strike="noStrike" u="sng">
                <a:solidFill>
                  <a:srgbClr val="663300"/>
                </a:solidFill>
                <a:uFillTx/>
                <a:latin typeface="Arial"/>
              </a:rPr>
              <a:t>Leadership &amp; organization (national &amp; local lev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8. Innovative exper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76320" y="990720"/>
            <a:ext cx="3809880" cy="5715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1 Título"/>
          <p:cNvSpPr/>
          <p:nvPr/>
        </p:nvSpPr>
        <p:spPr>
          <a:xfrm>
            <a:off x="4038480" y="304920"/>
            <a:ext cx="5029200" cy="5331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Minamata Convention on Merc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6172200" y="1828800"/>
            <a:ext cx="2819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4191120" y="990720"/>
            <a:ext cx="4724280" cy="5715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191120" y="1143000"/>
            <a:ext cx="487656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Steps to facilitate formalization or regulation (c)</a:t>
            </a:r>
            <a:br>
              <a:rPr sz="1600"/>
            </a:br>
            <a:r>
              <a:rPr b="1" lang="en-GB" sz="1600" spc="-1" strike="noStrike">
                <a:solidFill>
                  <a:srgbClr val="0066cc"/>
                </a:solidFill>
                <a:latin typeface="Arial"/>
              </a:rPr>
              <a:t>Baseline estimates (d)</a:t>
            </a:r>
            <a:br>
              <a:rPr sz="1600"/>
            </a:br>
            <a:r>
              <a:rPr b="0" i="1" lang="en-GB" sz="1600" spc="-1" strike="noStrike">
                <a:solidFill>
                  <a:srgbClr val="009900"/>
                </a:solidFill>
                <a:latin typeface="Arial"/>
              </a:rPr>
              <a:t>Strategies</a:t>
            </a:r>
            <a:br>
              <a:rPr sz="1600"/>
            </a:b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Promote reduction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Arial"/>
              </a:rPr>
              <a:t>emissions &amp; releases</a:t>
            </a: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 of, exposure (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Manage </a:t>
            </a:r>
            <a:r>
              <a:rPr b="1" lang="en-GB" sz="1600" spc="-1" strike="noStrike" u="sng">
                <a:solidFill>
                  <a:srgbClr val="0066cc"/>
                </a:solidFill>
                <a:uFillTx/>
                <a:latin typeface="Arial"/>
              </a:rPr>
              <a:t>trade &amp; preventing diversion Hg &amp; Hg compounds from both foreign and domestic sources</a:t>
            </a: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 (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GB" sz="1600" spc="-1" strike="noStrike" u="sng">
                <a:solidFill>
                  <a:srgbClr val="663300"/>
                </a:solidFill>
                <a:uFillTx/>
                <a:latin typeface="Arial"/>
              </a:rPr>
              <a:t>Involve stakeholders implementation &amp; continuing development</a:t>
            </a: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 of the national action plan (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Public </a:t>
            </a:r>
            <a:r>
              <a:rPr b="1" lang="en-GB" sz="1600" spc="-1" strike="noStrike" u="sng">
                <a:solidFill>
                  <a:srgbClr val="cc3300"/>
                </a:solidFill>
                <a:uFillTx/>
                <a:latin typeface="Arial"/>
              </a:rPr>
              <a:t>health strategy</a:t>
            </a: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 on the exposure of ASGM  miners and their communities (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Prevent </a:t>
            </a:r>
            <a:r>
              <a:rPr b="0" i="1" lang="en-GB" sz="1600" spc="-1" strike="noStrike" u="sng">
                <a:solidFill>
                  <a:srgbClr val="cc0099"/>
                </a:solidFill>
                <a:uFillTx/>
                <a:latin typeface="Arial"/>
              </a:rPr>
              <a:t>exposure of vulnerable populations</a:t>
            </a: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 (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Provide </a:t>
            </a:r>
            <a:r>
              <a:rPr b="0" i="1" lang="en-GB" sz="1600" spc="-1" strike="noStrike" u="sng">
                <a:solidFill>
                  <a:srgbClr val="cc0099"/>
                </a:solidFill>
                <a:uFillTx/>
                <a:latin typeface="Arial"/>
              </a:rPr>
              <a:t>information to ASGM miners and affected communities</a:t>
            </a: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 (j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8686800" y="66294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1C50-3D22-4122-83C3-C9D9740F7FF6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alibri"/>
              </a:rPr>
              <a:t>In the way to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images (9)"/>
          <p:cNvPicPr/>
          <p:nvPr/>
        </p:nvPicPr>
        <p:blipFill>
          <a:blip r:embed="rId1"/>
          <a:stretch/>
        </p:blipFill>
        <p:spPr>
          <a:xfrm>
            <a:off x="1600200" y="1339920"/>
            <a:ext cx="7162920" cy="53658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1143000" y="838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7299000" y="5637240"/>
            <a:ext cx="1346760" cy="916920"/>
          </a:xfrm>
          <a:prstGeom prst="rect">
            <a:avLst/>
          </a:prstGeom>
          <a:solidFill>
            <a:srgbClr val="99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rcur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927960" y="4114800"/>
            <a:ext cx="1649880" cy="9169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amata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ention 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 flipV="1" rot="12752400">
            <a:off x="5514120" y="4418640"/>
            <a:ext cx="2257560" cy="731880"/>
          </a:xfrm>
          <a:custGeom>
            <a:avLst/>
            <a:gdLst>
              <a:gd name="textAreaLeft" fmla="*/ 394920 w 2257560"/>
              <a:gd name="textAreaRight" fmla="*/ 1636920 w 225756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 rot="18385800">
            <a:off x="2490840" y="2109960"/>
            <a:ext cx="2573280" cy="1589040"/>
          </a:xfrm>
          <a:custGeom>
            <a:avLst/>
            <a:gdLst>
              <a:gd name="textAreaLeft" fmla="*/ 450360 w 2573280"/>
              <a:gd name="textAreaRight" fmla="*/ 1865880 w 2573280"/>
              <a:gd name="textAreaTop" fmla="*/ 212760 h 1589040"/>
              <a:gd name="textAreaBottom" fmla="*/ 1376280 h 1589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4343400" y="19051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Calibri"/>
              </a:rPr>
              <a:t>A travel of success! </a:t>
            </a:r>
            <a:br>
              <a:rPr sz="4000"/>
            </a:br>
            <a:r>
              <a:rPr b="1" lang="en-GB" sz="4000" spc="-1" strike="noStrike">
                <a:solidFill>
                  <a:srgbClr val="cc3300"/>
                </a:solidFill>
                <a:latin typeface="Calibri"/>
              </a:rPr>
              <a:t>and a way to achieve the expected result !</a:t>
            </a:r>
            <a:r>
              <a:rPr b="1" lang="en-GB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4724280" y="5562720"/>
            <a:ext cx="1447920" cy="9144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410080" y="5257800"/>
            <a:ext cx="1600200" cy="1066680"/>
          </a:xfrm>
          <a:prstGeom prst="line">
            <a:avLst/>
          </a:prstGeom>
          <a:ln w="2030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8686800" y="66294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E656-1097-47C0-85D9-8483939F9378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alibri"/>
              </a:rPr>
              <a:t>In the way to… </a:t>
            </a:r>
            <a:br>
              <a:rPr sz="4000"/>
            </a:br>
            <a:r>
              <a:rPr b="1" lang="en-GB" sz="4000" spc="-1" strike="noStrike">
                <a:solidFill>
                  <a:srgbClr val="0000ff"/>
                </a:solidFill>
                <a:latin typeface="Calibri"/>
              </a:rPr>
              <a:t>national action plans develo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12" descr="images (9)"/>
          <p:cNvPicPr/>
          <p:nvPr/>
        </p:nvPicPr>
        <p:blipFill>
          <a:blip r:embed="rId1"/>
          <a:stretch/>
        </p:blipFill>
        <p:spPr>
          <a:xfrm>
            <a:off x="1371600" y="1295280"/>
            <a:ext cx="7162920" cy="536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5"/>
          <p:cNvSpPr/>
          <p:nvPr/>
        </p:nvSpPr>
        <p:spPr>
          <a:xfrm>
            <a:off x="5353200" y="5600880"/>
            <a:ext cx="3692160" cy="6426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1: Establishing a coordina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95400" y="4800600"/>
            <a:ext cx="4073040" cy="6426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2: Gathering baseline inform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developing the nation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199840" y="4038480"/>
            <a:ext cx="3884040" cy="3682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3: Setting a goal and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580680" y="3429000"/>
            <a:ext cx="5039280" cy="3682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4: Formulating the implement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1618200" y="2438280"/>
            <a:ext cx="3262320" cy="3682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5: Evaluation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4391280" y="1676520"/>
            <a:ext cx="4656600" cy="3682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6: Endorsing the national strategic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1"/>
          <p:cNvSpPr/>
          <p:nvPr/>
        </p:nvSpPr>
        <p:spPr>
          <a:xfrm flipV="1" rot="13503600">
            <a:off x="5487120" y="3123360"/>
            <a:ext cx="1209240" cy="601560"/>
          </a:xfrm>
          <a:custGeom>
            <a:avLst/>
            <a:gdLst>
              <a:gd name="textAreaLeft" fmla="*/ 211680 w 1209240"/>
              <a:gd name="textAreaRight" fmla="*/ 876960 w 1209240"/>
              <a:gd name="textAreaTop" fmla="*/ 80640 h 601560"/>
              <a:gd name="textAreaBottom" fmla="*/ 520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4"/>
          <p:cNvSpPr/>
          <p:nvPr/>
        </p:nvSpPr>
        <p:spPr>
          <a:xfrm rot="19117800">
            <a:off x="75960" y="2354400"/>
            <a:ext cx="1447560" cy="846000"/>
          </a:xfrm>
          <a:custGeom>
            <a:avLst/>
            <a:gdLst>
              <a:gd name="textAreaLeft" fmla="*/ 253080 w 1447560"/>
              <a:gd name="textAreaRight" fmla="*/ 1049400 w 1447560"/>
              <a:gd name="textAreaTop" fmla="*/ 113040 h 846000"/>
              <a:gd name="textAreaBottom" fmla="*/ 7329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5"/>
          <p:cNvSpPr/>
          <p:nvPr/>
        </p:nvSpPr>
        <p:spPr>
          <a:xfrm flipV="1" rot="20889600">
            <a:off x="4952520" y="2217600"/>
            <a:ext cx="1285920" cy="373320"/>
          </a:xfrm>
          <a:custGeom>
            <a:avLst/>
            <a:gdLst>
              <a:gd name="textAreaLeft" fmla="*/ 225000 w 1285920"/>
              <a:gd name="textAreaRight" fmla="*/ 932400 w 1285920"/>
              <a:gd name="textAreaTop" fmla="*/ 50040 h 373320"/>
              <a:gd name="textAreaBottom" fmla="*/ 323280 h 37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6"/>
          <p:cNvSpPr/>
          <p:nvPr/>
        </p:nvSpPr>
        <p:spPr>
          <a:xfrm rot="19117800">
            <a:off x="3662280" y="3930120"/>
            <a:ext cx="1524240" cy="533520"/>
          </a:xfrm>
          <a:custGeom>
            <a:avLst/>
            <a:gdLst>
              <a:gd name="textAreaLeft" fmla="*/ 235080 w 1524240"/>
              <a:gd name="textAreaRight" fmla="*/ 1136520 w 15242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671" hR="21600" stAng="10800000" swAng="5400000"/>
                <a:lnTo>
                  <a:pt x="12769" y="0"/>
                </a:lnTo>
                <a:arcTo wR="6671" hR="21600" stAng="-5400000" swAng="2468308"/>
                <a:lnTo>
                  <a:pt x="21218" y="14400"/>
                </a:lnTo>
                <a:lnTo>
                  <a:pt x="16391" y="21600"/>
                </a:lnTo>
                <a:lnTo>
                  <a:pt x="10800" y="14400"/>
                </a:lnTo>
                <a:lnTo>
                  <a:pt x="12960" y="14400"/>
                </a:lnTo>
                <a:arcTo wR="6671" hR="21600" stAng="-2931692" swAng="-1927237"/>
                <a:lnTo>
                  <a:pt x="9720" y="2388"/>
                </a:lnTo>
                <a:arcTo wR="6671" hR="21600" stAng="-5941071" swAng="-4858929"/>
                <a:close/>
              </a:path>
              <a:path fill="darkenLess" w="21600" h="21600">
                <a:moveTo>
                  <a:pt x="0" y="21600"/>
                </a:moveTo>
                <a:arcTo wR="6671" hR="21600" stAng="10800000" swAng="5400000"/>
                <a:lnTo>
                  <a:pt x="6671" y="0"/>
                </a:lnTo>
                <a:arcTo wR="6671" hR="21600" stAng="-5400000" swAng="541071"/>
                <a:lnTo>
                  <a:pt x="9720" y="2388"/>
                </a:lnTo>
                <a:arcTo wR="6671" hR="21600" stAng="-5941071" swAng="-4858929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2514600" y="6324480"/>
            <a:ext cx="4191120" cy="368280"/>
          </a:xfrm>
          <a:prstGeom prst="rect">
            <a:avLst/>
          </a:prstGeom>
          <a:solidFill>
            <a:srgbClr val="99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Mercury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8"/>
          <p:cNvSpPr/>
          <p:nvPr/>
        </p:nvSpPr>
        <p:spPr>
          <a:xfrm flipV="1" rot="13503600">
            <a:off x="4275360" y="4884480"/>
            <a:ext cx="1209960" cy="601560"/>
          </a:xfrm>
          <a:custGeom>
            <a:avLst/>
            <a:gdLst>
              <a:gd name="textAreaLeft" fmla="*/ 211680 w 1209960"/>
              <a:gd name="textAreaRight" fmla="*/ 877320 w 1209960"/>
              <a:gd name="textAreaTop" fmla="*/ 80640 h 601560"/>
              <a:gd name="textAreaBottom" fmla="*/ 520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87E2-B118-4530-8ACD-F203AAE3D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7" name="Picture 12" descr="home-new-blank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8" descr="logo-unep.jpg"/>
            <p:cNvPicPr/>
            <p:nvPr/>
          </p:nvPicPr>
          <p:blipFill>
            <a:blip r:embed="rId2"/>
            <a:stretch/>
          </p:blipFill>
          <p:spPr>
            <a:xfrm>
              <a:off x="8382240" y="220680"/>
              <a:ext cx="457200" cy="5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7 Rectángulo redondeado"/>
          <p:cNvSpPr/>
          <p:nvPr/>
        </p:nvSpPr>
        <p:spPr>
          <a:xfrm>
            <a:off x="3581280" y="1371600"/>
            <a:ext cx="2590920" cy="9144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libri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7 Rectángulo redondeado"/>
          <p:cNvSpPr/>
          <p:nvPr/>
        </p:nvSpPr>
        <p:spPr>
          <a:xfrm>
            <a:off x="2666880" y="2743200"/>
            <a:ext cx="4114800" cy="9144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libri"/>
              </a:rPr>
              <a:t>MUCHAS GRACIA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7 Rectángulo redondeado"/>
          <p:cNvSpPr/>
          <p:nvPr/>
        </p:nvSpPr>
        <p:spPr>
          <a:xfrm>
            <a:off x="2209680" y="4191120"/>
            <a:ext cx="5257800" cy="9144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libri"/>
              </a:rPr>
              <a:t>MERCI BEAUCOUP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1:39:49Z</dcterms:created>
  <dc:creator>JFCaicedo</dc:creator>
  <dc:description/>
  <dc:language>en-US</dc:language>
  <cp:lastModifiedBy>RLA</cp:lastModifiedBy>
  <dcterms:modified xsi:type="dcterms:W3CDTF">2013-09-03T16:41:50Z</dcterms:modified>
  <cp:revision>333</cp:revision>
  <dc:subject/>
  <dc:title>2 ASGM Global Forum</dc:title>
</cp:coreProperties>
</file>