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C5D3-C83F-4C20-A957-CB7C3963D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C35E-DADF-44DE-880D-730E3E8D1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167F-CA09-4498-9156-A33C87D5E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32A8-AF25-4E4D-B24A-BF891389F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1B5-59B1-4491-8DE0-522CF703D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D14-C679-4D67-9AF5-F74B5139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10F-0328-4533-8CE7-39551897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E9C-42EF-4666-A6B0-CFF82523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93F-E894-4C52-AFFC-9D2EB5B9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118-7992-4D17-A19E-25226E65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0E3E-B3F1-468B-B8D7-37A958BD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F011-98D1-446E-A84B-90BA16A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AC9-B816-4F6F-B9C7-BA5C3FFD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F15A-0950-433A-BF21-5B9BEAFA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DF75-A8D3-4093-A09B-47EDCDBA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C827-E94D-408C-827E-63692CA4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25B-4F8A-4054-80D7-BF31E9B3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953-A404-41B1-B548-59A47E99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6174-21FA-4633-9030-53654BA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04AD-D719-45A2-9E33-E82C623D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D89D-5B7E-4C95-83E4-78AB9CC0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1B0F-61C9-48AC-ADB1-6320C9B0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E1F-EB9A-4E41-8800-085A9B46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9A4-44B6-461F-AF27-0BEAEBA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D0E-FCB0-414A-B5E2-CEC885BE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0FE-DA20-425F-8BE1-7BCAF32E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C7D-75F7-4152-B71D-DA20B162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352-631E-49CB-ADCC-3F31CFF6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A48-8BFB-45E0-909F-D4D20C2E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254B-E154-4B92-8A61-56F19E277A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00A-FBD0-4F72-95C4-37BC6D415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3"/>
          <p:cNvSpPr/>
          <p:nvPr/>
        </p:nvSpPr>
        <p:spPr>
          <a:xfrm>
            <a:off x="8610480" y="66294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F3BD-C4E5-49BA-8E5F-EFC5F341E8E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banner-v.jpg"/>
          <p:cNvPicPr/>
          <p:nvPr/>
        </p:nvPicPr>
        <p:blipFill>
          <a:blip r:embed="rId2"/>
          <a:stretch/>
        </p:blipFill>
        <p:spPr>
          <a:xfrm>
            <a:off x="0" y="0"/>
            <a:ext cx="11066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logo-unep.jpg"/>
          <p:cNvPicPr/>
          <p:nvPr/>
        </p:nvPicPr>
        <p:blipFill>
          <a:blip r:embed="rId3"/>
          <a:stretch/>
        </p:blipFill>
        <p:spPr>
          <a:xfrm>
            <a:off x="8381880" y="220680"/>
            <a:ext cx="457200" cy="54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83B8-51FA-4665-B127-28ED8991E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8680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5BE-55B2-4A0F-9FE7-F60B07111B1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2B98-4ABB-4E36-A58F-90432F109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2"/>
          <p:cNvSpPr/>
          <p:nvPr/>
        </p:nvSpPr>
        <p:spPr>
          <a:xfrm>
            <a:off x="1143000" y="487692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econd Global Forum on Artisanal and Small Scale Gold Mining (ASG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Lima, Peru, 3 to 5 September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981080" y="2209680"/>
            <a:ext cx="65534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1066680"/>
            <a:ext cx="80773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ff"/>
                </a:solidFill>
                <a:latin typeface="Arial"/>
              </a:rPr>
              <a:t>AN INTRODUCTION TO </a:t>
            </a:r>
            <a:br>
              <a:rPr sz="2800"/>
            </a:br>
            <a:r>
              <a:rPr b="1" lang="fr-CH" sz="2800" spc="-1" strike="noStrike">
                <a:solidFill>
                  <a:srgbClr val="0000ff"/>
                </a:solidFill>
                <a:latin typeface="Arial"/>
              </a:rPr>
              <a:t>NATIONAL ACTION PLA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ssion 1: EXPERIENCES IN DEVELOPING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TIONAL ACTI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ff"/>
                </a:solidFill>
                <a:latin typeface="Arial"/>
              </a:rPr>
              <a:t>Juan Fernando CAICEDO, Programme Officer, UN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4BAB-DD28-4E2A-B71B-381AD026E245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world"/>
          <p:cNvPicPr/>
          <p:nvPr/>
        </p:nvPicPr>
        <p:blipFill>
          <a:blip r:embed="rId1"/>
          <a:stretch/>
        </p:blipFill>
        <p:spPr>
          <a:xfrm>
            <a:off x="1143000" y="2138400"/>
            <a:ext cx="8001000" cy="456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Experiences in developing</a:t>
            </a: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national action pl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371600" y="14479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During this session we will discover common elements countries have developed and used while developing national action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676520" y="5029200"/>
            <a:ext cx="152388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Latin America and the Caribea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Peru &amp; Boli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505320" y="5181480"/>
            <a:ext cx="297180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Africa: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ote d’Ivoire, Senegal, Burkina Faso, Mali, Niger, Gambia, Nigeria and Gui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781680" y="5029200"/>
            <a:ext cx="1981440" cy="1523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Asian and the Pacific:</a:t>
            </a: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Cambod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E4B4-43A3-4C8D-AD00-02ABAFBDCFF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 Título"/>
          <p:cNvSpPr/>
          <p:nvPr/>
        </p:nvSpPr>
        <p:spPr>
          <a:xfrm>
            <a:off x="114300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 Título"/>
          <p:cNvSpPr/>
          <p:nvPr/>
        </p:nvSpPr>
        <p:spPr>
          <a:xfrm>
            <a:off x="838080" y="228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A travel from……to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6095880" y="2286000"/>
            <a:ext cx="2590920" cy="3505320"/>
            <a:chOff x="6095880" y="2286000"/>
            <a:chExt cx="2590920" cy="3505320"/>
          </a:xfrm>
        </p:grpSpPr>
        <p:sp>
          <p:nvSpPr>
            <p:cNvPr id="110" name="Rectangle 8"/>
            <p:cNvSpPr/>
            <p:nvPr/>
          </p:nvSpPr>
          <p:spPr>
            <a:xfrm>
              <a:off x="6095880" y="2286000"/>
              <a:ext cx="2590920" cy="35053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6248520" y="2625840"/>
              <a:ext cx="22096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inamata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vention on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rcur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GM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ational action pl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Annex 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9"/>
          <p:cNvSpPr/>
          <p:nvPr/>
        </p:nvSpPr>
        <p:spPr>
          <a:xfrm>
            <a:off x="4267080" y="4038480"/>
            <a:ext cx="1600200" cy="0"/>
          </a:xfrm>
          <a:prstGeom prst="line">
            <a:avLst/>
          </a:prstGeom>
          <a:ln w="247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1371600" y="1600200"/>
            <a:ext cx="3048120" cy="4952880"/>
            <a:chOff x="1371600" y="1600200"/>
            <a:chExt cx="3048120" cy="4952880"/>
          </a:xfrm>
        </p:grpSpPr>
        <p:sp>
          <p:nvSpPr>
            <p:cNvPr id="114" name="Rectangle 7"/>
            <p:cNvSpPr/>
            <p:nvPr/>
          </p:nvSpPr>
          <p:spPr>
            <a:xfrm>
              <a:off x="1371600" y="1600200"/>
              <a:ext cx="2590920" cy="4952880"/>
            </a:xfrm>
            <a:prstGeom prst="rect">
              <a:avLst/>
            </a:prstGeom>
            <a:solidFill>
              <a:srgbClr val="99ccff"/>
            </a:solidFill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1523880" y="1828800"/>
              <a:ext cx="28958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rcury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artnership’s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Experience:</a:t>
              </a:r>
              <a:br>
                <a:rPr sz="2400"/>
              </a:b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eveloping a nat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tegic plan to reduce</a:t>
              </a: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rcury use in ASG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(July 201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9C93-DBD4-42B6-A2F3-4007D0E0F8F4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 Título"/>
          <p:cNvSpPr/>
          <p:nvPr/>
        </p:nvSpPr>
        <p:spPr>
          <a:xfrm>
            <a:off x="114300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Título"/>
          <p:cNvSpPr/>
          <p:nvPr/>
        </p:nvSpPr>
        <p:spPr>
          <a:xfrm>
            <a:off x="304920" y="838080"/>
            <a:ext cx="3504960" cy="1575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Global Mercury Partnership: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Suggested content for a national strategic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3108240"/>
            <a:ext cx="2895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and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ority goal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3048120"/>
            <a:ext cx="2971800" cy="3352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 Título"/>
          <p:cNvSpPr/>
          <p:nvPr/>
        </p:nvSpPr>
        <p:spPr>
          <a:xfrm>
            <a:off x="914400" y="152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A travel from……to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 Título"/>
          <p:cNvSpPr/>
          <p:nvPr/>
        </p:nvSpPr>
        <p:spPr>
          <a:xfrm>
            <a:off x="3962520" y="990720"/>
            <a:ext cx="502920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Minamata Convention on Mercury: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Reference to 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ASGM national action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 Título"/>
          <p:cNvSpPr/>
          <p:nvPr/>
        </p:nvSpPr>
        <p:spPr>
          <a:xfrm>
            <a:off x="990720" y="13716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3886200" y="3124080"/>
            <a:ext cx="236232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3962520" y="3124080"/>
            <a:ext cx="2301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ticle 7: AS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.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) Develop and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) Submit to the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) Provide a review every 3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6553080" y="2514600"/>
            <a:ext cx="2362320" cy="42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6537240" y="2590920"/>
            <a:ext cx="2301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nex C: AS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ational action plans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lanes nacionale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Plans d’action</a:t>
            </a:r>
            <a:br>
              <a:rPr sz="1800"/>
            </a:b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What the national action plan shall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What the national action plan may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Título"/>
          <p:cNvSpPr/>
          <p:nvPr/>
        </p:nvSpPr>
        <p:spPr>
          <a:xfrm>
            <a:off x="114300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 Título"/>
          <p:cNvSpPr/>
          <p:nvPr/>
        </p:nvSpPr>
        <p:spPr>
          <a:xfrm>
            <a:off x="152280" y="685800"/>
            <a:ext cx="2286000" cy="9144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Global Mercur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04920" y="2209680"/>
            <a:ext cx="2361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roduction and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Nationa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ority goal and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cc"/>
                </a:solidFill>
                <a:latin typeface="Arial"/>
              </a:rPr>
              <a:t>Implementation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Arial"/>
              </a:rPr>
              <a:t>Evaluation mechanism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n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2280" y="2057400"/>
            <a:ext cx="2667240" cy="4038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 Título"/>
          <p:cNvSpPr/>
          <p:nvPr/>
        </p:nvSpPr>
        <p:spPr>
          <a:xfrm>
            <a:off x="914400" y="152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A travel from……to…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 Título"/>
          <p:cNvSpPr/>
          <p:nvPr/>
        </p:nvSpPr>
        <p:spPr>
          <a:xfrm>
            <a:off x="3352680" y="685800"/>
            <a:ext cx="5029200" cy="533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Minamata Convention on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048120" y="1960560"/>
            <a:ext cx="289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tional objectives and reduction targets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Actions to eliminate (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Steps to facilitate formalization </a:t>
            </a:r>
            <a:br>
              <a:rPr sz="1800"/>
            </a:b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or regulation (c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Baseline estimates (d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9900"/>
                </a:solidFill>
                <a:latin typeface="Arial"/>
              </a:rPr>
              <a:t>Strategi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Schedule for implementation (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2971800" y="1752480"/>
            <a:ext cx="2971800" cy="4496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4419720" y="4876920"/>
            <a:ext cx="1752480" cy="53316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6172200" y="1828800"/>
            <a:ext cx="2819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Promote reduction emissions &amp; releases of, exposure (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Manage trade &amp; preventing diversion Hg &amp; Hg compounds from both foreign and domestic sources (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Involve stakeholders implementation &amp; continuing development of the national action plan 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Public health strategy on the exposure of ASGM  miners and their communities (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Prevent exposure of vulnerable populations 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alibri"/>
              </a:rPr>
              <a:t>Provide information to ASGM miners and affected communities (j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053880" y="6521400"/>
            <a:ext cx="17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663300"/>
                </a:solidFill>
                <a:latin typeface="Arial"/>
              </a:rPr>
              <a:t>* Art. 7 para 3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413160" y="130644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nnex C para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705720" y="6091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Annex C para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1 Título"/>
          <p:cNvSpPr/>
          <p:nvPr/>
        </p:nvSpPr>
        <p:spPr>
          <a:xfrm>
            <a:off x="114300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Título"/>
          <p:cNvSpPr/>
          <p:nvPr/>
        </p:nvSpPr>
        <p:spPr>
          <a:xfrm>
            <a:off x="304920" y="228600"/>
            <a:ext cx="3352680" cy="609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Global Mercury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1143000"/>
            <a:ext cx="3429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rial"/>
              </a:rPr>
              <a:t>National overview (section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Baseline analys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1. Legal </a:t>
            </a:r>
            <a:br>
              <a:rPr sz="1600"/>
            </a:b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2. Geograp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3. Economics (earnings per capita, </a:t>
            </a:r>
            <a:r>
              <a:rPr b="1" lang="en-US" sz="1600" spc="-1" strike="noStrike" u="sng">
                <a:solidFill>
                  <a:srgbClr val="0066cc"/>
                </a:solidFill>
                <a:uFillTx/>
                <a:latin typeface="Arial"/>
              </a:rPr>
              <a:t>mercury supply, use and demand, gold trade and ex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4. Mining (ore bodies, processed used, </a:t>
            </a:r>
            <a:r>
              <a:rPr b="0" i="1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number of people directly/indirectly involved - gender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and ag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5. Environment ( environmental destruction, contaminated sites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mercury releases in soil, air and wat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6.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Health information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(impacts, mercury </a:t>
            </a:r>
            <a:r>
              <a:rPr b="0" i="1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exposure through various medi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7. </a:t>
            </a:r>
            <a:r>
              <a:rPr b="1" lang="en-US" sz="1600" spc="-1" strike="noStrike" u="sng">
                <a:solidFill>
                  <a:srgbClr val="663300"/>
                </a:solidFill>
                <a:uFillTx/>
                <a:latin typeface="Arial"/>
              </a:rPr>
              <a:t>Leadership &amp; organization (national &amp; local lev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8. Innovative 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6320" y="990720"/>
            <a:ext cx="3809880" cy="5715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 Título"/>
          <p:cNvSpPr/>
          <p:nvPr/>
        </p:nvSpPr>
        <p:spPr>
          <a:xfrm>
            <a:off x="4038480" y="304920"/>
            <a:ext cx="5029200" cy="533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Minamata Convention on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172200" y="1828800"/>
            <a:ext cx="2819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4191120" y="990720"/>
            <a:ext cx="4724280" cy="5715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191120" y="1143000"/>
            <a:ext cx="487656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Steps to facilitate formalization or regulation (c)</a:t>
            </a:r>
            <a:br>
              <a:rPr sz="1600"/>
            </a:br>
            <a:r>
              <a:rPr b="1" lang="en-GB" sz="1600" spc="-1" strike="noStrike">
                <a:solidFill>
                  <a:srgbClr val="0066cc"/>
                </a:solidFill>
                <a:latin typeface="Arial"/>
              </a:rPr>
              <a:t>Baseline estimates (d)</a:t>
            </a:r>
            <a:br>
              <a:rPr sz="1600"/>
            </a:br>
            <a:r>
              <a:rPr b="0" i="1" lang="en-GB" sz="1600" spc="-1" strike="noStrike">
                <a:solidFill>
                  <a:srgbClr val="009900"/>
                </a:solidFill>
                <a:latin typeface="Arial"/>
              </a:rPr>
              <a:t>Strategies</a:t>
            </a:r>
            <a:br>
              <a:rPr sz="1600"/>
            </a:b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Promote reduction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emissions &amp; releases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of, exposure (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Manage </a:t>
            </a:r>
            <a:r>
              <a:rPr b="1" lang="en-GB" sz="1600" spc="-1" strike="noStrike" u="sng">
                <a:solidFill>
                  <a:srgbClr val="0066cc"/>
                </a:solidFill>
                <a:uFillTx/>
                <a:latin typeface="Arial"/>
              </a:rPr>
              <a:t>trade &amp; preventing diversion Hg &amp; Hg compounds from both foreign and domestic sources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(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600" spc="-1" strike="noStrike" u="sng">
                <a:solidFill>
                  <a:srgbClr val="663300"/>
                </a:solidFill>
                <a:uFillTx/>
                <a:latin typeface="Arial"/>
              </a:rPr>
              <a:t>Involve stakeholders implementation &amp; continuing development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of the national action plan 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Public 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</a:rPr>
              <a:t>health strategy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on the exposure of ASGM  miners and their communities (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Prevent </a:t>
            </a:r>
            <a:r>
              <a:rPr b="0" i="1" lang="en-GB" sz="1600" spc="-1" strike="noStrike" u="sng">
                <a:solidFill>
                  <a:srgbClr val="cc0099"/>
                </a:solidFill>
                <a:uFillTx/>
                <a:latin typeface="Arial"/>
              </a:rPr>
              <a:t>exposure of vulnerable populations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Provide </a:t>
            </a:r>
            <a:r>
              <a:rPr b="0" i="1" lang="en-GB" sz="1600" spc="-1" strike="noStrike" u="sng">
                <a:solidFill>
                  <a:srgbClr val="cc0099"/>
                </a:solidFill>
                <a:uFillTx/>
                <a:latin typeface="Arial"/>
              </a:rPr>
              <a:t>information to ASGM miners and affected communities</a:t>
            </a:r>
            <a:r>
              <a:rPr b="0" lang="en-GB" sz="1600" spc="-1" strike="noStrike">
                <a:solidFill>
                  <a:srgbClr val="009900"/>
                </a:solidFill>
                <a:latin typeface="Arial"/>
              </a:rPr>
              <a:t> (j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90A3-B8DA-4F68-A138-82F820F601B9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In the way t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images (9)"/>
          <p:cNvPicPr/>
          <p:nvPr/>
        </p:nvPicPr>
        <p:blipFill>
          <a:blip r:embed="rId1"/>
          <a:stretch/>
        </p:blipFill>
        <p:spPr>
          <a:xfrm>
            <a:off x="1600200" y="1339920"/>
            <a:ext cx="7162920" cy="53658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11430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7299000" y="5637240"/>
            <a:ext cx="1346760" cy="91692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27960" y="4114800"/>
            <a:ext cx="1649880" cy="916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amata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ntion 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 flipV="1" rot="12752400">
            <a:off x="5514120" y="4418640"/>
            <a:ext cx="2257560" cy="731880"/>
          </a:xfrm>
          <a:custGeom>
            <a:avLst/>
            <a:gdLst>
              <a:gd name="textAreaLeft" fmla="*/ 394920 w 2257560"/>
              <a:gd name="textAreaRight" fmla="*/ 1636920 w 22575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 rot="18385800">
            <a:off x="2490840" y="2109960"/>
            <a:ext cx="2573280" cy="1589040"/>
          </a:xfrm>
          <a:custGeom>
            <a:avLst/>
            <a:gdLst>
              <a:gd name="textAreaLeft" fmla="*/ 450360 w 2573280"/>
              <a:gd name="textAreaRight" fmla="*/ 1865880 w 2573280"/>
              <a:gd name="textAreaTop" fmla="*/ 212760 h 1589040"/>
              <a:gd name="textAreaBottom" fmla="*/ 1376280 h 1589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343400" y="19051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alibri"/>
              </a:rPr>
              <a:t>A travel of success!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Calibri"/>
              </a:rPr>
              <a:t>and a way to achieve the expected result !</a:t>
            </a: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4724280" y="5562720"/>
            <a:ext cx="1447920" cy="9144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410080" y="5257800"/>
            <a:ext cx="1600200" cy="1066680"/>
          </a:xfrm>
          <a:prstGeom prst="line">
            <a:avLst/>
          </a:prstGeom>
          <a:ln w="2030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674C-64CD-4163-9D76-F5AB0FA04C2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In the way to… </a:t>
            </a: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national action plans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12" descr="images (9)"/>
          <p:cNvPicPr/>
          <p:nvPr/>
        </p:nvPicPr>
        <p:blipFill>
          <a:blip r:embed="rId1"/>
          <a:stretch/>
        </p:blipFill>
        <p:spPr>
          <a:xfrm>
            <a:off x="1371600" y="1295280"/>
            <a:ext cx="7162920" cy="536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5"/>
          <p:cNvSpPr/>
          <p:nvPr/>
        </p:nvSpPr>
        <p:spPr>
          <a:xfrm>
            <a:off x="5353200" y="5600880"/>
            <a:ext cx="369216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1: Establishing a coordina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95400" y="4800600"/>
            <a:ext cx="407304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2: Gathering baseline inform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developing the nation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99840" y="4038480"/>
            <a:ext cx="388404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3: Setting a goal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80680" y="3429000"/>
            <a:ext cx="503928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4: Formulating the implement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1618200" y="2438280"/>
            <a:ext cx="326232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5: Evalu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4391280" y="1676520"/>
            <a:ext cx="4656600" cy="368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6: Endorsing the national strategic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1"/>
          <p:cNvSpPr/>
          <p:nvPr/>
        </p:nvSpPr>
        <p:spPr>
          <a:xfrm flipV="1" rot="13503600">
            <a:off x="5487120" y="3123360"/>
            <a:ext cx="1209240" cy="601560"/>
          </a:xfrm>
          <a:custGeom>
            <a:avLst/>
            <a:gdLst>
              <a:gd name="textAreaLeft" fmla="*/ 211680 w 1209240"/>
              <a:gd name="textAreaRight" fmla="*/ 876960 w 1209240"/>
              <a:gd name="textAreaTop" fmla="*/ 80640 h 601560"/>
              <a:gd name="textAreaBottom" fmla="*/ 520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4"/>
          <p:cNvSpPr/>
          <p:nvPr/>
        </p:nvSpPr>
        <p:spPr>
          <a:xfrm rot="19117800">
            <a:off x="75960" y="2354400"/>
            <a:ext cx="1447560" cy="84600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113040 h 846000"/>
              <a:gd name="textAreaBottom" fmla="*/ 7329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5"/>
          <p:cNvSpPr/>
          <p:nvPr/>
        </p:nvSpPr>
        <p:spPr>
          <a:xfrm flipV="1" rot="20889600">
            <a:off x="4952520" y="2217600"/>
            <a:ext cx="1285920" cy="373320"/>
          </a:xfrm>
          <a:custGeom>
            <a:avLst/>
            <a:gdLst>
              <a:gd name="textAreaLeft" fmla="*/ 225000 w 1285920"/>
              <a:gd name="textAreaRight" fmla="*/ 932400 w 1285920"/>
              <a:gd name="textAreaTop" fmla="*/ 50040 h 373320"/>
              <a:gd name="textAreaBottom" fmla="*/ 323280 h 37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6"/>
          <p:cNvSpPr/>
          <p:nvPr/>
        </p:nvSpPr>
        <p:spPr>
          <a:xfrm rot="19117800">
            <a:off x="3662280" y="3930120"/>
            <a:ext cx="1524240" cy="533520"/>
          </a:xfrm>
          <a:custGeom>
            <a:avLst/>
            <a:gdLst>
              <a:gd name="textAreaLeft" fmla="*/ 235080 w 1524240"/>
              <a:gd name="textAreaRight" fmla="*/ 1136520 w 15242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2514600" y="6324480"/>
            <a:ext cx="4191120" cy="36828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al Mercury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8"/>
          <p:cNvSpPr/>
          <p:nvPr/>
        </p:nvSpPr>
        <p:spPr>
          <a:xfrm flipV="1" rot="13503600">
            <a:off x="4275360" y="4884480"/>
            <a:ext cx="1209960" cy="601560"/>
          </a:xfrm>
          <a:custGeom>
            <a:avLst/>
            <a:gdLst>
              <a:gd name="textAreaLeft" fmla="*/ 211680 w 1209960"/>
              <a:gd name="textAreaRight" fmla="*/ 877320 w 1209960"/>
              <a:gd name="textAreaTop" fmla="*/ 80640 h 601560"/>
              <a:gd name="textAreaBottom" fmla="*/ 520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9A22-FF6A-4B9F-92AC-D495391BD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7" name="Picture 12" descr="home-new-blank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8" descr="logo-unep.jpg"/>
            <p:cNvPicPr/>
            <p:nvPr/>
          </p:nvPicPr>
          <p:blipFill>
            <a:blip r:embed="rId2"/>
            <a:stretch/>
          </p:blipFill>
          <p:spPr>
            <a:xfrm>
              <a:off x="8382240" y="220680"/>
              <a:ext cx="45720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7 Rectángulo redondeado"/>
          <p:cNvSpPr/>
          <p:nvPr/>
        </p:nvSpPr>
        <p:spPr>
          <a:xfrm>
            <a:off x="3581280" y="137160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7 Rectángulo redondeado"/>
          <p:cNvSpPr/>
          <p:nvPr/>
        </p:nvSpPr>
        <p:spPr>
          <a:xfrm>
            <a:off x="2666880" y="2743200"/>
            <a:ext cx="411480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UCHAS GRACIA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 redondeado"/>
          <p:cNvSpPr/>
          <p:nvPr/>
        </p:nvSpPr>
        <p:spPr>
          <a:xfrm>
            <a:off x="2209680" y="41911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alibri"/>
              </a:rPr>
              <a:t>MERCI BEAUCOUP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1:39:49Z</dcterms:created>
  <dc:creator>JFCaicedo</dc:creator>
  <dc:description/>
  <dc:language>en-US</dc:language>
  <cp:lastModifiedBy>RLA</cp:lastModifiedBy>
  <dcterms:modified xsi:type="dcterms:W3CDTF">2013-09-03T16:41:50Z</dcterms:modified>
  <cp:revision>333</cp:revision>
  <dc:subject/>
  <dc:title>2 ASGM Global Forum</dc:title>
</cp:coreProperties>
</file>