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4FB-00EB-4F7B-A1FD-E4129441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045-8339-4327-A7BF-DC21EE5D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6EA-7511-4870-BF07-4DABF0E4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0AD-A7EE-42A5-BE6F-31556BB7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7FA-EEE3-44EE-881C-CA5F39D6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3BB-E1FF-4061-8ADF-5058CAEB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F8D-23FB-40AE-8036-B9588A6D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7F1-4799-4F09-B8BC-3658872E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29F-2921-4D23-9D7A-2AA618D1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823-D936-41A1-9161-ECB8706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C6C-5B60-42AF-8875-96C738C6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A1D-D106-4FB1-9694-22E4F764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4E6F-AE81-46ED-A55E-215418F2A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Object 7" descr=""/>
          <p:cNvPicPr/>
          <p:nvPr/>
        </p:nvPicPr>
        <p:blipFill>
          <a:blip r:embed="rId2"/>
          <a:stretch/>
        </p:blipFill>
        <p:spPr>
          <a:xfrm>
            <a:off x="6540480" y="6254640"/>
            <a:ext cx="243828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rcurypolicy.org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zeromercury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792000"/>
            <a:ext cx="8277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suring responsible management of mercury stoc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the chlor-alkali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808360"/>
            <a:ext cx="8229600" cy="28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hael Bender,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ury Policy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ercurypolicy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EP Global Mercury Chlor-alkali Partn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t Group Meeting to Identify Barriers and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nna, Aust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ne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erc34a metal picture"/>
          <p:cNvPicPr/>
          <p:nvPr/>
        </p:nvPicPr>
        <p:blipFill>
          <a:blip r:embed="rId1"/>
          <a:stretch/>
        </p:blipFill>
        <p:spPr>
          <a:xfrm>
            <a:off x="2398680" y="1600200"/>
            <a:ext cx="46814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nded in 1998, the U.S.-based NGO Mercury Policy Project work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416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policies to eliminate mercury u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mercury trade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human exposures to 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P co-coordinates the Zero Mercury Working Group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zeromercury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coalition of over 90 NGOs from 52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68360" y="5362560"/>
            <a:ext cx="38862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n Mercury Cell </a:t>
            </a:r>
            <a:r>
              <a:rPr b="0" i="1" lang="en-US" sz="2400" spc="-1" strike="noStrike">
                <a:solidFill>
                  <a:srgbClr val="898989"/>
                </a:solidFill>
                <a:latin typeface="Arial"/>
              </a:rPr>
              <a:t>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9920" y="1982880"/>
            <a:ext cx="4708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at amount, around 7,500 tonnes of Hg is located in countries with export b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3,000 tonnes of Hg remains in countries without export b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Partnership has a role to play to ensure Hg is managed in env. sound man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ercurycell"/>
          <p:cNvPicPr/>
          <p:nvPr/>
        </p:nvPicPr>
        <p:blipFill>
          <a:blip r:embed="rId1"/>
          <a:srcRect l="9378" t="0" r="9378" b="0"/>
          <a:stretch/>
        </p:blipFill>
        <p:spPr>
          <a:xfrm>
            <a:off x="5191200" y="2427120"/>
            <a:ext cx="3475080" cy="2606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260280" y="247680"/>
            <a:ext cx="859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hallenge: Managing 10,500 tonnes of mercury from the Chlor-alkali sector in an environmental sound ma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2640" y="150840"/>
            <a:ext cx="87627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: Where has the mercury gone in the p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6480"/>
            <a:ext cx="502920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closed or converted, large quantities of mercury become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ercury is often transferred to other facil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it can be sold into the global marketplace, sometimes for use in artisanal and small scale gold mining (ASG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GM is the largest airborne mercury source worldw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rcury cell plants can also pollute the local environment, as in case pictured 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4" descr="file001"/>
          <p:cNvPicPr/>
          <p:nvPr/>
        </p:nvPicPr>
        <p:blipFill>
          <a:blip r:embed="rId1"/>
          <a:stretch/>
        </p:blipFill>
        <p:spPr>
          <a:xfrm>
            <a:off x="5486400" y="1438200"/>
            <a:ext cx="3363840" cy="2844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486400" y="4419720"/>
            <a:ext cx="32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olana Vurmeta, Czech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under Convention to manage Hg from plant conversions or clo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ties have obligation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der Article 5.5(c)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port three years after treaty enters into force on number, types of facilities, amount mercury u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rticle 3, paragraph 5(b)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es that where the Party determines that “excess” mercury is available from chlor-alkali sector, </a:t>
            </a:r>
            <a:r>
              <a:rPr b="0" lang="fr-CH" sz="2700" spc="-1" strike="noStrike">
                <a:solidFill>
                  <a:srgbClr val="000000"/>
                </a:solidFill>
                <a:latin typeface="Arial"/>
              </a:rPr>
              <a:t>such mercury is disposed of in accordance with the env. sound mgt. of waste referred to in</a:t>
            </a: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 paragraph 3 (a) of Article 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700" spc="-1" strike="noStrike">
                <a:solidFill>
                  <a:srgbClr val="000000"/>
                </a:solidFill>
                <a:latin typeface="Arial"/>
                <a:ea typeface="MS PGothic"/>
              </a:rPr>
              <a:t>Parties also have reporting requirements under </a:t>
            </a:r>
            <a:r>
              <a:rPr b="1" lang="fr-CH" sz="2700" spc="-1" strike="noStrike">
                <a:solidFill>
                  <a:srgbClr val="000000"/>
                </a:solidFill>
                <a:latin typeface="Arial"/>
                <a:ea typeface="MS PGothic"/>
              </a:rPr>
              <a:t>Article 21 </a:t>
            </a:r>
            <a:r>
              <a:rPr b="0" lang="fr-CH" sz="2700" spc="-1" strike="noStrike">
                <a:solidFill>
                  <a:srgbClr val="000000"/>
                </a:solidFill>
                <a:latin typeface="Arial"/>
                <a:ea typeface="MS PGothic"/>
              </a:rPr>
              <a:t>that apply to </a:t>
            </a:r>
            <a:r>
              <a:rPr b="1" lang="fr-CH" sz="2700" spc="-1" strike="noStrike">
                <a:solidFill>
                  <a:srgbClr val="000000"/>
                </a:solidFill>
                <a:latin typeface="Arial"/>
                <a:ea typeface="MS PGothic"/>
              </a:rPr>
              <a:t>Articles 3,5,7,8,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solutions versus national approaches for Hg stocks &amp; waste mg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33080"/>
            <a:ext cx="830592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collaboration w/national governments, suggest Partnership facilitates development of plans for managing mercury from chlor-alkali sector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ther data on capacity of national infrastructure/ identify facilities that need to develop own storag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ustry responsibility includes interim storage, transportation, treatment and final dispos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ation of economies of scale for regional versus national solutions for final dispos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Plans would provide information on technical and financial assistance needed for implementation, for consideration by the COP and Secretariat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s for maintaining oversight of mercury stocks and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8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options/requirements for storage and end disposal sit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includes interim and long term (ie monitored warehouse storage, US D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, regulatory review of tech. options for stabilization, solid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costs/risks/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f long term durability testing, monitoring containment over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717480"/>
            <a:ext cx="9144000" cy="6140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11600" y="192240"/>
            <a:ext cx="89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hibit by Zero Mercury Working Group at INC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suring env. sound mgt, including preventing illegal mercury trade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6208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sure physical security of Hg stock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eptance control/certification of Hg purity before disposal (to avoid situations- like DELA pseudo Hg “waste” to Switzerland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of crash/impact, fireproof UN-approved containers to transport waste, consistent with Basel Convention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manent surveillance and electronic controls when moving Hg container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gatory chemical identity check when transferring Hg ownershi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rd keeping, reporting which includes distinguishing between Hg commodity vs. wast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requent external evaluation of Hg stocks &amp; movements; an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ublic registers to assure openness, transparenc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22:56:39Z</dcterms:created>
  <dc:creator>LaptopW2k</dc:creator>
  <dc:description/>
  <dc:language>en-US</dc:language>
  <cp:lastModifiedBy>Microsoft account</cp:lastModifiedBy>
  <dcterms:modified xsi:type="dcterms:W3CDTF">2016-06-29T09:19:23Z</dcterms:modified>
  <cp:revision>210</cp:revision>
  <dc:subject/>
  <dc:title>Halting the Use, Recycling, Trade and Release of Mercury</dc:title>
</cp:coreProperties>
</file>