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EF14-DC8B-4D4A-9ADA-955B31633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6F5B-53D6-4FF5-B7EF-7CF545C230D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C7F3-397A-43B1-8A8A-002AA65F08B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5D47-2DB4-4B67-831E-A82E2F8B0AF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28DD-6B52-4019-8B9A-E8EA5FC72EA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F6CC-0DC0-4D97-8F2D-DEE6A49E59C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7D43-4F0F-405E-A04A-168EB4221B2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FE43-2153-4E21-8048-8FC7BBD6968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251A-2335-449A-AB9E-052795B4F15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A605-38C1-426E-8599-A00828EF79D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46E3-E0B1-4DE4-93F9-994CD27DE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ACF8-E6C7-4604-B487-4A880711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EBE2-8FA1-49E0-A9F5-27F5EFCD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820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8324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820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8324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61AA-4036-4D1F-B74E-C2FC51E9E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E946-94B1-47DA-879B-4E3ED570D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9C1C-A1AF-4962-AC47-443B3CB2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2467-95CA-4600-AC6F-D6DE604F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D0F1-5CF4-4CA3-8C08-F62657C0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81DE-3256-4532-A741-C649041A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64FF-2DB8-4B4E-9851-96FF1EFD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F5F9-9F2C-4311-873E-C30EDD80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F327-E175-44DF-9709-C853558C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20BB-720C-4A74-8757-DBE13C22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ED54-E739-43B0-9108-57AD3C59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4C60-A760-407C-932F-6BD350F2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05F0-90E6-4652-B7B5-D0790DFD4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5820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8324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16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5820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8324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82EF-F138-4927-9F63-3E213E48C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D0C4-97C5-4090-B99A-72D52A70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203E-F9E7-44FC-AEEB-7EE755CC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3A7F-7DBD-47FF-BB91-0533253E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A430-80DF-47EF-A838-0BBDA831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FE59-D4DD-46B7-9F8D-29169D2D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AC23-FBD0-4F60-B4F9-8E7F324F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9B31-B55C-4270-A0B3-6D7D4075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7F20-6180-4788-8FFF-09F5005AA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9144000" cy="686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6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6600" y="66639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057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5E99-C728-49F0-8EF5-32993A83F2B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 rot="16207200">
            <a:off x="-1332360" y="247536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vision Of Early Warning And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9">
            <a:hlinkClick r:id="" action="ppaction://hlinkshowjump?jump=previousslide"/>
          </p:cNvPr>
          <p:cNvSpPr/>
          <p:nvPr/>
        </p:nvSpPr>
        <p:spPr>
          <a:xfrm>
            <a:off x="8648640" y="5638680"/>
            <a:ext cx="304920" cy="228600"/>
          </a:xfrm>
          <a:prstGeom prst="pie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10"/>
          <p:cNvGraphicFramePr/>
          <p:nvPr/>
        </p:nvGraphicFramePr>
        <p:xfrm>
          <a:off x="8016840" y="6019920"/>
          <a:ext cx="1127160" cy="80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16840" y="6019920"/>
                    <a:ext cx="112716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0B9D-98CA-4173-BDB4-C9D171DD926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8288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MODULE 10: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CIBLER UN THEME EN EVALUATION ENVIRONNEMENTALE: VULNERABILITE HUMAINE DUE AU CHANGEMENT ENVIRONMENTAL</a:t>
            </a:r>
            <a:endParaRPr b="1" lang="en-US" sz="4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A5B1-9830-49DC-93FE-1365A6D98C6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Introduction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7239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e module se focalise sur le thème de la vulnérabilité humaine. Il présente plusieurs idées discutées ici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l présente des indicateurs potentiels de la vulnérabilité humain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l utilise ces indicateurs pour montrer l’importance de mettre en place un forum de participation publique à l’EEI pour améliorer les indicateur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l démontre l’importance d’initiatives EEI basées sur la demande, pour le développement durabl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l montre l’importance de respecter les idées et cultures locales (y compris celles des défavorisés)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037E-5500-4A2D-9F8D-2CB72FC07EB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8080"/>
                </a:solidFill>
                <a:latin typeface="Arial Unicode MS"/>
                <a:ea typeface="Times New Roman"/>
              </a:rPr>
              <a:t>Concepts de vulnérabilité humaine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 constante redéfinition mais implique un progression de la vulnérabilité extreme à la sécurité extre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s communités plus vulnérables ont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s choix limités – technologie relativement faible et l’exposition à des dangers peut réduire les choi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Une capacité limitée à s’adapter aux circonstances environnementales changeantes. En réponse aux dangers, l’action est souvent d’étendre les activités ou se déplacer vers de nouvelles zones, ce qui mène à des conflits avec d’autres communautés pour l’accès aux ressource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Un pouvoir politique/social/économique limité pour se faire entendre (marginalisées dans les prises de décisions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Un contrôle limité sur leur propre destin. Dépendent fortement d’interventions externes et sont donc facilement victimisée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5DBC-33AD-43A4-9F5C-72D484467E9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Le changement environmental intensifie la vulnérabilité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Garamond-Regular"/>
                <a:ea typeface="Times New Roman"/>
              </a:rPr>
              <a:t> </a:t>
            </a:r>
            <a:r>
              <a:rPr b="1" lang="en-GB" sz="2200" spc="-1" strike="noStrike">
                <a:solidFill>
                  <a:srgbClr val="ffffff"/>
                </a:solidFill>
                <a:latin typeface="AGaramond-Regular"/>
                <a:ea typeface="Times New Roman"/>
              </a:rPr>
              <a:t>Pour les communautés</a:t>
            </a: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vulnérables, le changement environnemental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tensifie l’impact humain sur les ressources environmentales,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rée des pénuries auxquelles elles sont incapables de s’adapter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ffaiblit leur santé, du fait de l’insecurité alimentaire croissante,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mpire leur marginalisation dans la prise de décisions et d’attribution des ressources et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ugmente leur chance d’entrer en conflit, étant donné qu’ils migrent à la recherche de nouvelles ressources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ar conséquent, pour donner une alerte précoce sur les catastrophes, surtout en Afrique, il est important d’analyser la vulnérabilité humaine face au changement environnemental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7C2F-D8E9-427E-B46A-47BAECAC987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 Unicode MS"/>
                <a:ea typeface="Times New Roman"/>
              </a:rPr>
              <a:t>Analyser la vulnérabilité humaine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s liens de rétroaction existent dans la dynamique d’impacts humains sur l’environnement et doivent être pris en compte dans une analyse de la vulnérabilité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hangements environmentaux </a:t>
            </a:r>
            <a:r>
              <a:rPr b="1" lang="en-GB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impact sur le bien-être humain </a:t>
            </a:r>
            <a:r>
              <a:rPr b="1" lang="en-GB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réponse humaine ex: changement de comportement </a:t>
            </a:r>
            <a:r>
              <a:rPr b="1" lang="en-GB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amoindrissement du problème environnementa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éponse failli ou est sans effet dans des communautés plus vulnerables et le problème s</a:t>
            </a:r>
            <a:r>
              <a:rPr b="1" lang="en-US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’accentue sans intervention extérie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a communauté devient de plus en plus vulnérable à des phénomènes extremes; ex: sécheresse, inondation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ugmente l’insécurité alimentaire, la pauvreté, les pertes économiques, la mauvaise santé, les conflits potentiels, tous suggérés comme indicateurs potentiels de vulnérabilité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06B6-DEF9-4855-90F6-DD6EB317685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 Unicode MS"/>
                <a:ea typeface="Times New Roman"/>
              </a:rPr>
              <a:t>Un exemple de cadre analytique de la vulnérabilité humaine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550800" y="246528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550800" y="283068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550800" y="31939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1081080" y="31939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550800" y="35593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1081080" y="35593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550800" y="392436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550800" y="428940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550800" y="465300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550800" y="501804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5"/>
          <p:cNvSpPr/>
          <p:nvPr/>
        </p:nvSpPr>
        <p:spPr>
          <a:xfrm>
            <a:off x="1081080" y="501804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6"/>
          <p:cNvSpPr/>
          <p:nvPr/>
        </p:nvSpPr>
        <p:spPr>
          <a:xfrm>
            <a:off x="550800" y="538308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7"/>
          <p:cNvSpPr/>
          <p:nvPr/>
        </p:nvSpPr>
        <p:spPr>
          <a:xfrm>
            <a:off x="550800" y="574848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8"/>
          <p:cNvSpPr/>
          <p:nvPr/>
        </p:nvSpPr>
        <p:spPr>
          <a:xfrm>
            <a:off x="550800" y="61117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9"/>
          <p:cNvSpPr/>
          <p:nvPr/>
        </p:nvSpPr>
        <p:spPr>
          <a:xfrm>
            <a:off x="533520" y="2666880"/>
            <a:ext cx="3733560" cy="12398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act humain sur l’environnement (ex: déforestation, éros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1"/>
          <p:cNvSpPr/>
          <p:nvPr/>
        </p:nvSpPr>
        <p:spPr>
          <a:xfrm>
            <a:off x="3457440" y="282744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3201840" y="320040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4495680" y="3619440"/>
            <a:ext cx="3276720" cy="13334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ulnérabilité humaine au changement environmental (santé, pauvret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5"/>
          <p:cNvSpPr/>
          <p:nvPr/>
        </p:nvSpPr>
        <p:spPr>
          <a:xfrm>
            <a:off x="4267080" y="3657600"/>
            <a:ext cx="2440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8"/>
          <p:cNvSpPr/>
          <p:nvPr/>
        </p:nvSpPr>
        <p:spPr>
          <a:xfrm>
            <a:off x="5560920" y="445464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9"/>
          <p:cNvSpPr/>
          <p:nvPr/>
        </p:nvSpPr>
        <p:spPr>
          <a:xfrm>
            <a:off x="1325520" y="4800600"/>
            <a:ext cx="2789280" cy="12524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gagement social envers l’environnement ex: investisseme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2"/>
          <p:cNvSpPr/>
          <p:nvPr/>
        </p:nvSpPr>
        <p:spPr>
          <a:xfrm>
            <a:off x="3450960" y="531648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3"/>
          <p:cNvSpPr/>
          <p:nvPr/>
        </p:nvSpPr>
        <p:spPr>
          <a:xfrm>
            <a:off x="1252440" y="56815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4"/>
          <p:cNvSpPr/>
          <p:nvPr/>
        </p:nvSpPr>
        <p:spPr>
          <a:xfrm>
            <a:off x="4267080" y="3124080"/>
            <a:ext cx="19702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5"/>
          <p:cNvSpPr/>
          <p:nvPr/>
        </p:nvSpPr>
        <p:spPr>
          <a:xfrm>
            <a:off x="6246720" y="4952880"/>
            <a:ext cx="1800" cy="714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43"/>
          <p:cNvGrpSpPr/>
          <p:nvPr/>
        </p:nvGrpSpPr>
        <p:grpSpPr>
          <a:xfrm>
            <a:off x="4127400" y="5562720"/>
            <a:ext cx="2120400" cy="206280"/>
            <a:chOff x="4127400" y="5562720"/>
            <a:chExt cx="2120400" cy="206280"/>
          </a:xfrm>
        </p:grpSpPr>
        <p:sp>
          <p:nvSpPr>
            <p:cNvPr id="138" name="Line 41"/>
            <p:cNvSpPr/>
            <p:nvPr/>
          </p:nvSpPr>
          <p:spPr>
            <a:xfrm flipH="1">
              <a:off x="4236480" y="5664240"/>
              <a:ext cx="20113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42"/>
            <p:cNvSpPr/>
            <p:nvPr/>
          </p:nvSpPr>
          <p:spPr>
            <a:xfrm>
              <a:off x="4127400" y="5562720"/>
              <a:ext cx="114120" cy="20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46"/>
          <p:cNvGrpSpPr/>
          <p:nvPr/>
        </p:nvGrpSpPr>
        <p:grpSpPr>
          <a:xfrm>
            <a:off x="6172200" y="3124080"/>
            <a:ext cx="115920" cy="477720"/>
            <a:chOff x="6172200" y="3124080"/>
            <a:chExt cx="115920" cy="477720"/>
          </a:xfrm>
        </p:grpSpPr>
        <p:sp>
          <p:nvSpPr>
            <p:cNvPr id="141" name="Line 44"/>
            <p:cNvSpPr/>
            <p:nvPr/>
          </p:nvSpPr>
          <p:spPr>
            <a:xfrm>
              <a:off x="6229080" y="3124080"/>
              <a:ext cx="1800" cy="27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5"/>
            <p:cNvSpPr/>
            <p:nvPr/>
          </p:nvSpPr>
          <p:spPr>
            <a:xfrm>
              <a:off x="6172200" y="3392280"/>
              <a:ext cx="115920" cy="20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Line 47"/>
          <p:cNvSpPr/>
          <p:nvPr/>
        </p:nvSpPr>
        <p:spPr>
          <a:xfrm flipV="1">
            <a:off x="213372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numéro de diapositive 4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109A-0F98-48BF-8F75-1B64F7E47EA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17"/>
          <p:cNvSpPr/>
          <p:nvPr/>
        </p:nvSpPr>
        <p:spPr>
          <a:xfrm>
            <a:off x="0" y="1508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275"/>
          <p:cNvSpPr/>
          <p:nvPr/>
        </p:nvSpPr>
        <p:spPr>
          <a:xfrm>
            <a:off x="0" y="60991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276"/>
          <p:cNvSpPr/>
          <p:nvPr/>
        </p:nvSpPr>
        <p:spPr>
          <a:xfrm>
            <a:off x="914400" y="0"/>
            <a:ext cx="8991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Des indicateurs potentiels pour analyser la vulnérabilité humaine face au changement environne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1336"/>
          <p:cNvGrpSpPr/>
          <p:nvPr/>
        </p:nvGrpSpPr>
        <p:grpSpPr>
          <a:xfrm>
            <a:off x="457200" y="1143000"/>
            <a:ext cx="7467480" cy="5105520"/>
            <a:chOff x="457200" y="1143000"/>
            <a:chExt cx="7467480" cy="5105520"/>
          </a:xfrm>
        </p:grpSpPr>
        <p:grpSp>
          <p:nvGrpSpPr>
            <p:cNvPr id="149" name="Group 1283"/>
            <p:cNvGrpSpPr/>
            <p:nvPr/>
          </p:nvGrpSpPr>
          <p:grpSpPr>
            <a:xfrm>
              <a:off x="1581120" y="1147680"/>
              <a:ext cx="2354040" cy="617400"/>
              <a:chOff x="1581120" y="1147680"/>
              <a:chExt cx="2354040" cy="617400"/>
            </a:xfrm>
          </p:grpSpPr>
          <p:sp>
            <p:nvSpPr>
              <p:cNvPr id="150" name="Rectangle 1284"/>
              <p:cNvSpPr/>
              <p:nvPr/>
            </p:nvSpPr>
            <p:spPr>
              <a:xfrm>
                <a:off x="1661040" y="1147680"/>
                <a:ext cx="2194200" cy="61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Causes environmental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1285"/>
              <p:cNvSpPr/>
              <p:nvPr/>
            </p:nvSpPr>
            <p:spPr>
              <a:xfrm>
                <a:off x="1581120" y="1147680"/>
                <a:ext cx="2354040" cy="61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286"/>
            <p:cNvGrpSpPr/>
            <p:nvPr/>
          </p:nvGrpSpPr>
          <p:grpSpPr>
            <a:xfrm>
              <a:off x="3935520" y="1147680"/>
              <a:ext cx="3982680" cy="617400"/>
              <a:chOff x="3935520" y="1147680"/>
              <a:chExt cx="3982680" cy="617400"/>
            </a:xfrm>
          </p:grpSpPr>
          <p:sp>
            <p:nvSpPr>
              <p:cNvPr id="153" name="Rectangle 1287"/>
              <p:cNvSpPr/>
              <p:nvPr/>
            </p:nvSpPr>
            <p:spPr>
              <a:xfrm>
                <a:off x="4015080" y="1147680"/>
                <a:ext cx="3823200" cy="61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Exemples d’indicateur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1288"/>
              <p:cNvSpPr/>
              <p:nvPr/>
            </p:nvSpPr>
            <p:spPr>
              <a:xfrm>
                <a:off x="3935520" y="1147680"/>
                <a:ext cx="3982680" cy="61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1289"/>
            <p:cNvGrpSpPr/>
            <p:nvPr/>
          </p:nvGrpSpPr>
          <p:grpSpPr>
            <a:xfrm>
              <a:off x="539640" y="1765440"/>
              <a:ext cx="1041120" cy="617040"/>
              <a:chOff x="539640" y="1765440"/>
              <a:chExt cx="1041120" cy="617040"/>
            </a:xfrm>
          </p:grpSpPr>
          <p:sp>
            <p:nvSpPr>
              <p:cNvPr id="156" name="Rectangle 1290"/>
              <p:cNvSpPr/>
              <p:nvPr/>
            </p:nvSpPr>
            <p:spPr>
              <a:xfrm>
                <a:off x="619560" y="1765440"/>
                <a:ext cx="881280" cy="61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Santé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1291"/>
              <p:cNvSpPr/>
              <p:nvPr/>
            </p:nvSpPr>
            <p:spPr>
              <a:xfrm>
                <a:off x="539640" y="1765440"/>
                <a:ext cx="1041120" cy="617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1292"/>
            <p:cNvGrpSpPr/>
            <p:nvPr/>
          </p:nvGrpSpPr>
          <p:grpSpPr>
            <a:xfrm>
              <a:off x="1581120" y="1765440"/>
              <a:ext cx="2354040" cy="617040"/>
              <a:chOff x="1581120" y="1765440"/>
              <a:chExt cx="2354040" cy="617040"/>
            </a:xfrm>
          </p:grpSpPr>
          <p:sp>
            <p:nvSpPr>
              <p:cNvPr id="159" name="Rectangle 1293"/>
              <p:cNvSpPr/>
              <p:nvPr/>
            </p:nvSpPr>
            <p:spPr>
              <a:xfrm>
                <a:off x="1661040" y="1765440"/>
                <a:ext cx="2194200" cy="61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qualité de l’air urbain et pollution de l’eau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1294"/>
              <p:cNvSpPr/>
              <p:nvPr/>
            </p:nvSpPr>
            <p:spPr>
              <a:xfrm>
                <a:off x="1581120" y="1765440"/>
                <a:ext cx="2354040" cy="617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295"/>
            <p:cNvGrpSpPr/>
            <p:nvPr/>
          </p:nvGrpSpPr>
          <p:grpSpPr>
            <a:xfrm>
              <a:off x="3935520" y="1765440"/>
              <a:ext cx="3982680" cy="617040"/>
              <a:chOff x="3935520" y="1765440"/>
              <a:chExt cx="3982680" cy="617040"/>
            </a:xfrm>
          </p:grpSpPr>
          <p:sp>
            <p:nvSpPr>
              <p:cNvPr id="162" name="Rectangle 1296"/>
              <p:cNvSpPr/>
              <p:nvPr/>
            </p:nvSpPr>
            <p:spPr>
              <a:xfrm>
                <a:off x="4015080" y="1765440"/>
                <a:ext cx="3823200" cy="61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StoneSans"/>
                    <a:ea typeface="Arial"/>
                  </a:rPr>
                  <a:t>- Pourcentage de personnes infect</a:t>
                </a:r>
                <a:r>
                  <a:rPr b="0" lang="en-GB" sz="11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é</a:t>
                </a:r>
                <a:r>
                  <a:rPr b="0" lang="en-GB" sz="1100" spc="-1" strike="noStrike">
                    <a:solidFill>
                      <a:srgbClr val="ffffff"/>
                    </a:solidFill>
                    <a:latin typeface="StoneSans"/>
                    <a:ea typeface="Arial"/>
                  </a:rPr>
                  <a:t>es par les maladies environnemental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1297"/>
              <p:cNvSpPr/>
              <p:nvPr/>
            </p:nvSpPr>
            <p:spPr>
              <a:xfrm>
                <a:off x="3935520" y="1765440"/>
                <a:ext cx="3982680" cy="617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1298"/>
            <p:cNvGrpSpPr/>
            <p:nvPr/>
          </p:nvGrpSpPr>
          <p:grpSpPr>
            <a:xfrm>
              <a:off x="539640" y="2382840"/>
              <a:ext cx="1041120" cy="926640"/>
              <a:chOff x="539640" y="2382840"/>
              <a:chExt cx="1041120" cy="926640"/>
            </a:xfrm>
          </p:grpSpPr>
          <p:sp>
            <p:nvSpPr>
              <p:cNvPr id="165" name="Rectangle 1299"/>
              <p:cNvSpPr/>
              <p:nvPr/>
            </p:nvSpPr>
            <p:spPr>
              <a:xfrm>
                <a:off x="619560" y="2382840"/>
                <a:ext cx="88128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Pertes/gains économiqu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300"/>
              <p:cNvSpPr/>
              <p:nvPr/>
            </p:nvSpPr>
            <p:spPr>
              <a:xfrm>
                <a:off x="539640" y="2382840"/>
                <a:ext cx="104112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1301"/>
            <p:cNvGrpSpPr/>
            <p:nvPr/>
          </p:nvGrpSpPr>
          <p:grpSpPr>
            <a:xfrm>
              <a:off x="1581120" y="2382840"/>
              <a:ext cx="2354040" cy="926640"/>
              <a:chOff x="1581120" y="2382840"/>
              <a:chExt cx="2354040" cy="926640"/>
            </a:xfrm>
          </p:grpSpPr>
          <p:sp>
            <p:nvSpPr>
              <p:cNvPr id="168" name="Rectangle 1302"/>
              <p:cNvSpPr/>
              <p:nvPr/>
            </p:nvSpPr>
            <p:spPr>
              <a:xfrm>
                <a:off x="1661040" y="2382840"/>
                <a:ext cx="219420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Maladies environmental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Erosion des sol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Déforesta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303"/>
              <p:cNvSpPr/>
              <p:nvPr/>
            </p:nvSpPr>
            <p:spPr>
              <a:xfrm>
                <a:off x="1581120" y="2382840"/>
                <a:ext cx="235404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Group 1304"/>
            <p:cNvGrpSpPr/>
            <p:nvPr/>
          </p:nvGrpSpPr>
          <p:grpSpPr>
            <a:xfrm>
              <a:off x="3935520" y="2382840"/>
              <a:ext cx="3982680" cy="926640"/>
              <a:chOff x="3935520" y="2382840"/>
              <a:chExt cx="3982680" cy="926640"/>
            </a:xfrm>
          </p:grpSpPr>
          <p:sp>
            <p:nvSpPr>
              <p:cNvPr id="171" name="Rectangle 1305"/>
              <p:cNvSpPr/>
              <p:nvPr/>
            </p:nvSpPr>
            <p:spPr>
              <a:xfrm>
                <a:off x="4015080" y="2382840"/>
                <a:ext cx="382320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Arial Unicode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Heures de travail perdues à cause des maladies environnemental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Arial Unicode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 </a:t>
                </a: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Perte de productivite agricole due a l’erosion, etc. 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Reduction du rendement (ex: poissons) des eaux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1306"/>
              <p:cNvSpPr/>
              <p:nvPr/>
            </p:nvSpPr>
            <p:spPr>
              <a:xfrm>
                <a:off x="3935520" y="2382840"/>
                <a:ext cx="398268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1307"/>
            <p:cNvGrpSpPr/>
            <p:nvPr/>
          </p:nvGrpSpPr>
          <p:grpSpPr>
            <a:xfrm>
              <a:off x="539640" y="3309840"/>
              <a:ext cx="1041120" cy="771120"/>
              <a:chOff x="539640" y="3309840"/>
              <a:chExt cx="1041120" cy="771120"/>
            </a:xfrm>
          </p:grpSpPr>
          <p:sp>
            <p:nvSpPr>
              <p:cNvPr id="174" name="Rectangle 1308"/>
              <p:cNvSpPr/>
              <p:nvPr/>
            </p:nvSpPr>
            <p:spPr>
              <a:xfrm>
                <a:off x="619560" y="3309840"/>
                <a:ext cx="881280" cy="77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Pauvret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1309"/>
              <p:cNvSpPr/>
              <p:nvPr/>
            </p:nvSpPr>
            <p:spPr>
              <a:xfrm>
                <a:off x="539640" y="3309840"/>
                <a:ext cx="1041120" cy="771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1310"/>
            <p:cNvGrpSpPr/>
            <p:nvPr/>
          </p:nvGrpSpPr>
          <p:grpSpPr>
            <a:xfrm>
              <a:off x="1581120" y="3309840"/>
              <a:ext cx="2354040" cy="771120"/>
              <a:chOff x="1581120" y="3309840"/>
              <a:chExt cx="2354040" cy="771120"/>
            </a:xfrm>
          </p:grpSpPr>
          <p:sp>
            <p:nvSpPr>
              <p:cNvPr id="177" name="Rectangle 1311"/>
              <p:cNvSpPr/>
              <p:nvPr/>
            </p:nvSpPr>
            <p:spPr>
              <a:xfrm>
                <a:off x="1661040" y="3309840"/>
                <a:ext cx="2194200" cy="77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Depletion of resource base to meet the basic needs, e.g. foo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1312"/>
              <p:cNvSpPr/>
              <p:nvPr/>
            </p:nvSpPr>
            <p:spPr>
              <a:xfrm>
                <a:off x="1581120" y="3309840"/>
                <a:ext cx="2354040" cy="771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1313"/>
            <p:cNvGrpSpPr/>
            <p:nvPr/>
          </p:nvGrpSpPr>
          <p:grpSpPr>
            <a:xfrm>
              <a:off x="3935520" y="3309840"/>
              <a:ext cx="3982680" cy="771120"/>
              <a:chOff x="3935520" y="3309840"/>
              <a:chExt cx="3982680" cy="771120"/>
            </a:xfrm>
          </p:grpSpPr>
          <p:sp>
            <p:nvSpPr>
              <p:cNvPr id="180" name="Rectangle 1314"/>
              <p:cNvSpPr/>
              <p:nvPr/>
            </p:nvSpPr>
            <p:spPr>
              <a:xfrm>
                <a:off x="4015080" y="3309840"/>
                <a:ext cx="3823200" cy="77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Pourcentage de la main d’oeuvre affecte par la reduction des ressources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315"/>
              <p:cNvSpPr/>
              <p:nvPr/>
            </p:nvSpPr>
            <p:spPr>
              <a:xfrm>
                <a:off x="3935520" y="3309840"/>
                <a:ext cx="3982680" cy="771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316"/>
            <p:cNvGrpSpPr/>
            <p:nvPr/>
          </p:nvGrpSpPr>
          <p:grpSpPr>
            <a:xfrm>
              <a:off x="539640" y="4081320"/>
              <a:ext cx="1041120" cy="1234800"/>
              <a:chOff x="539640" y="4081320"/>
              <a:chExt cx="1041120" cy="1234800"/>
            </a:xfrm>
          </p:grpSpPr>
          <p:sp>
            <p:nvSpPr>
              <p:cNvPr id="183" name="Rectangle 1317"/>
              <p:cNvSpPr/>
              <p:nvPr/>
            </p:nvSpPr>
            <p:spPr>
              <a:xfrm>
                <a:off x="619560" y="4081320"/>
                <a:ext cx="881280" cy="12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Securite alimentair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318"/>
              <p:cNvSpPr/>
              <p:nvPr/>
            </p:nvSpPr>
            <p:spPr>
              <a:xfrm>
                <a:off x="539640" y="4081320"/>
                <a:ext cx="1041120" cy="1234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319"/>
            <p:cNvGrpSpPr/>
            <p:nvPr/>
          </p:nvGrpSpPr>
          <p:grpSpPr>
            <a:xfrm>
              <a:off x="1581120" y="4081320"/>
              <a:ext cx="2354040" cy="1234800"/>
              <a:chOff x="1581120" y="4081320"/>
              <a:chExt cx="2354040" cy="1234800"/>
            </a:xfrm>
          </p:grpSpPr>
          <p:sp>
            <p:nvSpPr>
              <p:cNvPr id="186" name="Rectangle 1320"/>
              <p:cNvSpPr/>
              <p:nvPr/>
            </p:nvSpPr>
            <p:spPr>
              <a:xfrm>
                <a:off x="1661040" y="4081320"/>
                <a:ext cx="2194200" cy="12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Perte de vegétat ion naturelle et de diversite biologiqu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Eros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Quantite et repartition d’eau de plui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1321"/>
              <p:cNvSpPr/>
              <p:nvPr/>
            </p:nvSpPr>
            <p:spPr>
              <a:xfrm>
                <a:off x="1581120" y="4081320"/>
                <a:ext cx="2354040" cy="1234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1322"/>
            <p:cNvGrpSpPr/>
            <p:nvPr/>
          </p:nvGrpSpPr>
          <p:grpSpPr>
            <a:xfrm>
              <a:off x="3935520" y="4081320"/>
              <a:ext cx="3982680" cy="1234800"/>
              <a:chOff x="3935520" y="4081320"/>
              <a:chExt cx="3982680" cy="1234800"/>
            </a:xfrm>
          </p:grpSpPr>
          <p:sp>
            <p:nvSpPr>
              <p:cNvPr id="189" name="Rectangle 1323"/>
              <p:cNvSpPr/>
              <p:nvPr/>
            </p:nvSpPr>
            <p:spPr>
              <a:xfrm>
                <a:off x="4015080" y="4081320"/>
                <a:ext cx="3823200" cy="12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Pourcentage de couverture vegetal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Pourcentage de personnes dependant directement des ressources terrestres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Etendue et repartition des terres degrade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Quantite et variabilite des eaux de plui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324"/>
              <p:cNvSpPr/>
              <p:nvPr/>
            </p:nvSpPr>
            <p:spPr>
              <a:xfrm>
                <a:off x="3935520" y="4081320"/>
                <a:ext cx="3982680" cy="1234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1325"/>
            <p:cNvGrpSpPr/>
            <p:nvPr/>
          </p:nvGrpSpPr>
          <p:grpSpPr>
            <a:xfrm>
              <a:off x="539640" y="5316480"/>
              <a:ext cx="1041120" cy="926640"/>
              <a:chOff x="539640" y="5316480"/>
              <a:chExt cx="1041120" cy="926640"/>
            </a:xfrm>
          </p:grpSpPr>
          <p:sp>
            <p:nvSpPr>
              <p:cNvPr id="192" name="Rectangle 1326"/>
              <p:cNvSpPr/>
              <p:nvPr/>
            </p:nvSpPr>
            <p:spPr>
              <a:xfrm>
                <a:off x="619560" y="5316480"/>
                <a:ext cx="88128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Conflit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1327"/>
              <p:cNvSpPr/>
              <p:nvPr/>
            </p:nvSpPr>
            <p:spPr>
              <a:xfrm>
                <a:off x="539640" y="5316480"/>
                <a:ext cx="104112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328"/>
            <p:cNvGrpSpPr/>
            <p:nvPr/>
          </p:nvGrpSpPr>
          <p:grpSpPr>
            <a:xfrm>
              <a:off x="1581120" y="5316480"/>
              <a:ext cx="2354040" cy="926640"/>
              <a:chOff x="1581120" y="5316480"/>
              <a:chExt cx="2354040" cy="926640"/>
            </a:xfrm>
          </p:grpSpPr>
          <p:sp>
            <p:nvSpPr>
              <p:cNvPr id="195" name="Rectangle 1329"/>
              <p:cNvSpPr/>
              <p:nvPr/>
            </p:nvSpPr>
            <p:spPr>
              <a:xfrm>
                <a:off x="1661040" y="5316480"/>
                <a:ext cx="219420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Penurie d’eau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Depletion of natural resource bas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330"/>
              <p:cNvSpPr/>
              <p:nvPr/>
            </p:nvSpPr>
            <p:spPr>
              <a:xfrm>
                <a:off x="1581120" y="5316480"/>
                <a:ext cx="235404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1331"/>
            <p:cNvGrpSpPr/>
            <p:nvPr/>
          </p:nvGrpSpPr>
          <p:grpSpPr>
            <a:xfrm>
              <a:off x="3935520" y="5316480"/>
              <a:ext cx="3982680" cy="926640"/>
              <a:chOff x="3935520" y="5316480"/>
              <a:chExt cx="3982680" cy="926640"/>
            </a:xfrm>
          </p:grpSpPr>
          <p:sp>
            <p:nvSpPr>
              <p:cNvPr id="198" name="Rectangle 1332"/>
              <p:cNvSpPr/>
              <p:nvPr/>
            </p:nvSpPr>
            <p:spPr>
              <a:xfrm>
                <a:off x="4015080" y="5316480"/>
                <a:ext cx="382320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Nombre de personnes vivant dans des zones ou l’eau est rare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Nombre de personnes dependantes des ressources vegetales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333"/>
              <p:cNvSpPr/>
              <p:nvPr/>
            </p:nvSpPr>
            <p:spPr>
              <a:xfrm>
                <a:off x="3935520" y="5316480"/>
                <a:ext cx="398268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1335"/>
            <p:cNvGrpSpPr/>
            <p:nvPr/>
          </p:nvGrpSpPr>
          <p:grpSpPr>
            <a:xfrm>
              <a:off x="457200" y="1143000"/>
              <a:ext cx="7467480" cy="5105520"/>
              <a:chOff x="457200" y="1143000"/>
              <a:chExt cx="7467480" cy="5105520"/>
            </a:xfrm>
          </p:grpSpPr>
          <p:grpSp>
            <p:nvGrpSpPr>
              <p:cNvPr id="201" name="Group 1280"/>
              <p:cNvGrpSpPr/>
              <p:nvPr/>
            </p:nvGrpSpPr>
            <p:grpSpPr>
              <a:xfrm>
                <a:off x="457200" y="1147680"/>
                <a:ext cx="1142640" cy="617400"/>
                <a:chOff x="457200" y="1147680"/>
                <a:chExt cx="1142640" cy="617400"/>
              </a:xfrm>
            </p:grpSpPr>
            <p:sp>
              <p:nvSpPr>
                <p:cNvPr id="202" name="Rectangle 1281"/>
                <p:cNvSpPr/>
                <p:nvPr/>
              </p:nvSpPr>
              <p:spPr>
                <a:xfrm>
                  <a:off x="545040" y="1147680"/>
                  <a:ext cx="967320" cy="61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Vulnérabilité hu</a:t>
                  </a: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main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Rectangle 1282"/>
                <p:cNvSpPr/>
                <p:nvPr/>
              </p:nvSpPr>
              <p:spPr>
                <a:xfrm>
                  <a:off x="457200" y="1147680"/>
                  <a:ext cx="1142640" cy="61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" name="Rectangle 1334"/>
              <p:cNvSpPr/>
              <p:nvPr/>
            </p:nvSpPr>
            <p:spPr>
              <a:xfrm>
                <a:off x="533520" y="1143000"/>
                <a:ext cx="7391160" cy="510552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3752-0E54-497E-9269-C13491CB461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Ce que les études de cas ont montré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(Voir Manuel)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7467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s études de cas parmi les communautés très vulnérables au changement environnemental ont montré que dans un effort de réduire la vulnérabilité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’EEI doit être incluse dans l’évaluation des problèmes émanants du changement environnemental. Dans certains cas (ex: Le Darfour), l’attention a été focalisée sur le conflit ethnique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Un forum de discussion sur le développement d’indicateurs et la formulation de politiques est très utile. 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05BD-D8E0-4923-B1D1-C75B5240F30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5440" y="1066320"/>
            <a:ext cx="7162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7760" indent="-233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courager l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demande par la communauté,  pour que les réformes incluent des mesures réduisant la vulnérabilité a d’énormes avanta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-233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a contribution équitable en apport d’idées, y compris par les catégories sociales négligées, ce qui promeut une participation quasi totale à la formulation de politiques 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-233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 respect des idées et de la culture locale encourage l’appropriation par la communauté des politiques formulé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</a:rPr>
              <a:t>Ce que les études de cas… (suite)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07:04:25Z</dcterms:created>
  <dc:creator>Elijah Munyao</dc:creator>
  <dc:description/>
  <dc:language>en-US</dc:language>
  <cp:lastModifiedBy>Elijah Munyao</cp:lastModifiedBy>
  <dcterms:modified xsi:type="dcterms:W3CDTF">2009-12-22T07:14:50Z</dcterms:modified>
  <cp:revision>9</cp:revision>
  <dc:subject/>
  <dc:title>   </dc:title>
</cp:coreProperties>
</file>