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A900-C45C-4A75-BC10-CB8D23B8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4121-BCFE-482B-912B-1F2DB9CA8D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5F43-E76B-46B4-B7E5-252378D48F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4969-8BC5-44BE-84AD-3651D3A297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6C3-C00B-4765-AC84-750F73A682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BCDC-1BFE-4A0D-980A-F3B3020D29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974E-AD39-4CAA-A302-7F9090B50F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728-A5EF-4076-8D56-885EA22796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9B9-6C40-4826-8211-FD8B4D79E6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C70E-48E4-475B-A787-71B114CB32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8E3-7023-43C1-9B1B-9A09739C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FD7-2F73-4921-A305-20BD193C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FBC-6904-4231-8C8F-99AFEC39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C60-9C3A-4A1C-AFC6-9D986280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F451-07C3-41ED-AF1F-A7D09E41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21EF-3522-465C-9B50-0CDA91C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648D-4392-454F-A7CA-704E759E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4DFD-0A98-4EB7-9EF4-BCBFEBED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D340-7620-40F3-99E0-E089962C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136A-9FE3-4AC7-8106-D047F57A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786B-1BDB-4845-B39E-C5ED366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22E-1B48-44E0-B6BA-992B9DD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2F76-41AA-42C7-A1DA-DF95CEE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7389-3B4B-4A17-9BED-F1FBCE8F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78EB-9836-4F4A-B78F-D67D941E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DE76-B1F6-4043-BDC6-E9557373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EF6-237E-49A6-9098-81C4F5AC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B5A-A2F1-42F8-82C4-727FA3D8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D5F-3FC1-4EED-B2E1-F2B3A2BF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77C-47E0-41DF-BC4B-FB46B6B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5E3-695C-4761-B942-E69BBC0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FE9-3A2A-47A2-B30E-454718BC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80C-B49F-4DAF-A2AD-0364E64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D83-62E4-4C59-8EF9-13D36D1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73E-72F3-48DD-878C-9B0E578A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FCFF-67DF-4E7A-A769-8698F08400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074A-50D1-4498-970A-C758AF0BCF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CIBLER UN THEME EN EVALUATION ENVIRONNEMENTALE: VULNERABILITE HUMAINE DUE AU CHANGEMENT ENVIRONMENTAL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6ACF-8019-4A58-9B5E-6CF5FACC41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se focalise sur le thème de la vulnérabilité humaine. Il présente plusieurs idées discutées 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présente des indicateurs potentiels de la vulnérabilité huma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utilise ces indicateurs pour montrer l’importance de mettre en place un forum de participation publique à l’EEI pour améliorer les indicateu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démontre l’importance d’initiatives EEI basées sur la demande, pour le développement dur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montre l’importance de respecter les idées et cultures locales (y compris celles des défavorisés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93B2-AC61-41A6-8447-F0C02227AD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Concepts de vulnérabilité humain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onstante redéfinition mais implique un progression de la vulnérabilité extreme à la sécurité 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mmunités plus vulnérables o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choix limités – technologie relativement faible et l’exposition à des dangers peut réduire les cho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capacité limitée à s’adapter aux circonstances environnementales changeantes. En réponse aux dangers, l’action est souvent d’étendre les activités ou se déplacer vers de nouvelles zones, ce qui mène à des conflits avec d’autres communautés pour l’accès aux ressour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ouvoir politique/social/économique limité pour se faire entendre (marginalisées dans les prises de décision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contrôle limité sur leur propre destin. Dépendent fortement d’interventions externes et sont donc facilement victimisé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7EAE-DA2B-4FDE-BD92-92139C56E8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Le changement environmental intensifie la vulnérabilit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Pour les communautés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vulnérables, le changement environnementa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 l’impact humain sur les ressources environmental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ée des pénuries auxquelles elles sont incapables de s’adapt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ffaiblit leur santé, du fait de l’insecurité alimentaire croissante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 leur marginalisation dans la prise de décisions et d’attribution des ressources e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eur chance d’entrer en conflit, étant donné qu’ils migrent à la recherche de nouvelles res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 conséquent, pour donner une alerte précoce sur les catastrophes, surtout en Afrique, il est important d’analyser la vulnérabilité humaine face au changement environnementa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5928-CDCE-4437-9C01-EFA4D42106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Analyser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liens de rétroaction existent dans la dynamique d’impacts humains sur l’environnement et doivent être pris en compte dans une analyse de la vulnérabilit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ments environmentaux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sur le bien-être humain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éponse humaine ex: changement de comportement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moindrissement du problème environnement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failli ou est sans effet dans des communautés plus vulnerables et le problème s</a:t>
            </a:r>
            <a:r>
              <a:rPr b="1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accentue sans intervention extérie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mmunauté devient de plus en plus vulnérable à des phénomènes extremes; ex: sécheresse, inond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’insécurité alimentaire, la pauvreté, les pertes économiques, la mauvaise santé, les conflits potentiels, tous suggérés comme indicateurs potentiels de vulnérabilité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D00A-1261-4D9C-98D7-279E125BA7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Un exemple de cadre analytique de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080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080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5080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8108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5080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8108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5080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5080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5080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5080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08108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5080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080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55080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humain sur l’environnement (ex: déforestation, é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45744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320184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nérabilité humaine au changement environmental (santé, pauvret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56092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gagement social envers l’environnement ex: investiss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125244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38" name="Line 41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>
              <a:off x="4127400" y="5562720"/>
              <a:ext cx="114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41" name="Line 44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6172200" y="3392280"/>
              <a:ext cx="11592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47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120-466F-48E5-94B0-23D44EE290E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17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75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76"/>
          <p:cNvSpPr/>
          <p:nvPr/>
        </p:nvSpPr>
        <p:spPr>
          <a:xfrm>
            <a:off x="914400" y="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es indicateurs potentiels pour analyser la vulnérabilité humaine face au changement environn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36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49" name="Group 1283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50" name="Rectangle 1284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aus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285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86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53" name="Rectangle 1287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emples d’indicateu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288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89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56" name="Rectangle 1290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nt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291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292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59" name="Rectangle 1293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lité de l’air urbain et pollution de l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94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295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62" name="Rectangle 1296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ourcentage de personnes infect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é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es par l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97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98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65" name="Rectangle 1299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s/gains économiqu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300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301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68" name="Rectangle 1302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Maladi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 des s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é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3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304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71" name="Rectangle 1305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ures de travail perdues à cause d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 de productivite agricole due a l’erosion, etc.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du rendement (ex: poissons) des eau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06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307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74" name="Rectangle 1308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auvre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09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310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77" name="Rectangle 1311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12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313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80" name="Rectangle 1314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urcentage de la main d’oeuvre affecte par la reduction des ressourc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15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316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83" name="Rectangle 1317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e alimentai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318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319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86" name="Rectangle 1320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te de vegétat ion naturelle et de diversite biologiq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repartition d’eau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21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322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89" name="Rectangle 1323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couverture vegeta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personnes dependant directement des ressources terrestr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tendue et repartition des terres degrad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variabilite des eaux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324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25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92" name="Rectangle 1326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27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328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95" name="Rectangle 1329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nurie d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30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31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98" name="Rectangle 1332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vivant dans des zones ou l’eau est ra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dependantes des ressources vegetal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33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35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201" name="Group 1280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202" name="Rectangle 1281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Vulnérabilité hu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a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82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334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22ED-86D4-4964-AA53-97B097D59F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e que les études de cas ont montr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Voir Manue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études de cas parmi les communautés très vulnérables au changement environnemental ont montré que dans un effort de réduire la vulnérabilit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EI doit être incluse dans l’évaluation des problèmes émanants du changement environnemental. Dans certains cas (ex: Le Darfour), l’attention a été focalisée sur le conflit ethniqu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forum de discussion sur le développement d’indicateurs et la formulation de politiques est très utile.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781-48CF-4DFA-B808-A835427CBDE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r 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mande par la communauté,  pour que les réformes incluent des mesures réduisant la vulnérabilité a d’énormes a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ntribution équitable en apport d’idées, y compris par les catégories sociales négligées, ce qui promeut une participation quasi totale à la formulation de politiques 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respect des idées et de la culture locale encourage l’appropriation par la communauté des politiques formul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Ce que les études de cas…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4:50Z</dcterms:modified>
  <cp:revision>9</cp:revision>
  <dc:subject/>
  <dc:title>   </dc:title>
</cp:coreProperties>
</file>