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5D63-1BF9-42FC-924B-D4A9521BF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02E4-B7C9-4B2E-9A0E-19A870E484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1CD4-67FA-43D3-B3D0-958B6F2F06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062A-7833-46ED-92A6-8BB77B9D12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9214-8788-493E-A64C-05FBDD80BF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5B35-2819-4540-9D9E-45B7A401E9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9439-B729-44E4-ADA6-9D2B270535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2C81-61D5-4884-BF50-84779FADAB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6D9A-F9CF-46F7-8706-FAABBB7B9C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C5DF-77F9-4787-AD85-BF9C69E77F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B47-06F7-4EE8-B7D8-DF5EBDC8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954-3E84-49B3-80A4-E6BF61DA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F542-9B09-4E05-8B99-94FC9CB1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672-A0D7-479C-B9D6-2C390782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F0D4-5539-48A1-B6C6-2DAC7D51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339B-BD12-4BB5-AD55-72BCAC17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2788-A603-46A4-9BCE-BB89044B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8220-13F2-4A25-9127-DE139FD0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BC66-C14D-4A7A-B60A-D80B943A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A261-47BF-4AE0-A1AF-523D565F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8142-9943-4CE6-A20B-47656A44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BAC-BCBA-4AAB-94D6-75457901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B436-8E14-4D3E-9735-9E0856B8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58B3-78D2-45DA-AC6C-CBD8B6B3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3AF7-BF1D-4535-8BF5-14A0F9CD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DA97-F1EC-4A09-8A98-57CDA2C3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09E4-B3C8-4CCF-9388-C4B6DFD0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A55-644C-4061-9FB5-0B15320A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FB31-9B6F-4454-B29A-9F5997AF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FBF-FC57-4645-B660-5245B513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CAD-9E8B-4630-8207-D251779A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38D9-564C-4A50-BCC7-BE764E14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5A09-F3F4-45C0-8B7B-EF95D4A0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F957-AE8B-4EB8-9302-23E2AC6D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DCAD-2AF6-4E1E-84C9-1670BF64C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145B-9949-45E6-8E2A-28181C236BA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prstGeom prst="pie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95E2-90DB-4767-8F8B-C4172AFD794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10: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CIBLER UN THEME EN EVALUATION ENVIRONNEMENTALE: VULNERABILITE HUMAINE DUE AU CHANGEMENT ENVIRONMENTAL</a:t>
            </a:r>
            <a:endParaRPr b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6182-3673-4186-8627-8B23EE90911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ntroductio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e module se focalise sur le thème de la vulnérabilité humaine. Il présente plusieurs idées discutées ici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présente des indicateurs potentiels de la vulnérabilité humai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utilise ces indicateurs pour montrer l’importance de mettre en place un forum de participation publique à l’EEI pour améliorer les indicateur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démontre l’importance d’initiatives EEI basées sur la demande, pour le développement durab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montre l’importance de respecter les idées et cultures locales (y compris celles des défavorisés)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986E-8B79-4187-A4B1-710F1212828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 Unicode MS"/>
                <a:ea typeface="Times New Roman"/>
              </a:rPr>
              <a:t>Concepts de vulnérabilité humain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constante redéfinition mais implique un progression de la vulnérabilité extreme à la sécurité extre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communités plus vulnérables on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 choix limités – technologie relativement faible et l’exposition à des dangers peut réduire les choi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e capacité limitée à s’adapter aux circonstances environnementales changeantes. En réponse aux dangers, l’action est souvent d’étendre les activités ou se déplacer vers de nouvelles zones, ce qui mène à des conflits avec d’autres communautés pour l’accès aux ressource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pouvoir politique/social/économique limité pour se faire entendre (marginalisées dans les prises de décision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contrôle limité sur leur propre destin. Dépendent fortement d’interventions externes et sont donc facilement victimisée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7029-C639-451A-88EC-55A964F0972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Le changement environmental intensifie la vulnérabilité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Garamond-Regular"/>
                <a:ea typeface="Times New Roman"/>
              </a:rPr>
              <a:t> </a:t>
            </a:r>
            <a:r>
              <a:rPr b="1" lang="en-GB" sz="2200" spc="-1" strike="noStrike">
                <a:solidFill>
                  <a:srgbClr val="ffffff"/>
                </a:solidFill>
                <a:latin typeface="AGaramond-Regular"/>
                <a:ea typeface="Times New Roman"/>
              </a:rPr>
              <a:t>Pour les communautés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vulnérables, le changement environnemental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nsifie l’impact humain sur les ressources environmentales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rée des pénuries auxquelles elles sont incapables de s’adapter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ffaiblit leur santé, du fait de l’insecurité alimentaire croissante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pire leur marginalisation dans la prise de décisions et d’attribution des ressources et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gmente leur chance d’entrer en conflit, étant donné qu’ils migrent à la recherche de nouvelles ressources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ar conséquent, pour donner une alerte précoce sur les catastrophes, surtout en Afrique, il est important d’analyser la vulnérabilité humaine face au changement environnemental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538B-F60B-4D09-B605-C897FDB0E06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Unicode MS"/>
                <a:ea typeface="Times New Roman"/>
              </a:rPr>
              <a:t>Analyser la vulnérabilité humain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 liens de rétroaction existent dans la dynamique d’impacts humains sur l’environnement et doivent être pris en compte dans une analyse de la vulnérabilité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hangements environmentaux </a:t>
            </a:r>
            <a:r>
              <a:rPr b="1" lang="en-GB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impact sur le bien-être humain </a:t>
            </a:r>
            <a:r>
              <a:rPr b="1" lang="en-GB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réponse humaine ex: changement de comportement </a:t>
            </a:r>
            <a:r>
              <a:rPr b="1" lang="en-GB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amoindrissement du problème environnementa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éponse failli ou est sans effet dans des communautés plus vulnerables et le problème s</a:t>
            </a:r>
            <a:r>
              <a:rPr b="1" lang="en-US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’accentue sans intervention extérie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communauté devient de plus en plus vulnérable à des phénomènes extremes; ex: sécheresse, inondation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gmente l’insécurité alimentaire, la pauvreté, les pertes économiques, la mauvaise santé, les conflits potentiels, tous suggérés comme indicateurs potentiels de vulnérabilité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6860-9988-4F8E-8408-7B6B9B7F219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Unicode MS"/>
                <a:ea typeface="Times New Roman"/>
              </a:rPr>
              <a:t>Un exemple de cadre analytique de la vulnérabilité humain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50800" y="24652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550800" y="28306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50800" y="31939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1081080" y="31939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550800" y="35593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1081080" y="35593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550800" y="392436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550800" y="42894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550800" y="46530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550800" y="50180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1081080" y="50180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550800" y="53830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550800" y="57484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550800" y="61117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533520" y="2666880"/>
            <a:ext cx="3733560" cy="12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act humain sur l’environnement (ex: déforestation, éros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3457440" y="28274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3201840" y="32004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4495680" y="3619440"/>
            <a:ext cx="3276720" cy="1333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ulnérabilité humaine au changement environmental (santé, pauvret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267080" y="3657600"/>
            <a:ext cx="244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5560920" y="44546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1325520" y="4800600"/>
            <a:ext cx="2789280" cy="1252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gagement social envers l’environnement ex: investisse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2"/>
          <p:cNvSpPr/>
          <p:nvPr/>
        </p:nvSpPr>
        <p:spPr>
          <a:xfrm>
            <a:off x="3450960" y="53164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3"/>
          <p:cNvSpPr/>
          <p:nvPr/>
        </p:nvSpPr>
        <p:spPr>
          <a:xfrm>
            <a:off x="1252440" y="56815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4"/>
          <p:cNvSpPr/>
          <p:nvPr/>
        </p:nvSpPr>
        <p:spPr>
          <a:xfrm>
            <a:off x="4267080" y="3124080"/>
            <a:ext cx="1970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5"/>
          <p:cNvSpPr/>
          <p:nvPr/>
        </p:nvSpPr>
        <p:spPr>
          <a:xfrm>
            <a:off x="6246720" y="4952880"/>
            <a:ext cx="1800" cy="714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3"/>
          <p:cNvGrpSpPr/>
          <p:nvPr/>
        </p:nvGrpSpPr>
        <p:grpSpPr>
          <a:xfrm>
            <a:off x="4127400" y="5562720"/>
            <a:ext cx="2120400" cy="206280"/>
            <a:chOff x="4127400" y="5562720"/>
            <a:chExt cx="2120400" cy="206280"/>
          </a:xfrm>
        </p:grpSpPr>
        <p:sp>
          <p:nvSpPr>
            <p:cNvPr id="138" name="Line 41"/>
            <p:cNvSpPr/>
            <p:nvPr/>
          </p:nvSpPr>
          <p:spPr>
            <a:xfrm flipH="1">
              <a:off x="4236480" y="5664240"/>
              <a:ext cx="20113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2"/>
            <p:cNvSpPr/>
            <p:nvPr/>
          </p:nvSpPr>
          <p:spPr>
            <a:xfrm>
              <a:off x="4127400" y="5562720"/>
              <a:ext cx="11412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46"/>
          <p:cNvGrpSpPr/>
          <p:nvPr/>
        </p:nvGrpSpPr>
        <p:grpSpPr>
          <a:xfrm>
            <a:off x="6172200" y="3124080"/>
            <a:ext cx="115920" cy="477720"/>
            <a:chOff x="6172200" y="3124080"/>
            <a:chExt cx="115920" cy="477720"/>
          </a:xfrm>
        </p:grpSpPr>
        <p:sp>
          <p:nvSpPr>
            <p:cNvPr id="141" name="Line 44"/>
            <p:cNvSpPr/>
            <p:nvPr/>
          </p:nvSpPr>
          <p:spPr>
            <a:xfrm>
              <a:off x="6229080" y="3124080"/>
              <a:ext cx="1800" cy="27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5"/>
            <p:cNvSpPr/>
            <p:nvPr/>
          </p:nvSpPr>
          <p:spPr>
            <a:xfrm>
              <a:off x="6172200" y="3392280"/>
              <a:ext cx="115920" cy="2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Line 47"/>
          <p:cNvSpPr/>
          <p:nvPr/>
        </p:nvSpPr>
        <p:spPr>
          <a:xfrm flipV="1">
            <a:off x="21337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numéro de diapositive 4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3694-F32F-4F1A-95B6-EE9DCD600AA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17"/>
          <p:cNvSpPr/>
          <p:nvPr/>
        </p:nvSpPr>
        <p:spPr>
          <a:xfrm>
            <a:off x="0" y="1508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75"/>
          <p:cNvSpPr/>
          <p:nvPr/>
        </p:nvSpPr>
        <p:spPr>
          <a:xfrm>
            <a:off x="0" y="60991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76"/>
          <p:cNvSpPr/>
          <p:nvPr/>
        </p:nvSpPr>
        <p:spPr>
          <a:xfrm>
            <a:off x="914400" y="0"/>
            <a:ext cx="899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es indicateurs potentiels pour analyser la vulnérabilité humaine face au changement environn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336"/>
          <p:cNvGrpSpPr/>
          <p:nvPr/>
        </p:nvGrpSpPr>
        <p:grpSpPr>
          <a:xfrm>
            <a:off x="457200" y="1143000"/>
            <a:ext cx="7467480" cy="5105520"/>
            <a:chOff x="457200" y="1143000"/>
            <a:chExt cx="7467480" cy="5105520"/>
          </a:xfrm>
        </p:grpSpPr>
        <p:grpSp>
          <p:nvGrpSpPr>
            <p:cNvPr id="149" name="Group 1283"/>
            <p:cNvGrpSpPr/>
            <p:nvPr/>
          </p:nvGrpSpPr>
          <p:grpSpPr>
            <a:xfrm>
              <a:off x="1581120" y="1147680"/>
              <a:ext cx="2354040" cy="617400"/>
              <a:chOff x="1581120" y="1147680"/>
              <a:chExt cx="2354040" cy="617400"/>
            </a:xfrm>
          </p:grpSpPr>
          <p:sp>
            <p:nvSpPr>
              <p:cNvPr id="150" name="Rectangle 1284"/>
              <p:cNvSpPr/>
              <p:nvPr/>
            </p:nvSpPr>
            <p:spPr>
              <a:xfrm>
                <a:off x="1661040" y="1147680"/>
                <a:ext cx="2194200" cy="61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Causes environ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285"/>
              <p:cNvSpPr/>
              <p:nvPr/>
            </p:nvSpPr>
            <p:spPr>
              <a:xfrm>
                <a:off x="1581120" y="1147680"/>
                <a:ext cx="2354040" cy="61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286"/>
            <p:cNvGrpSpPr/>
            <p:nvPr/>
          </p:nvGrpSpPr>
          <p:grpSpPr>
            <a:xfrm>
              <a:off x="3935520" y="1147680"/>
              <a:ext cx="3982680" cy="617400"/>
              <a:chOff x="3935520" y="1147680"/>
              <a:chExt cx="3982680" cy="617400"/>
            </a:xfrm>
          </p:grpSpPr>
          <p:sp>
            <p:nvSpPr>
              <p:cNvPr id="153" name="Rectangle 1287"/>
              <p:cNvSpPr/>
              <p:nvPr/>
            </p:nvSpPr>
            <p:spPr>
              <a:xfrm>
                <a:off x="4015080" y="1147680"/>
                <a:ext cx="3823200" cy="61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Exemples d’indicateu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288"/>
              <p:cNvSpPr/>
              <p:nvPr/>
            </p:nvSpPr>
            <p:spPr>
              <a:xfrm>
                <a:off x="3935520" y="1147680"/>
                <a:ext cx="3982680" cy="61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289"/>
            <p:cNvGrpSpPr/>
            <p:nvPr/>
          </p:nvGrpSpPr>
          <p:grpSpPr>
            <a:xfrm>
              <a:off x="539640" y="1765440"/>
              <a:ext cx="1041120" cy="617040"/>
              <a:chOff x="539640" y="1765440"/>
              <a:chExt cx="1041120" cy="617040"/>
            </a:xfrm>
          </p:grpSpPr>
          <p:sp>
            <p:nvSpPr>
              <p:cNvPr id="156" name="Rectangle 1290"/>
              <p:cNvSpPr/>
              <p:nvPr/>
            </p:nvSpPr>
            <p:spPr>
              <a:xfrm>
                <a:off x="619560" y="1765440"/>
                <a:ext cx="88128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Santé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291"/>
              <p:cNvSpPr/>
              <p:nvPr/>
            </p:nvSpPr>
            <p:spPr>
              <a:xfrm>
                <a:off x="539640" y="1765440"/>
                <a:ext cx="104112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292"/>
            <p:cNvGrpSpPr/>
            <p:nvPr/>
          </p:nvGrpSpPr>
          <p:grpSpPr>
            <a:xfrm>
              <a:off x="1581120" y="1765440"/>
              <a:ext cx="2354040" cy="617040"/>
              <a:chOff x="1581120" y="1765440"/>
              <a:chExt cx="2354040" cy="617040"/>
            </a:xfrm>
          </p:grpSpPr>
          <p:sp>
            <p:nvSpPr>
              <p:cNvPr id="159" name="Rectangle 1293"/>
              <p:cNvSpPr/>
              <p:nvPr/>
            </p:nvSpPr>
            <p:spPr>
              <a:xfrm>
                <a:off x="1661040" y="1765440"/>
                <a:ext cx="219420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qualité de l’air urbain et pollution de l’ea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294"/>
              <p:cNvSpPr/>
              <p:nvPr/>
            </p:nvSpPr>
            <p:spPr>
              <a:xfrm>
                <a:off x="1581120" y="1765440"/>
                <a:ext cx="235404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295"/>
            <p:cNvGrpSpPr/>
            <p:nvPr/>
          </p:nvGrpSpPr>
          <p:grpSpPr>
            <a:xfrm>
              <a:off x="3935520" y="1765440"/>
              <a:ext cx="3982680" cy="617040"/>
              <a:chOff x="3935520" y="1765440"/>
              <a:chExt cx="3982680" cy="617040"/>
            </a:xfrm>
          </p:grpSpPr>
          <p:sp>
            <p:nvSpPr>
              <p:cNvPr id="162" name="Rectangle 1296"/>
              <p:cNvSpPr/>
              <p:nvPr/>
            </p:nvSpPr>
            <p:spPr>
              <a:xfrm>
                <a:off x="4015080" y="1765440"/>
                <a:ext cx="382320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StoneSans"/>
                    <a:ea typeface="Arial"/>
                  </a:rPr>
                  <a:t>- Pourcentage de personnes infect</a:t>
                </a:r>
                <a:r>
                  <a:rPr b="0" lang="en-GB" sz="11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é</a:t>
                </a:r>
                <a:r>
                  <a:rPr b="0" lang="en-GB" sz="1100" spc="-1" strike="noStrike">
                    <a:solidFill>
                      <a:srgbClr val="ffffff"/>
                    </a:solidFill>
                    <a:latin typeface="StoneSans"/>
                    <a:ea typeface="Arial"/>
                  </a:rPr>
                  <a:t>es par les maladies environne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297"/>
              <p:cNvSpPr/>
              <p:nvPr/>
            </p:nvSpPr>
            <p:spPr>
              <a:xfrm>
                <a:off x="3935520" y="1765440"/>
                <a:ext cx="398268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1298"/>
            <p:cNvGrpSpPr/>
            <p:nvPr/>
          </p:nvGrpSpPr>
          <p:grpSpPr>
            <a:xfrm>
              <a:off x="539640" y="2382840"/>
              <a:ext cx="1041120" cy="926640"/>
              <a:chOff x="539640" y="2382840"/>
              <a:chExt cx="1041120" cy="926640"/>
            </a:xfrm>
          </p:grpSpPr>
          <p:sp>
            <p:nvSpPr>
              <p:cNvPr id="165" name="Rectangle 1299"/>
              <p:cNvSpPr/>
              <p:nvPr/>
            </p:nvSpPr>
            <p:spPr>
              <a:xfrm>
                <a:off x="619560" y="2382840"/>
                <a:ext cx="88128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ertes/gains économiqu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300"/>
              <p:cNvSpPr/>
              <p:nvPr/>
            </p:nvSpPr>
            <p:spPr>
              <a:xfrm>
                <a:off x="539640" y="2382840"/>
                <a:ext cx="104112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301"/>
            <p:cNvGrpSpPr/>
            <p:nvPr/>
          </p:nvGrpSpPr>
          <p:grpSpPr>
            <a:xfrm>
              <a:off x="1581120" y="2382840"/>
              <a:ext cx="2354040" cy="926640"/>
              <a:chOff x="1581120" y="2382840"/>
              <a:chExt cx="2354040" cy="926640"/>
            </a:xfrm>
          </p:grpSpPr>
          <p:sp>
            <p:nvSpPr>
              <p:cNvPr id="168" name="Rectangle 1302"/>
              <p:cNvSpPr/>
              <p:nvPr/>
            </p:nvSpPr>
            <p:spPr>
              <a:xfrm>
                <a:off x="1661040" y="2382840"/>
                <a:ext cx="2194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Maladies environ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rosion des sol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éforest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303"/>
              <p:cNvSpPr/>
              <p:nvPr/>
            </p:nvSpPr>
            <p:spPr>
              <a:xfrm>
                <a:off x="1581120" y="2382840"/>
                <a:ext cx="235404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1304"/>
            <p:cNvGrpSpPr/>
            <p:nvPr/>
          </p:nvGrpSpPr>
          <p:grpSpPr>
            <a:xfrm>
              <a:off x="3935520" y="2382840"/>
              <a:ext cx="3982680" cy="926640"/>
              <a:chOff x="3935520" y="2382840"/>
              <a:chExt cx="3982680" cy="926640"/>
            </a:xfrm>
          </p:grpSpPr>
          <p:sp>
            <p:nvSpPr>
              <p:cNvPr id="171" name="Rectangle 1305"/>
              <p:cNvSpPr/>
              <p:nvPr/>
            </p:nvSpPr>
            <p:spPr>
              <a:xfrm>
                <a:off x="4015080" y="2382840"/>
                <a:ext cx="3823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Arial Unicode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Heures de travail perdues à cause des maladies environne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Arial Unicode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 </a:t>
                </a: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erte de productivite agricole due a l’erosion, etc. 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Reduction du rendement (ex: poissons) des eaux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1306"/>
              <p:cNvSpPr/>
              <p:nvPr/>
            </p:nvSpPr>
            <p:spPr>
              <a:xfrm>
                <a:off x="3935520" y="2382840"/>
                <a:ext cx="398268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307"/>
            <p:cNvGrpSpPr/>
            <p:nvPr/>
          </p:nvGrpSpPr>
          <p:grpSpPr>
            <a:xfrm>
              <a:off x="539640" y="3309840"/>
              <a:ext cx="1041120" cy="771120"/>
              <a:chOff x="539640" y="3309840"/>
              <a:chExt cx="1041120" cy="771120"/>
            </a:xfrm>
          </p:grpSpPr>
          <p:sp>
            <p:nvSpPr>
              <p:cNvPr id="174" name="Rectangle 1308"/>
              <p:cNvSpPr/>
              <p:nvPr/>
            </p:nvSpPr>
            <p:spPr>
              <a:xfrm>
                <a:off x="619560" y="3309840"/>
                <a:ext cx="88128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auvre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309"/>
              <p:cNvSpPr/>
              <p:nvPr/>
            </p:nvSpPr>
            <p:spPr>
              <a:xfrm>
                <a:off x="539640" y="3309840"/>
                <a:ext cx="104112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1310"/>
            <p:cNvGrpSpPr/>
            <p:nvPr/>
          </p:nvGrpSpPr>
          <p:grpSpPr>
            <a:xfrm>
              <a:off x="1581120" y="3309840"/>
              <a:ext cx="2354040" cy="771120"/>
              <a:chOff x="1581120" y="3309840"/>
              <a:chExt cx="2354040" cy="771120"/>
            </a:xfrm>
          </p:grpSpPr>
          <p:sp>
            <p:nvSpPr>
              <p:cNvPr id="177" name="Rectangle 1311"/>
              <p:cNvSpPr/>
              <p:nvPr/>
            </p:nvSpPr>
            <p:spPr>
              <a:xfrm>
                <a:off x="1661040" y="3309840"/>
                <a:ext cx="219420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epletion of resource base to meet the basic needs, e.g. foo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312"/>
              <p:cNvSpPr/>
              <p:nvPr/>
            </p:nvSpPr>
            <p:spPr>
              <a:xfrm>
                <a:off x="1581120" y="3309840"/>
                <a:ext cx="235404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1313"/>
            <p:cNvGrpSpPr/>
            <p:nvPr/>
          </p:nvGrpSpPr>
          <p:grpSpPr>
            <a:xfrm>
              <a:off x="3935520" y="3309840"/>
              <a:ext cx="3982680" cy="771120"/>
              <a:chOff x="3935520" y="3309840"/>
              <a:chExt cx="3982680" cy="771120"/>
            </a:xfrm>
          </p:grpSpPr>
          <p:sp>
            <p:nvSpPr>
              <p:cNvPr id="180" name="Rectangle 1314"/>
              <p:cNvSpPr/>
              <p:nvPr/>
            </p:nvSpPr>
            <p:spPr>
              <a:xfrm>
                <a:off x="4015080" y="3309840"/>
                <a:ext cx="382320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ourcentage de la main d’oeuvre affecte par la reduction des ressources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315"/>
              <p:cNvSpPr/>
              <p:nvPr/>
            </p:nvSpPr>
            <p:spPr>
              <a:xfrm>
                <a:off x="3935520" y="3309840"/>
                <a:ext cx="398268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316"/>
            <p:cNvGrpSpPr/>
            <p:nvPr/>
          </p:nvGrpSpPr>
          <p:grpSpPr>
            <a:xfrm>
              <a:off x="539640" y="4081320"/>
              <a:ext cx="1041120" cy="1234800"/>
              <a:chOff x="539640" y="4081320"/>
              <a:chExt cx="1041120" cy="1234800"/>
            </a:xfrm>
          </p:grpSpPr>
          <p:sp>
            <p:nvSpPr>
              <p:cNvPr id="183" name="Rectangle 1317"/>
              <p:cNvSpPr/>
              <p:nvPr/>
            </p:nvSpPr>
            <p:spPr>
              <a:xfrm>
                <a:off x="619560" y="4081320"/>
                <a:ext cx="88128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Securite alimentair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318"/>
              <p:cNvSpPr/>
              <p:nvPr/>
            </p:nvSpPr>
            <p:spPr>
              <a:xfrm>
                <a:off x="539640" y="4081320"/>
                <a:ext cx="104112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319"/>
            <p:cNvGrpSpPr/>
            <p:nvPr/>
          </p:nvGrpSpPr>
          <p:grpSpPr>
            <a:xfrm>
              <a:off x="1581120" y="4081320"/>
              <a:ext cx="2354040" cy="1234800"/>
              <a:chOff x="1581120" y="4081320"/>
              <a:chExt cx="2354040" cy="1234800"/>
            </a:xfrm>
          </p:grpSpPr>
          <p:sp>
            <p:nvSpPr>
              <p:cNvPr id="186" name="Rectangle 1320"/>
              <p:cNvSpPr/>
              <p:nvPr/>
            </p:nvSpPr>
            <p:spPr>
              <a:xfrm>
                <a:off x="1661040" y="4081320"/>
                <a:ext cx="219420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erte de vegétat ion naturelle et de diversite biologiqu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ros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Quantite et repartition d’eau de plui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321"/>
              <p:cNvSpPr/>
              <p:nvPr/>
            </p:nvSpPr>
            <p:spPr>
              <a:xfrm>
                <a:off x="1581120" y="4081320"/>
                <a:ext cx="235404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322"/>
            <p:cNvGrpSpPr/>
            <p:nvPr/>
          </p:nvGrpSpPr>
          <p:grpSpPr>
            <a:xfrm>
              <a:off x="3935520" y="4081320"/>
              <a:ext cx="3982680" cy="1234800"/>
              <a:chOff x="3935520" y="4081320"/>
              <a:chExt cx="3982680" cy="1234800"/>
            </a:xfrm>
          </p:grpSpPr>
          <p:sp>
            <p:nvSpPr>
              <p:cNvPr id="189" name="Rectangle 1323"/>
              <p:cNvSpPr/>
              <p:nvPr/>
            </p:nvSpPr>
            <p:spPr>
              <a:xfrm>
                <a:off x="4015080" y="4081320"/>
                <a:ext cx="382320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ourcentage de couverture vegeta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ourcentage de personnes dependant directement des ressources terrestres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tendue et repartition des terres degrade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Quantite et variabilite des eaux de plui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324"/>
              <p:cNvSpPr/>
              <p:nvPr/>
            </p:nvSpPr>
            <p:spPr>
              <a:xfrm>
                <a:off x="3935520" y="4081320"/>
                <a:ext cx="398268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325"/>
            <p:cNvGrpSpPr/>
            <p:nvPr/>
          </p:nvGrpSpPr>
          <p:grpSpPr>
            <a:xfrm>
              <a:off x="539640" y="5316480"/>
              <a:ext cx="1041120" cy="926640"/>
              <a:chOff x="539640" y="5316480"/>
              <a:chExt cx="1041120" cy="926640"/>
            </a:xfrm>
          </p:grpSpPr>
          <p:sp>
            <p:nvSpPr>
              <p:cNvPr id="192" name="Rectangle 1326"/>
              <p:cNvSpPr/>
              <p:nvPr/>
            </p:nvSpPr>
            <p:spPr>
              <a:xfrm>
                <a:off x="619560" y="5316480"/>
                <a:ext cx="88128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Confli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327"/>
              <p:cNvSpPr/>
              <p:nvPr/>
            </p:nvSpPr>
            <p:spPr>
              <a:xfrm>
                <a:off x="539640" y="5316480"/>
                <a:ext cx="104112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328"/>
            <p:cNvGrpSpPr/>
            <p:nvPr/>
          </p:nvGrpSpPr>
          <p:grpSpPr>
            <a:xfrm>
              <a:off x="1581120" y="5316480"/>
              <a:ext cx="2354040" cy="926640"/>
              <a:chOff x="1581120" y="5316480"/>
              <a:chExt cx="2354040" cy="926640"/>
            </a:xfrm>
          </p:grpSpPr>
          <p:sp>
            <p:nvSpPr>
              <p:cNvPr id="195" name="Rectangle 1329"/>
              <p:cNvSpPr/>
              <p:nvPr/>
            </p:nvSpPr>
            <p:spPr>
              <a:xfrm>
                <a:off x="1661040" y="5316480"/>
                <a:ext cx="2194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enurie d’ea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epletion of natural resource bas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330"/>
              <p:cNvSpPr/>
              <p:nvPr/>
            </p:nvSpPr>
            <p:spPr>
              <a:xfrm>
                <a:off x="1581120" y="5316480"/>
                <a:ext cx="235404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331"/>
            <p:cNvGrpSpPr/>
            <p:nvPr/>
          </p:nvGrpSpPr>
          <p:grpSpPr>
            <a:xfrm>
              <a:off x="3935520" y="5316480"/>
              <a:ext cx="3982680" cy="926640"/>
              <a:chOff x="3935520" y="5316480"/>
              <a:chExt cx="3982680" cy="926640"/>
            </a:xfrm>
          </p:grpSpPr>
          <p:sp>
            <p:nvSpPr>
              <p:cNvPr id="198" name="Rectangle 1332"/>
              <p:cNvSpPr/>
              <p:nvPr/>
            </p:nvSpPr>
            <p:spPr>
              <a:xfrm>
                <a:off x="4015080" y="5316480"/>
                <a:ext cx="3823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Nombre de personnes vivant dans des zones ou l’eau est rar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Nombre de personnes dependantes des ressources vegetales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333"/>
              <p:cNvSpPr/>
              <p:nvPr/>
            </p:nvSpPr>
            <p:spPr>
              <a:xfrm>
                <a:off x="3935520" y="5316480"/>
                <a:ext cx="398268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335"/>
            <p:cNvGrpSpPr/>
            <p:nvPr/>
          </p:nvGrpSpPr>
          <p:grpSpPr>
            <a:xfrm>
              <a:off x="457200" y="1143000"/>
              <a:ext cx="7467480" cy="5105520"/>
              <a:chOff x="457200" y="1143000"/>
              <a:chExt cx="7467480" cy="5105520"/>
            </a:xfrm>
          </p:grpSpPr>
          <p:grpSp>
            <p:nvGrpSpPr>
              <p:cNvPr id="201" name="Group 1280"/>
              <p:cNvGrpSpPr/>
              <p:nvPr/>
            </p:nvGrpSpPr>
            <p:grpSpPr>
              <a:xfrm>
                <a:off x="457200" y="1147680"/>
                <a:ext cx="1142640" cy="617400"/>
                <a:chOff x="457200" y="1147680"/>
                <a:chExt cx="1142640" cy="617400"/>
              </a:xfrm>
            </p:grpSpPr>
            <p:sp>
              <p:nvSpPr>
                <p:cNvPr id="202" name="Rectangle 1281"/>
                <p:cNvSpPr/>
                <p:nvPr/>
              </p:nvSpPr>
              <p:spPr>
                <a:xfrm>
                  <a:off x="545040" y="1147680"/>
                  <a:ext cx="967320" cy="61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Vulnérabilité hu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ma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1282"/>
                <p:cNvSpPr/>
                <p:nvPr/>
              </p:nvSpPr>
              <p:spPr>
                <a:xfrm>
                  <a:off x="457200" y="1147680"/>
                  <a:ext cx="1142640" cy="61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Rectangle 1334"/>
              <p:cNvSpPr/>
              <p:nvPr/>
            </p:nvSpPr>
            <p:spPr>
              <a:xfrm>
                <a:off x="533520" y="1143000"/>
                <a:ext cx="7391160" cy="510552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02C0-F115-4756-B5B6-945F58D5A17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Ce que les études de cas ont montré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(Voir Manuel)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études de cas parmi les communautés très vulnérables au changement environnemental ont montré que dans un effort de réduire la vulnérabilité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’EEI doit être incluse dans l’évaluation des problèmes émanants du changement environnemental. Dans certains cas (ex: Le Darfour), l’attention a été focalisée sur le conflit ethnique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forum de discussion sur le développement d’indicateurs et la formulation de politiques est très utile.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2267-B7B3-4225-8DDD-5A00BDA3273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7162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courager l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demande par la communauté,  pour que les réformes incluent des mesures réduisant la vulnérabilité a d’énormes avanta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contribution équitable en apport d’idées, y compris par les catégories sociales négligées, ce qui promeut une participation quasi totale à la formulation de politiques 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respect des idées et de la culture locale encourage l’appropriation par la communauté des politiques formulé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Ce que les études de cas… (suit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7:04:25Z</dcterms:created>
  <dc:creator>Elijah Munyao</dc:creator>
  <dc:description/>
  <dc:language>en-US</dc:language>
  <cp:lastModifiedBy>Elijah Munyao</cp:lastModifiedBy>
  <dcterms:modified xsi:type="dcterms:W3CDTF">2009-12-22T07:14:50Z</dcterms:modified>
  <cp:revision>9</cp:revision>
  <dc:subject/>
  <dc:title>   </dc:title>
</cp:coreProperties>
</file>