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49EB-E785-4990-9E94-D7DA904E7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D0D3-A3C1-41CB-AC50-00B203C8E7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9852-B015-43D5-9E79-A68B1CAFB6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A23B-EFF0-4D83-815E-850ACC5F4B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B844-823B-4C33-9685-4D3EA6B85A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468F-3879-4160-9D91-5A921D610C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4426-AB59-41B1-A09C-BDB98A8FD1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1586-9AC6-4B14-B27F-34F771DE56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DB74-C137-414D-A9D0-1C51648610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1F4-6034-48CC-9B9C-60684ACDC2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5232-1BB6-49AB-921C-E032C49EC5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A904-42CF-46B0-BCE0-CE047B0489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4857-518A-4244-972E-CB0FF8F47F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4C6D-8199-4F3A-BBC3-0EC909987C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7280-B395-4106-9166-DE1DC45E47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3704-6944-464A-A77F-D927ED8D25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BC4C-512F-4D71-BC8E-79D559A376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B0F4-0394-40F8-8DDA-A42978421F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A0B9-E0B0-4A38-B4D8-DB30A326DF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97F2-A6F0-458E-A174-51AE1AA556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6C8-4562-4D4D-BFB0-E175A52E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972-C8E1-4D12-970D-3BF3F17D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80A-1A5C-4360-BC69-423AEB51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560-55EA-4569-9D80-27133364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883-E1E0-43DD-9C6C-63FD9F05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8922-F2F9-4EA9-85C7-817945E3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281-75F9-4702-8A60-1A44B8B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4A3C-C1C4-4029-B263-06C10C12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49A2-809A-400A-9646-E31C880E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5D4B-D516-4BE0-84D2-ADFF3D8F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A146-D621-476F-B9A4-E6B51806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1C9-B222-4001-9D91-7659F4AB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497A-66FC-4EA9-A415-973AE39E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7647-D578-48C0-9F31-92991CB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3FC5-B8A4-4E72-BDA1-63EAF354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9972-5C58-4F9B-903B-E18A3379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D410-584A-4947-B600-0489D9CB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FDA-C0A0-4363-880E-78E00C64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350-DA70-4F3B-AD52-F8C32B25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5FB-E05C-45B5-818E-A8BA6C4D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328-9C9B-4D0F-AE5D-ACCF6E29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9B4-88C3-4ADB-BD0B-5DB6117C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5C2-094C-469B-98F8-43A8C4D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76C-4DA9-4B5E-9366-06D1DB7A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6146-DB3F-490F-8AA9-7FD381946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726F-C69E-430E-85C6-A39AFA4D48B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689-A201-4152-882C-7BD19BACFE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1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VISAGER LE FUTUR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2B3-EA99-4E74-BD5F-421B049C69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questions émergentes à impacts environnementaux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chauffement planétaire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mal compris durant les années 90 mais dont les impacts sont largement reconnus à présen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pagation des polluants atmosphériques– ardament débattue par quelques scientifiques dans les années 60. Son étendue et impact ont été étudiés avec succès en utilisant des informations de télédétectio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uvelles technologies pour la production agricole en plein essor durant la Révolution Verte (années 7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A5A4-32DF-4F48-809E-99614C4D12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laborer des scénarios</a:t>
            </a:r>
            <a:r>
              <a:rPr b="1" lang="en-GB" sz="34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467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Tracer des tr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jectoires environnementales possibles pour certaines questions est très incerta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On peut réduire le nombre de chemins à prendre mais les conséquences de ceci peuvent être désastreuses si l’analyse est érronné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Peuvent inclure tous les espoirs de s’ajuster au fur et à mesure que les questions environnementales prennent forme (l’approche scénari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Nous pourrions concevoir un concept d’entonoir, augmentant son diamètre au fil du temps et avec moins de scénarios extrêmes en bordure de l’entono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015E-1144-4410-B5F6-B5D0D217761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Le centre présente les scénarios les plus plausibles mais des évènements peuvent influencer la gamme de scénarios possibl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9092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38080" y="1231920"/>
            <a:ext cx="6934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2805-2448-475F-92C6-D1AFF79CAE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es questions émergentes doivent être incluses dans l’élaboration de scénarios car elles: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ttirent l’attention du public sur des questions importantes et augmentent la participation à la formulation de politiques relatives à ces ques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nt les discussions préliminaires pour formuler des politiques sur les questions, avant que celles-ci ne deviennent des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uident très tôt la recherche environnementale et le recueil des données sur les thèmes considér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AAFD-7DAE-4AE6-843C-386707F2014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forces motrices de scénarios en Afriqu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ation rapide de la pop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lonté de diversifier les activités économiques très dépendantes des ressources naturel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mélioration des niveaux sociaux de développement humain avec des revenus familiaux sta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es diverses cultures africain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’une technologie appropriée dans le processus de développ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pratiques de gestion durables pour atténuer la dégrad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vantage de participation locale, meilleure gouvernance et coopération outre frontiè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1CD2-F10F-4A49-A32C-81FEF19A08C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Pourquoi pas  une analyse des tendances ou une modélisation mathématique?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uffisants pour analyser le long terme (ex: des décennies, des générations) d’évènements environnementaux futurs car: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information est toujours insuffisante pour faire ajuster les politiques à des forces dominant la dynamique des systèmes environnementaux sur de longues périod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système environnemental, quand il est lié aux systèmes économiques, devient très complexe et succeptible de changements de comportement brutaux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futur dépend de choix humains inconnus. Ces choix humains futurs peuvent dépasser ce qui est actuellement considéré comme faisable ou acceptable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589D-DB0B-499F-A0C3-D303459B55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Dynamique d’un système environnemental: scénario général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9620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General Scenario dynamics"/>
          <p:cNvPicPr/>
          <p:nvPr/>
        </p:nvPicPr>
        <p:blipFill>
          <a:blip r:embed="rId1"/>
          <a:stretch/>
        </p:blipFill>
        <p:spPr>
          <a:xfrm>
            <a:off x="533520" y="114300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DF4C-B8DB-4AF9-920B-548187A49F3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93396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Dynamique d’un système (suit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état actuel de l’environnement résulte d’une suite d’états précédents qui ont été soumis à des pressions dive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historique nous renseigne sur la difficulté de tracer des trajectoires futures dans l’incertitude: des forces importantes peuvent avoir changé le système, par rapport à ce qui avait été envisag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s forces motrices et pressions actuelles déterminent la trajectoire du futur, mais l’état de ce futur est imprévisible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s évènements soudains et extrêmes peuvent changer le cours du développ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FCF3-2AC3-4DF9-B482-52ED695365F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Etapes importantes dans l’élaboration d’un scénario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pécifier les limites de l’analyse (géographiques, thématiques et temporel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écrire les conditions actuel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s conséquences de la situation actuelle sur le thème considér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nner des informations sur la délimitation des trajectoires de scénari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 changement pour chaque 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ttre le futur en images et donner des conclusions sur les différents résulats possibles au fil du temp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F618-248E-4FEC-8878-7E3ADC414A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valuer les options de politiques et les scénario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y a toujours plusieurs cadres alternatifs possibles mais il faut réduire les options à un nombre maîtrisab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récits qualitatifs ont l’avantage de traduire des variables non-quantifiables de scénarios en termes qualitatifs (ex: la culture, les valeurs, le comportement). Inconvénient: manque de rigueur scientifique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modèles quantitatifs sont rigoureux mais peuvent malheureusement être interprétés comme des  précisions scientif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scénarios les plus utiles combinent la narration qualitative et la modélisation quantita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8C14-D73B-4D77-B5B0-A6F7E73F676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 module se penche sur la question d’évaluation environnementale future. Il aide le lecteur à acquéri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bonne compréhension de la manière de présenter le lien entre une politique environnementale et l’aven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informations sur les raisons pour lesquelles des études de politiques environnementales futuristes sont fai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prise de conscience sur l’importance des questions émergentes pour comprendre des études d’évaluation environnementales fu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compétences en matière d’élaboration de scénario pour l’évalu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2EB5-E97E-4255-91A0-400DEDE3ED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hemins vers “l’avenir”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politiques actuelles ont une grande influence sur l’environnement futu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analyses des actions et politiques actuelles peuvent être liées à des voies environnementales envisage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l est possi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comparer les diverses voies tout en prenant en compte nos limites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sélectionner une voie en pleine connaissance de cause du risque encouru et des opportunités qu’elle présente pour notre environnement futu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 voie choisie peut être différente de celle que nous préférons, étant données diverses restrictions; ex: finances, technologie et compétences disponibles, la nécessite de créer des emplois, etc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7B7B-9239-4EF8-B95A-5F78AD5A4F4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e contexte de l’EEI, nous évaluons l’avenir lorsqu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avons une bonne connaissance de l’état de l’environnement actuel, les pressions auxquelles il fait face et apprécions l’efficacité des politiques exis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en connaissons l’historique et les raisons pour lesquelles il a évolué de la sor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comprenons les dangers auxquels il est confronté à présent et avons une vague impression qu’il pourrait se détériorer dava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AED2-4F57-45D0-AC33-E9B32103C5C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 futur pour un développement environmentalement durable (ou non durable)? Scénarios possi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le action alternative pourrait être pris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7DC1-726B-4806-A512-C1293276F87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066680" y="25146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914400" y="3124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 mesure alternative pourrait-être  prise (options pour l’action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s options futures (scénarios) pour un développement  durable (ou non durabl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s sont les mesures prises et sont-elles efficaces (répons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conséquence pour l’environnement et l’human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arrive-t-il à l’environnement et pourquoi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E5EA-E762-4D4B-BF68-26C93CA16CD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 tentant de répondre à ces questions: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Il faut également répondre à d’autres sous-entendus relativement à ce que nous savons et ce que nous voulons f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Où nos politiques actuelles nous mènent-el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Est-ce la direction que nous voulons prendr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autres politiques pourraient être plus uti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seront les conséquences de diverses politiques alternatives sur l’environnement dans le futur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es questions éclairent le processus de prise de décision sur les avantages et dangers que représentent  certaines orientations potentiellement choisies pour la formulation de politiques fu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9691-AA08-4DD8-8E05-8928F8C29A4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Pourquoi une évaluation des politiques environnementales futures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prendre conscience des conséquences d’actions et de politiques actuelles sur l’environnement dans le fut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détecter et éviter les dangers fut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laborer des stratégies proactives à utiliser pour éviter des catastrophes fu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tablir un barème pour un environnement souhaitable, par rapport auquel nous mesurerons notre performance dans l’avancement d’alternatives préfér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EDFA-E861-4530-A9DF-88D92A2286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Questions émergent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73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public et les décideurs peuvent ne pas se rendre compte de l’impact futur de certaines politiques, mais quelques scientifiques peuvent  faire des spéculations; ex: l’impact socio-économique du VIH/SI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spéculation va au delà des actions politiques actuelles. Elle est incertaine et demande beaucoup de travail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120" y="403848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5:16Z</dcterms:modified>
  <cp:revision>10</cp:revision>
  <dc:subject/>
  <dc:title>   </dc:title>
</cp:coreProperties>
</file>