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AA4B-A41F-473D-867E-E119E047C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2B99-6574-47AE-89EC-CA78A6C37D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3276-0AC2-4F37-956F-ACE0BBBEB4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64B9-32BE-4045-90E1-A88926863C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7A0E-FA49-4202-9FB7-FCEE5B4080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E607-62F4-4B88-8308-96DB19A543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476F-EF6A-4E59-B558-2B57137483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B2C7-00DB-46BD-AC57-E07FD4FBBB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5922-4762-4213-A535-900168C98D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B063-EB71-41B2-A775-651495341D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7212-84AC-4C2E-B84B-69457A695B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E835-DA9A-414D-B917-456D3D4BBF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D269-1DD7-4320-8FA1-F22ED99046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1EC2-7154-4757-AF9A-AE4F5740CA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0BED-8700-4846-AACE-C3E3C2F57C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51A7-D441-4685-8002-C778AB5391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195D-F89E-4F4F-B9D3-722F81FF6C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FA04-729C-4A06-A8D1-D80E804AEA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47CB-540E-4564-9331-119EA4F454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7FD6-9ABC-41EF-9733-F3C92E3712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909-365B-4EA1-B27A-770D3ACC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20A-2BE5-4BEA-92B6-4B311015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6F8-95CB-435A-BF09-4276588A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6FD-90C0-4B94-86EF-18DF82B2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BB34-9D1B-41D8-A352-2DEBEBE1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CA94-5005-42DC-BDF3-8C6A7463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BC68-37C0-47D0-A6DD-7E34F976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47F9-82FE-4A39-A9E4-E016F0C2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C914-2B97-474C-8258-10E2A4F0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426F-7CD7-4D8A-9086-A81F3F7D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E300-1F99-4D06-B736-C005768F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92D-3CBC-44F2-8A99-581E7430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E535-20E4-44F5-B612-927E0C8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1F3E-7651-43D5-AAEB-963C7C65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E939-D26F-45A1-BA87-8FBD2D20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779F-6CCE-4F51-818D-C28F066C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C5D8-F6A3-49FB-91DF-7125B83F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C82-EA24-420D-848F-2EDD646A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07A-50B2-477A-8BBF-E6C50195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B5B-19BB-4252-9703-930C5718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1CA-6697-4255-9F50-0035018C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DF0-9182-4D61-8A4B-E2B173F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4D7-F5FB-4185-AE3E-2263C3ED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E9F-258C-417E-97F0-D1B11179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7106-06E4-4D1A-994B-E808D4AB0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29D5-4BF4-4EA8-8F21-98AA10F06CB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2D01-5B57-4512-94CD-8DBFBBCC8D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1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VISAGER LE FUTUR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3CD7-D0E0-471E-8D57-820092AB79B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questions émergentes à impacts environnementaux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chauffement planétaire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mal compris durant les années 90 mais dont les impacts sont largement reconnus à présen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pagation des polluants atmosphériques– ardament débattue par quelques scientifiques dans les années 60. Son étendue et impact ont été étudiés avec succès en utilisant des informations de télédétection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uvelles technologies pour la production agricole en plein essor durant la Révolution Verte (années 7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595D-2994-4329-91C1-A384163FEA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laborer des scénarios</a:t>
            </a:r>
            <a:r>
              <a:rPr b="1" lang="en-GB" sz="34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467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Tracer des tr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jectoires environnementales possibles pour certaines questions est très incerta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On peut réduire le nombre de chemins à prendre mais les conséquences de ceci peuvent être désastreuses si l’analyse est érronné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Peuvent inclure tous les espoirs de s’ajuster au fur et à mesure que les questions environnementales prennent forme (l’approche scénari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Nous pourrions concevoir un concept d’entonoir, augmentant son diamètre au fil du temps et avec moins de scénarios extrêmes en bordure de l’entono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ECD-61E6-4EFE-80C8-98567C10F3A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Le centre présente les scénarios les plus plausibles mais des évènements peuvent influencer la gamme de scénarios possible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9092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838080" y="1231920"/>
            <a:ext cx="69343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CED4-BFA4-43EC-A4FE-08D3CC79FC9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es questions émergentes doivent être incluses dans l’élaboration de scénarios car elles: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ttirent l’attention du public sur des questions importantes et augmentent la participation à la formulation de politiques relatives à ces ques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nt les discussions préliminaires pour formuler des politiques sur les questions, avant que celles-ci ne deviennent des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uident très tôt la recherche environnementale et le recueil des données sur les thèmes considér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D477-E4E4-4E48-B259-096FF56FB90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forces motrices de scénarios en Afriqu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ation rapide de la pop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lonté de diversifier les activités économiques très dépendantes des ressources naturel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mélioration des niveaux sociaux de développement humain avec des revenus familiaux sta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es diverses cultures africain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’une technologie appropriée dans le processus de développ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pratiques de gestion durables pour atténuer la dégrad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vantage de participation locale, meilleure gouvernance et coopération outre frontiè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A022-8B9C-4394-A787-9F2EC5AB360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Pourquoi pas  une analyse des tendances ou une modélisation mathématique?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suffisants pour analyser le long terme (ex: des décennies, des générations) d’évènements environnementaux futurs car: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information est toujours insuffisante pour faire ajuster les politiques à des forces dominant la dynamique des systèmes environnementaux sur de longues périod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système environnemental, quand il est lié aux systèmes économiques, devient très complexe et succeptible de changements de comportement brutaux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futur dépend de choix humains inconnus. Ces choix humains futurs peuvent dépasser ce qui est actuellement considéré comme faisable ou acceptable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56F8-1DE1-4DF4-A10A-B2A8058C8FA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Dynamique d’un système environnemental: scénario général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9620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General Scenario dynamics"/>
          <p:cNvPicPr/>
          <p:nvPr/>
        </p:nvPicPr>
        <p:blipFill>
          <a:blip r:embed="rId1"/>
          <a:stretch/>
        </p:blipFill>
        <p:spPr>
          <a:xfrm>
            <a:off x="533520" y="1143000"/>
            <a:ext cx="739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B997-B787-40DF-BAEB-D4C5162ABE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93396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Dynamique d’un système (suit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état actuel de l’environnement résulte d’une suite d’états précédents qui ont été soumis à des pressions dive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historique nous renseigne sur la difficulté de tracer des trajectoires futures dans l’incertitude: des forces importantes peuvent avoir changé le système, par rapport à ce qui avait été envisag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s forces motrices et pressions actuelles déterminent la trajectoire du futur, mais l’état de ce futur est imprévisible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s évènements soudains et extrêmes peuvent changer le cours du développ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1078-D426-4014-9F77-084F2D6F8E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Etapes importantes dans l’élaboration d’un scénario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pécifier les limites de l’analyse (géographiques, thématiques et temporel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écrire les conditions actuel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s conséquences de la situation actuelle sur le thème considér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nner des informations sur la délimitation des trajectoires de scénari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 changement pour chaque o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ttre le futur en images et donner des conclusions sur les différents résulats possibles au fil du temp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2F40-B564-484D-9199-461481D52E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valuer les options de politiques et les scénario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y a toujours plusieurs cadres alternatifs possibles mais il faut réduire les options à un nombre maîtrisab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récits qualitatifs ont l’avantage de traduire des variables non-quantifiables de scénarios en termes qualitatifs (ex: la culture, les valeurs, le comportement). Inconvénient: manque de rigueur scientifique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modèles quantitatifs sont rigoureux mais peuvent malheureusement être interprétés comme des  précisions scientif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scénarios les plus utiles combinent la narration qualitative et la modélisation quantita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C83B-D21C-461E-A17A-56FEBA6DBA6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e module se penche sur la question d’évaluation environnementale future. Il aide le lecteur à acquéri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bonne compréhension de la manière de présenter le lien entre une politique environnementale et l’aven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informations sur les raisons pour lesquelles des études de politiques environnementales futuristes sont fai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prise de conscience sur l’importance des questions émergentes pour comprendre des études d’évaluation environnementales fu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compétences en matière d’élaboration de scénario pour l’évalu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89DB-8597-4794-A8C2-6A7FF56F4CE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hemins vers “l’avenir”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politiques actuelles ont une grande influence sur l’environnement futu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analyses des actions et politiques actuelles peuvent être liées à des voies environnementales envisage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l est possib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comparer les diverses voies tout en prenant en compte nos limites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sélectionner une voie en pleine connaissance de cause du risque encouru et des opportunités qu’elle présente pour notre environnement futu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 voie choisie peut être différente de celle que nous préférons, étant données diverses restrictions; ex: finances, technologie et compétences disponibles, la nécessite de créer des emplois, etc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F30C-1054-4A3A-AE8E-3DCF86CB94E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e contexte de l’EEI, nous évaluons l’avenir lorsqu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avons une bonne connaissance de l’état de l’environnement actuel, les pressions auxquelles il fait face et apprécions l’efficacité des politiques exis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en connaissons l’historique et les raisons pour lesquelles il a évolué de la sort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comprenons les dangers auxquels il est confronté à présent et avons une vague impression qu’il pourrait se détériorer dava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FD6F-56E1-4A9D-9909-D30C55E20A9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 futur pour un développement environmentalement durable (ou non durable)? Scénarios possi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le action alternative pourrait être pris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2AB7-A1B4-42A1-A76B-87E7925CEE8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066680" y="25146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914400" y="3124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 mesure alternative pourrait-être  prise (options pour l’action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s options futures (scénarios) pour un développement  durable (ou non durabl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s sont les mesures prises et sont-elles efficaces (répons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conséquence pour l’environnement et l’human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arrive-t-il à l’environnement et pourquoi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8917-3B1A-4F5D-A303-EC9469D3015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 tentant de répondre à ces questions: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Il faut également répondre à d’autres sous-entendus relativement à ce que nous savons et ce que nous voulons f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Où nos politiques actuelles nous mènent-el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Est-ce la direction que nous voulons prendr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autres politiques pourraient être plus uti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seront les conséquences de diverses politiques alternatives sur l’environnement dans le futur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es questions éclairent le processus de prise de décision sur les avantages et dangers que représentent  certaines orientations potentiellement choisies pour la formulation de politiques fu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356D-8ABF-4970-92F4-9C3443521E7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Pourquoi une évaluation des politiques environnementales futures?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prendre conscience des conséquences d’actions et de politiques actuelles sur l’environnement dans le fut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détecter et éviter les dangers fut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laborer des stratégies proactives à utiliser pour éviter des catastrophes fu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tablir un barème pour un environnement souhaitable, par rapport auquel nous mesurerons notre performance dans l’avancement d’alternatives préfér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6D0F-815A-4027-BA6A-BE721BAA24A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Questions émergent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73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public et les décideurs peuvent ne pas se rendre compte de l’impact futur de certaines politiques, mais quelques scientifiques peuvent  faire des spéculations; ex: l’impact socio-économique du VIH/SI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spéculation va au delà des actions politiques actuelles. Elle est incertaine et demande beaucoup de travail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120" y="403848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5:16Z</dcterms:modified>
  <cp:revision>10</cp:revision>
  <dc:subject/>
  <dc:title>   </dc:title>
</cp:coreProperties>
</file>