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8A07-45C9-48DC-999E-2F295B04B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853A-AEC1-4154-B022-2EFD09A6A2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0F7D-F985-4E05-B3E5-2A50B6C04A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7FA6-E0CA-43D5-9126-5B772BDF82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A750-7E7E-41CF-A215-2CC382281C0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F7D3-7429-4BF5-B57B-7FD4ED6D31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24DB-7C39-4883-870B-F0007F8729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516B-A9BE-4670-8360-F80321CA51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F9C6-6F61-48C3-93C1-A6E45B5583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5A5F-F7B4-439E-A601-85D5FDBE5D6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5E73-FDE8-4FC4-852E-0C101B9B1A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7736-27F1-43AD-83CA-4C4DDF4F21C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21C2-8B04-46F1-8E98-841D0193FD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ADE4-F3AC-4428-A62E-A9D9E0E0B9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F951-3AFC-4A69-AA78-A910E88E4A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75D5-436E-4B18-B976-8BEB7775AA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3883-5E8C-49D1-8506-9ACAF94542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C38D-48B0-4AC9-9C5C-A89D12516B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6FC4-672F-4EFD-9F72-27D30BC79B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17AA-7DA3-404B-A9F6-F15ECD2324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589-64AD-4796-87DB-159E57DC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8DA-2CCD-437E-B127-9AED9930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FE89-7EA2-4E6C-AA00-D644ED4B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C05-BB82-460C-BEA9-995FA870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1C98-516F-491A-8765-15413C89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3EB8-44A6-49D9-B8B9-5E2084E3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A126-C17B-4FE5-8F5D-F53A9C08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DC2A-9E36-47AE-A6E3-CA00765E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0A85-90BB-4C55-88C3-05E87259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4420-DDBA-45FA-B4D8-54EC82A7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9D20-C27A-4675-8561-A1A47157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643-80FB-4775-80B9-E68EBA3E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25BC-6C31-411B-AED8-F673C241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0D35-9B99-4CDF-8C34-BDA322C3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7F74-A651-4FB6-A294-1A6F63AE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D5C8-438E-4088-AC1D-7021030C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3337-87C9-4089-BF54-092CF308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798-3A0E-47C4-BE85-AFF16896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4342-BC29-4F56-86FA-E53C43CA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E06A-BD13-4D2B-A8F5-FF40FD55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362-33E2-4FCF-AD8E-627CB38D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CD17-BFA7-436A-8E82-BF9C86CA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79B-3172-4161-B023-ACD9F5C9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830-635E-4762-ACA8-1BBA1F44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6E17-0230-4EED-996E-A20BF68B4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5B0D-8226-47DE-885B-5D483E43E7F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prstGeom prst="pie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3FE8-82D4-4368-8F0A-4A14E2B5E1B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828800"/>
            <a:ext cx="761976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11: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ENVISAGER LE FUTUR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F3AE-602A-4609-B953-4C88A87CAB9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Quelques questions émergentes à impacts environnementaux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238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échauffement planétaire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– mal compris durant les années 90 mais dont les impacts sont largement reconnus à présen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pagation des polluants atmosphériques– ardament débattue par quelques scientifiques dans les années 60. Son étendue et impact ont été étudiés avec succès en utilisant des informations de télédétection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uvelles technologies pour la production agricole en plein essor durant la Révolution Verte (années 70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1310-490F-4AFB-BF67-AAA92149237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Elaborer des scénarios</a:t>
            </a:r>
            <a:r>
              <a:rPr b="1" lang="en-GB" sz="34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467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Tracer des tr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jectoires environnementales possibles pour certaines questions est très incerta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On peut réduire le nombre de chemins à prendre mais les conséquences de ceci peuvent être désastreuses si l’analyse est érronné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Peuvent inclure tous les espoirs de s’ajuster au fur et à mesure que les questions environnementales prennent forme (l’approche scénario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Nous pourrions concevoir un concept d’entonoir, augmentant son diamètre au fil du temps et avec moins de scénarios extrêmes en bordure de l’entonoi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88B2-F5AF-4F22-912E-89204CE13AF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Le centre présente les scénarios les plus plausibles mais des évènements peuvent influencer la gamme de scénarios possibles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59092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838080" y="1231920"/>
            <a:ext cx="69343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9534-E4D7-4D21-9FDF-ACEB141C4CF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Les questions émergentes doivent être incluses dans l’élaboration de scénarios car elles:</a:t>
            </a:r>
            <a:endParaRPr b="1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ttirent l’attention du public sur des questions importantes et augmentent la participation à la formulation de politiques relatives à ces ques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couragent les discussions préliminaires pour formuler des politiques sur les questions, avant que celles-ci ne deviennent des cri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uident très tôt la recherche environnementale et le recueil des données sur les thèmes considér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DA78-E3FD-4BA4-8944-528600F4F36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Arial"/>
                <a:ea typeface="Times New Roman"/>
              </a:rPr>
              <a:t>Quelques forces motrices de scénarios en Afriqu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gmentation rapide de la popu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olonté de diversifier les activités économiques très dépendantes des ressources naturel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mélioration des niveaux sociaux de développement humain avec des revenus familiaux stab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égration effective des diverses cultures africain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tégration effective d’une technologie appropriée dans le processus de développ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 pratiques de gestion durables pour atténuer la dégradation environnement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avantage de participation locale, meilleure gouvernance et coopération outre frontiè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73E8-9645-40EB-B07E-967638D6F06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Pourquoi pas  une analyse des tendances ou une modélisation mathématique? 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4678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suffisants pour analyser le long terme (ex: des décennies, des générations) d’évènements environnementaux futurs car: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’information est toujours insuffisante pour faire ajuster les politiques à des forces dominant la dynamique des systèmes environnementaux sur de longues période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système environnemental, quand il est lié aux systèmes économiques, devient très complexe et succeptible de changements de comportement brutaux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futur dépend de choix humains inconnus. Ces choix humains futurs peuvent dépasser ce qui est actuellement considéré comme faisable ou acceptable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numéro de diapositive 4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9F2A-9BD7-40CE-AEFD-CF158F4AE45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Dynamique d’un système environnemental: scénario général</a:t>
            </a:r>
            <a:endParaRPr b="1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9620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General Scenario dynamics"/>
          <p:cNvPicPr/>
          <p:nvPr/>
        </p:nvPicPr>
        <p:blipFill>
          <a:blip r:embed="rId1"/>
          <a:stretch/>
        </p:blipFill>
        <p:spPr>
          <a:xfrm>
            <a:off x="533520" y="1143000"/>
            <a:ext cx="7391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D374-F56E-4E1F-B48C-A320C99C2E7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6933960" cy="75960"/>
          </a:xfrm>
          <a:prstGeom prst="rect">
            <a:avLst/>
          </a:prstGeom>
          <a:noFill/>
          <a:ln w="0">
            <a:noFill/>
          </a:ln>
        </p:spPr>
        <p:txBody>
          <a:bodyPr tIns="30240" bIns="302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83808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8080"/>
                </a:solidFill>
                <a:latin typeface="Arial"/>
                <a:ea typeface="Times New Roman"/>
              </a:rPr>
              <a:t>Dynamique d’un système (suite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’état actuel de l’environnement résulte d’une suite d’états précédents qui ont été soumis à des pressions diver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’historique nous renseigne sur la difficulté de tracer des trajectoires futures dans l’incertitude: des forces importantes peuvent avoir changé le système, par rapport à ce qui avait été envisag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es forces motrices et pressions actuelles déterminent la trajectoire du futur, mais l’état de ce futur est imprévisible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s évènements soudains et extrêmes peuvent changer le cours du développ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5A7C-27F0-4829-AEF7-F156209EE3C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Etapes importantes dans l’élaboration d’un scénario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pécifier les limites de l’analyse (géographiques, thématiques et temporell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écrire les conditions actuel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imer les conséquences de la situation actuelle sur le thème considér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onner des informations sur la délimitation des trajectoires de scénari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imer le changement pour chaque o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ettre le futur en images et donner des conclusions sur les différents résulats possibles au fil du temp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132C-95B2-412D-8CF2-E9D880B438B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valuer les options de politiques et les scénario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467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l y a toujours plusieurs cadres alternatifs possibles mais il faut réduire les options à un nombre maîtrisab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récits qualitatifs ont l’avantage de traduire des variables non-quantifiables de scénarios en termes qualitatifs (ex: la culture, les valeurs, le comportement). Inconvénient: manque de rigueur scientifique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modèles quantitatifs sont rigoureux mais peuvent malheureusement être interprétés comme des  précisions scientifiq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scénarios les plus utiles combinent la narration qualitative et la modélisation quantita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27C8-AF77-4B66-AFD3-F8F8792AC61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Introduction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e module se penche sur la question d’évaluation environnementale future. Il aide le lecteur à acquéri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e bonne compréhension de la manière de présenter le lien entre une politique environnementale et l’aveni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s informations sur les raisons pour lesquelles des études de politiques environnementales futuristes sont fai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e prise de conscience sur l’importance des questions émergentes pour comprendre des études d’évaluation environnementales fu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s compétences en matière d’élaboration de scénario pour l’évaluation environnement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B0D8-4642-47A0-8478-DC882257B19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933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Chemins vers “l’avenir”</a:t>
            </a:r>
            <a:endParaRPr b="1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es politiques actuelles ont une grande influence sur l’environnement futu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es analyses des actions et politiques actuelles peuvent être liées à des voies environnementales envisageab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l est possibl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comparer les diverses voies tout en prenant en compte nos limites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sélectionner une voie en pleine connaissance de cause du risque encouru et des opportunités qu’elle présente pour notre environnement futur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a voie choisie peut être différente de celle que nous préférons, étant données diverses restrictions; ex: finances, technologie et compétences disponibles, la nécessite de créer des emplois, etc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5C6F-26F2-47A0-A2FB-213669A433B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’”avenir” dans l’EEI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ns le contexte de l’EEI, nous évaluons l’avenir lorsque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us avons une bonne connaissance de l’état de l’environnement actuel, les pressions auxquelles il fait face et apprécions l’efficacité des politiques exist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us en connaissons l’historique et les raisons pour lesquelles il a évolué de la sort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us comprenons les dangers auxquels il est confronté à présent et avons une vague impression qu’il pourrait se détériorer dava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9814-BBAF-483A-9D06-612C27E1AB1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L’”avenir” dans l’EEI (suite)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l futur pour un développement environmentalement durable (ou non durable)? Scénarios possib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lle action alternative pourrait être pris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6A2D-A8F1-4F15-BDB2-F324C3114B9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’”avenir” dans l’EEI (suit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1066680" y="251460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914400" y="3124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lle mesure alternative pourrait-être  prise (options pour l’action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lles options futures (scénarios) pour un développement  durable (ou non durable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lles sont les mesures prises et sont-elles efficaces (réponse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lle conséquence pour l’environnement et l’human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arrive-t-il à l’environnement et pourquoi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E770-5C84-4AA2-9AAA-EAFA2DA0A1B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En tentant de répondre à ces questions:</a:t>
            </a:r>
            <a:r>
              <a:rPr b="1" lang="en-GB" sz="3200" spc="-1" strike="noStrike">
                <a:solidFill>
                  <a:srgbClr val="000000"/>
                </a:solidFill>
                <a:latin typeface="StoneSans-Semibold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 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Il faut également répondre à d’autres sous-entendus relativement à ce que nous savons et ce que nous voulons fa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Où nos politiques actuelles nous mènent-ell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Est-ce la direction que nous voulons prendr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Quelles autres politiques pourraient être plus util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Quelles seront les conséquences de diverses politiques alternatives sur l’environnement dans le futur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Ces questions éclairent le processus de prise de décision sur les avantages et dangers que représentent  certaines orientations potentiellement choisies pour la formulation de politiques fu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CC44-BB82-4224-84A8-4B4F72D3FD9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StoneSans-Semibold"/>
                <a:ea typeface="Times New Roman"/>
              </a:rPr>
              <a:t>Pourquoi une évaluation des politiques environnementales futures?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prendre conscience des conséquences d’actions et de politiques actuelles sur l’environnement dans le fut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détecter et éviter les dangers fut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élaborer des stratégies proactives à utiliser pour éviter des catastrophes fu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</a:rPr>
              <a:t>Pour établir un barème pour un environnement souhaitable, par rapport auquel nous mesurerons notre performance dans l’avancement d’alternatives préféré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6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42BE-4033-4666-84BE-9939B7E17C3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Questions émergente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731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public et les décideurs peuvent ne pas se rendre compte de l’impact futur de certaines politiques, mais quelques scientifiques peuvent  faire des spéculations; ex: l’impact socio-économique du VIH/SI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spéculation va au delà des actions politiques actuelles. Elle est incertaine et demande beaucoup de travail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120" y="403848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7:04:25Z</dcterms:created>
  <dc:creator>Elijah Munyao</dc:creator>
  <dc:description/>
  <dc:language>en-US</dc:language>
  <cp:lastModifiedBy>Elijah Munyao</cp:lastModifiedBy>
  <dcterms:modified xsi:type="dcterms:W3CDTF">2009-12-22T07:15:16Z</dcterms:modified>
  <cp:revision>10</cp:revision>
  <dc:subject/>
  <dc:title>   </dc:title>
</cp:coreProperties>
</file>