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1804-7AE2-459F-A26F-E6D6CEE2A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160" y="376668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C695-96E6-4280-838F-D7FE77574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35960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8D54-FFC8-42A7-9680-AC40D7CEA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820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8324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16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820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8324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FA65-A6F2-4783-85F0-4145FB7BA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ADC36-938E-4F26-9FBB-860ADA806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04946-B3BB-4106-A5AE-0C5893E50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344C9-7820-4BD2-A22B-81A56F5BC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E56AF-6F32-41CA-9252-053E99976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0EBCA-39DB-426D-B8D0-990FEF99A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0720" y="763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7BCF0-5F06-4F6D-91B7-ED4A71044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B1BBF-4F76-497D-A339-63ABB7285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7EB2-D88A-4DCA-BB3A-E2A249F1D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35960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A567A-DD21-4D99-8AA2-CAF192387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F154C-195F-4674-82BB-FE835162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3160" y="376668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339C0-7ACF-4DD6-9D94-912C7C630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35960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F984A-8004-4DFE-BA55-CCDCD90E4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5820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58324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3316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05820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58324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68BFA-EBB9-419E-95A4-A005D7CF8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CA06-25EA-43F6-A799-CFCF95414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F516-6E8F-469E-8A3B-2582BF539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2D51-D521-41C2-85D8-BB3D3E62A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763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6F8A-1622-47E4-A945-39BDEB326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09E4-E080-43AB-B76C-55124C66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5960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E90C-1D15-4515-821B-A4B71A13A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6D7B-E56B-45F3-9829-3A80E1751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A0A9D-B36A-44E8-B922-B58659EA00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686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6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6600" y="66639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057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7435E-0703-4AED-A0F6-188C2AE95480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6207200">
            <a:off x="-1332360" y="2475360"/>
            <a:ext cx="312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Division Of Early Warning And Ass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8648640" y="5638680"/>
            <a:ext cx="304920" cy="228600"/>
          </a:xfrm>
          <a:custGeom>
            <a:avLst/>
            <a:gdLst>
              <a:gd name="textAreaLeft" fmla="*/ 47520 w 304920"/>
              <a:gd name="textAreaRight" fmla="*/ 267120 w 3049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005e75"/>
              </a:gs>
              <a:gs pos="50000">
                <a:srgbClr val="00ccff"/>
              </a:gs>
              <a:gs pos="100000">
                <a:srgbClr val="00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8016840" y="6019920"/>
          <a:ext cx="1127160" cy="809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016840" y="6019920"/>
                    <a:ext cx="112716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2057400"/>
            <a:ext cx="76201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MODULE 9:</a:t>
            </a: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LINKING INTEGRATED ENVIRONMENTAL ASSESSMENT TO POLICY</a:t>
            </a: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Uncoordinated policies may conflict</a:t>
            </a:r>
            <a:r>
              <a:rPr b="1" lang="en-GB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391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he environment is ONE and all policies on it are interlinked. Coordination among policies is essential. But this may be difficult to sustain for many reason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Governments may have  competing responsibilities which may conflict with promoting a sustainable environment within the limitations of their resources (e.g. job creation, food production, etc.)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Hangover from the past when environmental policies may not have been directed at sustainable develop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pportunists may hijack or misdirect some good environmental policies where institutions of law enforcement are weak or uninform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Botswana’s conflicting environmental policies in the 1970’s and 1980’s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2411280"/>
            <a:ext cx="9144000" cy="19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746440"/>
            <a:ext cx="914400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39920" y="1836720"/>
            <a:ext cx="102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39920" y="2255760"/>
            <a:ext cx="102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39920" y="2674800"/>
            <a:ext cx="102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39920" y="3094200"/>
            <a:ext cx="102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9920" y="3513240"/>
            <a:ext cx="102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39920" y="3932280"/>
            <a:ext cx="102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39920" y="4351320"/>
            <a:ext cx="102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39920" y="4770360"/>
            <a:ext cx="102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39920" y="5189400"/>
            <a:ext cx="102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02840" y="5608800"/>
            <a:ext cx="3070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5040" y="5608800"/>
            <a:ext cx="102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39920" y="6027840"/>
            <a:ext cx="102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39920" y="6446880"/>
            <a:ext cx="102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168800" y="380052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526760" y="6064200"/>
            <a:ext cx="77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844520" y="6686640"/>
            <a:ext cx="77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016080" y="5086440"/>
            <a:ext cx="9360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7238880" cy="55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6933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StoneSans-Semibold"/>
                <a:ea typeface="Times New Roman"/>
              </a:rPr>
              <a:t>Environmental policy analysis</a:t>
            </a:r>
            <a:r>
              <a:rPr b="1" lang="en-GB" sz="3200" spc="-1" strike="noStrike">
                <a:solidFill>
                  <a:srgbClr val="000000"/>
                </a:solidFill>
                <a:latin typeface="StoneSans-Semibold"/>
                <a:ea typeface="Times New Roman"/>
              </a:rPr>
              <a:t> 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7086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onsists of evaluating current set of policies for a particular issue with the intention of improving its effectivenes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art of a cyclical and continuous process by which policy may be improved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valuate what policies currently exi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dentify where such policies fall short of what is required in promoting sustainable develop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etermine what adjustments are required on existing policies and what new policies are needed to make the set of policies under analysis more effectiv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StoneSans-Semibold"/>
                <a:ea typeface="Times New Roman"/>
              </a:rPr>
              <a:t>Step 1 – </a:t>
            </a:r>
            <a:r>
              <a:rPr b="1" lang="en-GB" sz="3000" spc="-1" strike="noStrike">
                <a:solidFill>
                  <a:srgbClr val="808080"/>
                </a:solidFill>
                <a:latin typeface="StoneSans-Semibold"/>
                <a:ea typeface="Times New Roman"/>
              </a:rPr>
              <a:t>Identify and list current environmental policies and legislation</a:t>
            </a:r>
            <a:r>
              <a:rPr b="1" lang="en-GB" sz="3200" spc="-1" strike="noStrike">
                <a:solidFill>
                  <a:srgbClr val="000000"/>
                </a:solidFill>
                <a:latin typeface="StoneSans-Semibold"/>
                <a:ea typeface="Times New Roman"/>
              </a:rPr>
              <a:t> 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467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Broadly Identify policies relevant to the issue of interes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ecide on a consistent criteria for selecting policies to include in a current environmental policy analysis, e.g. relevance to the public and decision-makers. Criteria will depend on individual circumstance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onsider in your criteria some international obligations relevant to the issue of analysi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elect a manageable number of  the available policies to be included in the analysis in a holistic manner by determining which of the policies have the potential to have a direct impact on the issues of concer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StoneSans-Semibold"/>
                <a:ea typeface="Times New Roman"/>
              </a:rPr>
              <a:t>Step 2 – </a:t>
            </a:r>
            <a:r>
              <a:rPr b="1" lang="en-GB" sz="3000" spc="-1" strike="noStrike">
                <a:solidFill>
                  <a:srgbClr val="808080"/>
                </a:solidFill>
                <a:latin typeface="StoneSans-Semibold"/>
                <a:ea typeface="Times New Roman"/>
              </a:rPr>
              <a:t>Identify performance criteria for the selected key policies</a:t>
            </a:r>
            <a:r>
              <a:rPr b="1" lang="en-GB" sz="3200" spc="-1" strike="noStrike">
                <a:solidFill>
                  <a:srgbClr val="000000"/>
                </a:solidFill>
                <a:latin typeface="StoneSans-Semibold"/>
                <a:ea typeface="Times New Roman"/>
              </a:rPr>
              <a:t> 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 policy should have an in-built performance criteria at its formulation, but sometimes this is not the ca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riteria developed may be general and descriptive or specific and quantitative. Some example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hreshold: a value may be identified beyond which an environmental system may be self-sustai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Benchmark: evaluation of the performance of an environmental system may be based on relative performance when compared to known best cases under similar circumstanc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StoneSans-Semibold"/>
                <a:ea typeface="Times New Roman"/>
              </a:rPr>
              <a:t>Step 3 – </a:t>
            </a:r>
            <a:r>
              <a:rPr b="1" lang="en-GB" sz="3000" spc="-1" strike="noStrike">
                <a:solidFill>
                  <a:srgbClr val="808080"/>
                </a:solidFill>
                <a:latin typeface="StoneSans-Semibold"/>
                <a:ea typeface="Times New Roman"/>
              </a:rPr>
              <a:t>Evaluate selected policies</a:t>
            </a:r>
            <a:r>
              <a:rPr b="1" lang="en-GB" sz="3200" spc="-1" strike="noStrike">
                <a:solidFill>
                  <a:srgbClr val="000000"/>
                </a:solidFill>
                <a:latin typeface="StoneSans-Semibold"/>
                <a:ea typeface="Times New Roman"/>
              </a:rPr>
              <a:t> 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315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deally, expectations should be outlined at policy formulation in which cas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xpectations will be used to judge system performance for outcomes (next slid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nalysis may be made to evaluate whether original expectations were realistic or if either expectations or the system need to be adjus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Where expectations were not outlined originally, policy performance is carried out on key variables selected in Step 1 using criteria determined in Step 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Comparing expected performance with actual performance of an environmental system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409840" y="6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81240" y="86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21592" t="0" r="0" b="0"/>
          <a:stretch/>
        </p:blipFill>
        <p:spPr>
          <a:xfrm>
            <a:off x="2133720" y="1066680"/>
            <a:ext cx="5257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Introduction</a:t>
            </a:r>
            <a:r>
              <a:rPr b="1" lang="en-GB" sz="3200" spc="-1" strike="noStrike">
                <a:solidFill>
                  <a:srgbClr val="000000"/>
                </a:solidFill>
                <a:latin typeface="StoneSans-Semibold"/>
                <a:ea typeface="Times New Roman"/>
              </a:rPr>
              <a:t> 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7391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his module shows you how to link SOE reporting to policy formulation, the major objective of IEA. The module discusses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he various types of policy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nterlinkages which should be observed and conflicts which should be avoided in policy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nvironmental policy analysi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Arial"/>
                <a:ea typeface="Times New Roman"/>
              </a:rPr>
              <a:t>The place of policy formulation in IEA</a:t>
            </a:r>
            <a:r>
              <a:rPr b="1" lang="en-GB" sz="3200" spc="-1" strike="noStrike">
                <a:solidFill>
                  <a:srgbClr val="000000"/>
                </a:solidFill>
                <a:latin typeface="StoneSans-Semibold"/>
                <a:ea typeface="Times New Roman"/>
              </a:rPr>
              <a:t> 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46784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Within the overall sequence of questions/steps, policy formulation comes after knowing the state of the environment (i.e. what is happening)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We ask the following questions (see next slide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How are current policies affecting the state of the environment (under Question 1)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o the current policies contribute to what is happening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What policies are in place that are intended to deal with the current environmental issues and how effective are they (under Question 3)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What alternative actions could be taken (under Question 5)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6197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Showing the place of current policy analysis in IEA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7391160" cy="41832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914400" y="34290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-7632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808080"/>
                </a:solidFill>
                <a:latin typeface="Arial"/>
                <a:ea typeface="Times New Roman"/>
              </a:rPr>
              <a:t>Environmental policy as rules to use the physical environment</a:t>
            </a:r>
            <a:r>
              <a:rPr b="1" lang="en-GB" sz="3200" spc="-1" strike="noStrike">
                <a:solidFill>
                  <a:srgbClr val="000000"/>
                </a:solidFill>
                <a:latin typeface="StoneSans-Semibold"/>
                <a:ea typeface="Times New Roman"/>
              </a:rPr>
              <a:t> 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nvironmental policies stand as rules governing the interaction between human beliefs, values and ideas, and the physical environmen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hey provide guidelines on how to use the physical environment within the values of a social group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May be used to direct a community to use the physical environment wisely within rules that will promote sustainable development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ften, the progression is from rules that discourage bad practices to those that seek compliance with good practices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Showing the place of environmental policies</a:t>
            </a: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  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646280"/>
            <a:ext cx="9144000" cy="32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   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314440" y="16812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14440" y="19177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314440" y="21542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14440" y="23907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314440" y="26272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314440" y="28638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314440" y="31003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314440" y="3338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314440" y="35751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314440" y="38116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314440" y="40482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45720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36600" y="45212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314440" y="47577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314440" y="49942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314440" y="52322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314440" y="54687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314440" y="5705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314440" y="59421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314440" y="61786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14440" y="64152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314440" y="66517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314440" y="68882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66120" y="251604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74240" y="46083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748760" y="61977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67816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808080"/>
                </a:solidFill>
                <a:latin typeface="Arial"/>
                <a:ea typeface="Arial"/>
              </a:rPr>
              <a:t>Types of policies</a:t>
            </a:r>
            <a:r>
              <a:rPr b="1" lang="en-GB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3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6201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olicies may be categorized according to the way they are formed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Routine policies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: formulated through routine, deliberate and slow progression of the normal step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Urgent reactive policies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: formulated outside the normal process, commonly to solve a crisis or emergencies (e.g. flood, drought)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Grey zone policies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: not backed by documentation but used as if they do. May evolve to routine policies over tim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 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ll policies, however formed, should be subjected to assessment to judge how they impact on the environ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763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08080"/>
                </a:solidFill>
                <a:latin typeface="Arial"/>
                <a:ea typeface="Times New Roman"/>
              </a:rPr>
              <a:t>Nested Policies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7162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olicies addressing the same issue may be nested with narrowly focussed policies linked to a series of broader policies. The nesting may be within a country or from a global to a local level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Global level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– general agreement of what the rules should be may be included in a convention. Gaps of countries which may not sign may be expected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Regional level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– interests are likely to be more similar, but still gaps may be expected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National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– policy has different enforcement rules and all are expected to abide by the poli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ub-national/local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– very detailed regulations and enforce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360" y="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An example of nested policies: from global to local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685800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06:30:50Z</dcterms:created>
  <dc:creator>Elijah Munyao</dc:creator>
  <dc:description/>
  <dc:language>en-US</dc:language>
  <cp:lastModifiedBy>Elijah Munyao</cp:lastModifiedBy>
  <dcterms:modified xsi:type="dcterms:W3CDTF">2009-12-21T06:31:00Z</dcterms:modified>
  <cp:revision>1</cp:revision>
  <dc:subject/>
  <dc:title>MODULE 9:  LINKING INTEGRATED ENVIRONMENTAL ASSESSMENT TO POLICY </dc:title>
</cp:coreProperties>
</file>