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EA7-AE8A-432D-9579-EB6FE97D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8F1-CE79-4534-A0FB-29829F7F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B5E-1EC3-401C-91C6-83280A5B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794-5004-45A7-87DF-AFDB720A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2487-A66F-4011-8778-6BD12070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0205-C59E-4126-874A-DF8D20B1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2913-D618-4A4B-9ACD-7B5E0214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B60D-0D2F-44F1-8080-C5E0C9DE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05E1-C725-4597-B7A7-FB1BCB68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FEE4-D167-4AF7-B9BD-DC7D5770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6BE4-2530-4E02-9626-7302859E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E852-AEB6-446D-9F5E-F991236F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4F1E-70FA-4062-8DA6-1384ED71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E5FD-C03C-413B-BBA3-ACCD8270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45BA-10CD-42BB-A522-8F4D922F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0AA4-68C4-4F07-9E65-C5AF5826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747B-C2C7-4639-9006-66390EB8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979-45D8-4120-8FD4-D4238E41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DB7-30E6-4320-AE81-FBF46C8B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92D9-3B41-4AB7-AB57-B2164722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9C46-23E7-4750-AE31-880453B8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FEC-9852-472E-9421-20639933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0E4D-F675-42EC-B707-7D93974A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EDAD-1B9B-4EF2-A486-62F075FF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E40A-6382-43BC-8ACE-1DA33D2D7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6C81-D593-46E3-9D22-B3268DD6CEBA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custGeom>
            <a:avLst/>
            <a:gdLst>
              <a:gd name="textAreaLeft" fmla="*/ 4752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0574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9: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LINKING INTEGRATED ENVIRONMENTAL ASSESSMENT TO POLICY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Uncoordinated policies may conflict</a:t>
            </a:r>
            <a:r>
              <a:rPr b="1" lang="en-GB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 environment is ONE and all policies on it are interlinked. Coordination among policies is essential. But this may be difficult to sustain for many reason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overnments may have  competing responsibilities which may conflict with promoting a sustainable environment within the limitations of their resources (e.g. job creation, food production, etc.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gover from the past when environmental policies may not have been directed at sustainable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pportunists may hijack or misdirect some good environmental policies where institutions of law enforcement are weak or uninform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Botswana’s conflicting environmental policies in the 1970’s and 1980’s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411280"/>
            <a:ext cx="914400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746440"/>
            <a:ext cx="91440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9920" y="183672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9920" y="225576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9920" y="267480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9920" y="309420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9920" y="351324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9920" y="393228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9920" y="435132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9920" y="477036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9920" y="518940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840" y="5608800"/>
            <a:ext cx="3070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5040" y="560880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9920" y="602784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9920" y="644688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68800" y="38005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6760" y="606420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44520" y="668664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16080" y="5086440"/>
            <a:ext cx="93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72388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933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Environmental policy analysis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086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nsists of evaluating current set of policies for a particular issue with the intention of improving its effectivenes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art of a cyclical and continuous process by which policy may be improve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aluate what policies currently exi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dentify where such policies fall short of what is required in promoting sustainable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termine what adjustments are required on existing policies and what new policies are needed to make the set of policies under analysis more effec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Step 1 – </a:t>
            </a:r>
            <a:r>
              <a:rPr b="1" lang="en-GB" sz="30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Identify and list current environmental policies and legislatio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roadly Identify policies relevant to the issue of intere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cide on a consistent criteria for selecting policies to include in a current environmental policy analysis, e.g. relevance to the public and decision-makers. Criteria will depend on individual circumstanc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nsider in your criteria some international obligations relevant to the issue of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lect a manageable number of  the available policies to be included in the analysis in a holistic manner by determining which of the policies have the potential to have a direct impact on the issues of concer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Step 2 – </a:t>
            </a:r>
            <a:r>
              <a:rPr b="1" lang="en-GB" sz="30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Identify performance criteria for the selected key policies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policy should have an in-built performance criteria at its formulation, but sometimes this is not the c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riteria developed may be general and descriptive or specific and quantitative. Some exampl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reshold: a value may be identified beyond which an environmental system may be self-sustai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enchmark: evaluation of the performance of an environmental system may be based on relative performance when compared to known best cases under similar circumstan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Step 3 – </a:t>
            </a:r>
            <a:r>
              <a:rPr b="1" lang="en-GB" sz="30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Evaluate selected policies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deally, expectations should be outlined at policy formulation in which cas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xpectations will be used to judge system performance for outcomes (next slid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nalysis may be made to evaluate whether original expectations were realistic or if either expectations or the system need to be adjus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here expectations were not outlined originally, policy performance is carried out on key variables selected in Step 1 using criteria determined in Step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omparing expected performance with actual performance of an environmental system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0984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81240" y="86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21592" t="0" r="0" b="0"/>
          <a:stretch/>
        </p:blipFill>
        <p:spPr>
          <a:xfrm>
            <a:off x="2133720" y="1066680"/>
            <a:ext cx="5257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Introductio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739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is module shows you how to link SOE reporting to policy formulation, the major objective of IEA. The module discuss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 various types of polic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rlinkages which should be observed and conflicts which should be avoided in policy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vironmental policy analysi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The place of policy formulation in IEA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4678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ithin the overall sequence of questions/steps, policy formulation comes after knowing the state of the environment (i.e. what is happening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e ask the following questions (see next slide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ow are current policies affecting the state of the environment (under Question 1)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o the current policies contribute to what is happenin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hat policies are in place that are intended to deal with the current environmental issues and how effective are they (under Question 3)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hat alternative actions could be taken (under Question 5)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Showing the place of current policy analysis in IEA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391160" cy="4183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34290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-7632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08080"/>
                </a:solidFill>
                <a:latin typeface="Arial"/>
                <a:ea typeface="Times New Roman"/>
              </a:rPr>
              <a:t>Environmental policy as rules to use the physical environment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vironmental policies stand as rules governing the interaction between human beliefs, values and ideas, and the physical environme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y provide guidelines on how to use the physical environment within the values of a social group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y be used to direct a community to use the physical environment wisely within rules that will promote sustainable development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ten, the progression is from rules that discourage bad practices to those that seek compliance with good practice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Showing the place of environmental policies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46280"/>
            <a:ext cx="9144000" cy="32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   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14440" y="16812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14440" y="191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14440" y="2154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14440" y="2390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14440" y="2627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14440" y="286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14440" y="3100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14440" y="3338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14440" y="35751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14440" y="3811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14440" y="40482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572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36600" y="4521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14440" y="4757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14440" y="499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14440" y="5232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14440" y="5468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1444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14440" y="59421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14440" y="6178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14440" y="64152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14440" y="665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14440" y="688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66120" y="25160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74240" y="4608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48760" y="6197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6781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Arial"/>
                <a:ea typeface="Arial"/>
              </a:rPr>
              <a:t>Types of policies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licies may be categorized according to the way they are forme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outine policies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: formulated through routine, deliberate and slow progression of the normal ste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rgent reactive policies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: formulated outside the normal process, commonly to solve a crisis or emergencies (e.g. flood, drought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rey zone policies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: not backed by documentation but used as if they do. May evolve to routine policies over ti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l policies, however formed, should be subjected to assessment to judge how they impact on the enviro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  <a:ea typeface="Times New Roman"/>
              </a:rPr>
              <a:t>Nested Policie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162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licies addressing the same issue may be nested with narrowly focussed policies linked to a series of broader policies. The nesting may be within a country or from a global to a local leve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lobal level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– general agreement of what the rules should be may be included in a convention. Gaps of countries which may not sign may be expect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gional level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– interests are likely to be more similar, but still gaps may be expect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ational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– policy has different enforcement rules and all are expected to abide by the poli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ub-national/local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– very detailed regulations and enforc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An example of nested policies: from global to local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68580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6:30:50Z</dcterms:created>
  <dc:creator>Elijah Munyao</dc:creator>
  <dc:description/>
  <dc:language>en-US</dc:language>
  <cp:lastModifiedBy>Elijah Munyao</cp:lastModifiedBy>
  <dcterms:modified xsi:type="dcterms:W3CDTF">2009-12-21T06:31:00Z</dcterms:modified>
  <cp:revision>1</cp:revision>
  <dc:subject/>
  <dc:title>MODULE 9:  LINKING INTEGRATED ENVIRONMENTAL ASSESSMENT TO POLICY </dc:title>
</cp:coreProperties>
</file>