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E63-C6CE-40E0-A4BD-F3C5F487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1B6-C317-40B1-89C4-C2D7D424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271-C9AA-4D43-AAC4-FCE3FB93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2DA-1CBF-43FF-AEF9-71377E6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F4E-E2EE-427E-B8D0-316A7829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9EF9-5BFB-4CBF-8AE0-B5308053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CE14-41EF-478A-8E45-F37C0826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67E1-1F7D-4B6D-ADC4-E0E53ADE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400-47EF-4AF0-9265-58E4FEC9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99FD-9288-4A78-8B41-F02298C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577B-9FFB-4C1D-8013-2719E1C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995-6755-4414-BCAE-5706231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40CC-CEDF-41DC-AB54-B6A4BBB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3050-8767-4C8D-B2D8-2212675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BF0-DFF3-4A46-9ACB-EEC5CAA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90B4-A9FC-4A36-B7F5-A8518F2A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90C6-BCAD-4589-96AE-FC43E635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933-82CE-47D1-B4F6-214064D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5E0-6AC5-4FE0-9C58-9E4349D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579-0141-4BD2-BE51-DF63A02B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4C4-6C10-42EA-AC90-748A6E9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6DB-94BA-49E8-A081-DCD7E52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808-7923-4E70-B3A1-F55CBD8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BB7-B6AC-4FC3-8519-BC2A69A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090-3D09-4ABC-8685-08E0CE83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B7C-4D1D-4ACC-A3CC-2FD25032E95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9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INKING INTEGRATED ENVIRONMENTAL ASSESSMENT TO POLICY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Uncoordinated policies may conflict</a:t>
            </a:r>
            <a:r>
              <a:rPr b="1" lang="en-GB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nvironment is ONE and all policies on it are interlinked. Coordination among policies is essential. But this may be difficult to sustain for many reason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overnments may have  competing responsibilities which may conflict with promoting a sustainable environment within the limitations of their resources (e.g. job creation, food production, etc.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gover from the past when environmental policies may not have been directed at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portunists may hijack or misdirect some good environmental policies where institutions of law enforcement are weak or uninform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otswana’s conflicting environmental policies in the 1970’s and 1980’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11280"/>
            <a:ext cx="91440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46440"/>
            <a:ext cx="914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9920" y="18367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920" y="2255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920" y="2674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9920" y="30942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9920" y="35132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9920" y="39322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9920" y="435132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9920" y="47703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9920" y="51894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840" y="5608800"/>
            <a:ext cx="307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040" y="56088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9920" y="60278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920" y="644688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68800" y="38005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6760" y="6064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4520" y="66866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16080" y="50864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238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policy analysi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sts of evaluating current set of policies for a particular issue with the intention of improving its effectiven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t of a cyclical and continuous process by which policy may be improv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e what policies currently ex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y where such policies fall short of what is required in promoting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termine what adjustments are required on existing policies and what new policies are needed to make the set of policies under analysis more effe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1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and list current environmental policies and legisla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adly Identify policies relevant to the issue of intere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cide on a consistent criteria for selecting policies to include in a current environmental policy analysis, e.g. relevance to the public and decision-makers. Criteria will depend on individual circumstanc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ider in your criteria some international obligations relevant to the issue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lect a manageable number of  the available policies to be included in the analysis in a holistic manner by determining which of the policies have the potential to have a direct impact on the issues of concer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2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dentify performance criteria for the selected key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policy should have an in-built performance criteria at its formulation, but sometimes this is not the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iteria developed may be general and descriptive or specific and quantitative. Some exampl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reshold: a value may be identified beyond which an environmental system may be self-sust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nchmark: evaluation of the performance of an environmental system may be based on relative performance when compared to known best cases under similar circumsta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Step 3 – </a:t>
            </a:r>
            <a:r>
              <a:rPr b="1" lang="en-GB" sz="3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valuate selected policies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ally, expectations should be outlined at policy formulation in which cas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pectations will be used to judge system performance for outcomes (next slid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nalysis may be made to evaluate whether original expectations were realistic or if either expectations or the system need to be adjus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ere expectations were not outlined originally, policy performance is carried out on key variables selected in Step 1 using criteria determined in Step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mparing expected performance with actual performance of an environmental system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0984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124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21592" t="0" r="0" b="0"/>
          <a:stretch/>
        </p:blipFill>
        <p:spPr>
          <a:xfrm>
            <a:off x="2133720" y="106668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shows you how to link SOE reporting to policy formulation, the major objective of IEA. The module discuss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various types of poli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hich should be observed and conflicts which should be avoided in policy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y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place of policy formulation in IEA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 overall sequence of questions/steps, policy formulation comes after knowing the state of the environment (i.e. what is happening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ask the following questions (see next slide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w are current policies affecting the state of the environment (under Question 1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 the current policies contribute to what is happenin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policies are in place that are intended to deal with the current environmental issues and how effective are they (under Question 3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lternative actions could be taken (under Question 5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howing the place of current policy analysis in IEA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8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4290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7632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"/>
                <a:ea typeface="Times New Roman"/>
              </a:rPr>
              <a:t>Environmental policy as rules to use the physical environment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policies stand as rules governing the interaction between human beliefs, values and ideas, and the physical environ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provide guidelines on how to use the physical environment within the values of a social group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used to direct a community to use the physical environment wisely within rules that will promote sustainable develop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ten, the progression is from rules that discourage bad practices to those that seek compliance with good practic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howing the place of environmental policies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6280"/>
            <a:ext cx="914400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   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4440" y="1681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4440" y="191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4440" y="2154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4440" y="2390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14440" y="2627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4440" y="286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444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4440" y="3338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14440" y="3575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14440" y="3811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4440" y="4048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6600" y="4521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4757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14440" y="499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4440" y="5232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4440" y="54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444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14440" y="5942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6178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4440" y="6415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4440" y="665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4440" y="688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6120" y="2516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74240" y="4608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48760" y="6197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Types of policies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may be categorized according to the way they are form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outi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through routine, deliberate and slow progression of the normal ste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rgent reactiv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formulated outside the normal process, commonly to solve a crisis or emergencies (e.g. flood, drought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ey zone policie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not backed by documentation but used as if they do. May evolve to routine policies over ti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l policies, however formed, should be subjected to assessment to judge how they impact on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Nested Polici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162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ies addressing the same issue may be nested with narrowly focussed policies linked to a series of broader policies. The nesting may be within a country or from a global to a lo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lob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general agreement of what the rules should be may be included in a convention. Gaps of countries which may not sign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gional leve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interests are likely to be more similar, but still gaps may be exp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ation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policy has different enforcement rules and all are expected to abide by the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b-national/local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very detailed regulations and enforc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n example of nested policies: from global to loc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858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00Z</dcterms:modified>
  <cp:revision>1</cp:revision>
  <dc:subject/>
  <dc:title>MODULE 9:  LINKING INTEGRATED ENVIRONMENTAL ASSESSMENT TO POLICY </dc:title>
</cp:coreProperties>
</file>