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A6D-1B48-419F-80EB-2A3248BF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0A4-9487-4D8C-B4A9-A4329DFA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AD9-67BD-40B5-B31C-60EA3946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D42-DA45-4B79-B5AF-24F44D61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BDE-6940-4FD3-A529-5621275A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903A-8B92-4B99-8738-121925F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9D57-959C-46E0-A495-A326AEFA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1200-758B-4811-9709-5D6BCFB9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E5E9-C049-4A5B-8D6E-ECFB1EEB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ED61-5E45-4797-A8BE-3C7D8D98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FAE8-A144-4077-823C-2AEBBD2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A86-C7F1-49B5-BEC5-24FAC278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C051-61C6-45C9-85F9-2F840EB1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DE17-3DE2-442B-9F9B-01BA3E1E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3061-C607-4D0A-B12F-08D7A191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12E3-2883-4EAF-BF8C-3F0F3F15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6CF4-2589-4183-8511-A623DF42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243-BFDC-40EE-A61B-D63BAD92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A24-45BC-44FC-B0D8-42CB1547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23A-4B73-4726-918D-A67AA27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442-A7ED-4DB3-A450-9D965809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615-109F-4829-BF02-8590DD65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DC3-FD2E-4870-8E97-07FCB23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C58-71A5-4EE6-BBE0-44A5279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4838-5A14-4ADD-955F-DF7D8E820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567-B0B0-42A2-84C7-4FF63632C3D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TARGETING A THEME IN ENVIRONMENTAL ASSESSMENT: HUMAN VULNERABILITY DUE TO ENVIRONMENTAL CHAN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focuses on the theme of human vulnerability. It provides a comprehensive example for the many ideas discussed he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gives some potential indicators of human vulnerabil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uses these indicators to show the importance of providing a forum for public participation in IEA to improve the indicato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illustrates the importance of demand driven initiatives in IEA for sustainable develop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shows the importance of respecting local ideas (including those of the underprivileged) and culture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Concepts of human vulnerability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ing continuously re-defined but degree of vulnerability commonly looked at a continuum from extremely vulnerable to extremely sec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ore vulnerable communities hav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choices – relatively low levels of technology and any exposure to hazard may strain cho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ability to adapt to changing environmental  circumstances. Common response to hazards is to expand operations or move to new area which leads to conflict over resources with other commun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political/social/economic power to make own views important: i.e. marginalized in decision ma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control of own destiny. Highly dependent on external intervention and therefore easy to victim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nvironmental change intensifies vulnerability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r vulnerable communities, environmental chang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s human impact on environmental resourc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roduces shortages they cannot adjust to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akens health due to increased food insecurity,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marginalization in decision making and resource allocation, and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their potential for conflict as they migrate in search of new re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equently, assessing human vulnerability to environmental change is important, to provide early warning to catastrophes, especially in Afric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ssessing human vulnerability 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eedback loops exist in human impact on the environment which should be considered in vulnerability asses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s in environment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on human welfare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human response e.g. change in behaviour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eduction of environmental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onse fails or is ineffective in more vulnerable communities and problem increases without outside inter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munity becomes more and more vulnerable to any extreme event, e.g. drought, fl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food insecurity, poverty, economic losses, poor health, potential for conflicts, all of which have been suggested as potential indicators of vulner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n example of a framework for assessing human vulnerability</a:t>
            </a: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44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44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44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72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44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72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44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44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44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44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72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44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044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44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man impact on environment (e.g. deforestation, soil e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5708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148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man vulnerability to environmental change (health, pover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056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cietal commitment to the environment e.g. invest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208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25" name="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7400" y="5562720"/>
              <a:ext cx="114120" cy="206280"/>
            </a:xfrm>
            <a:custGeom>
              <a:avLst/>
              <a:gdLst/>
              <a:ahLst/>
              <a:rect l="l" t="t" r="r" b="b"/>
              <a:pathLst>
                <a:path w="72" h="130">
                  <a:moveTo>
                    <a:pt x="72" y="0"/>
                  </a:moveTo>
                  <a:lnTo>
                    <a:pt x="0" y="66"/>
                  </a:lnTo>
                  <a:lnTo>
                    <a:pt x="72" y="13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28" name="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2200" y="3392280"/>
              <a:ext cx="115920" cy="209520"/>
            </a:xfrm>
            <a:custGeom>
              <a:avLst/>
              <a:gdLst/>
              <a:ahLst/>
              <a:rect l="l" t="t" r="r" b="b"/>
              <a:pathLst>
                <a:path w="73" h="132">
                  <a:moveTo>
                    <a:pt x="0" y="0"/>
                  </a:moveTo>
                  <a:lnTo>
                    <a:pt x="37" y="132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toneSan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toneSan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ome potential indicators for assessing human vulnerability to environment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35" name="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36" name="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nvironmental cau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39" name="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amples of Indicato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42" name="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alt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45" name="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Urban air and water pollu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ercentage of people affected by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51" name="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conomic losses/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gai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54" name="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oil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57" name="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Hours of labour lost due to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Food productivity loss due to soil erosion, etc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in yield (e.g. fish) from water bod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60" name="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ver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66" name="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centage of labour force affected by resource deple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Food</a:t>
                </a:r>
                <a:r>
                  <a:rPr b="0" lang="en-GB" sz="10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72" name="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Loss of natural vegetation and biological divers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oil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ainfall amount and distribu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75" name="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centage of natural vegetation cov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centage of people directly dependent on land resourc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xtent and distribution of degraded l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ainfall amount and variabil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c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carcity of wa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84" name="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umber of people living in areas where water is scar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umber of people dependent on vegetation resourc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Human Vulnerabil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What case studies have show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see Manua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se studies carried out in various communities highly vulnerable to environmental change have shown that in attempting to reduce vulnerabilit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must be included in assessing the problems that arise from environmental change. In some cases (e.g. Darfur region of Sudan), publicity has focused on ethnic conflic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meaningful forum for discussing the development of indicators and policy formulation is useful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ing demand for reform to introduce measures that will reduce vulnerability to come from within the community has enormous benef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quitable contribution of input of ideas including encouraging the socially neglected social groups encourages near total participation in policy formulation, an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ect of local ideas and culture encourages the community to feel it owns the policy formul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What case studies… (cont’d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30:50Z</dcterms:created>
  <dc:creator>Elijah Munyao</dc:creator>
  <dc:description/>
  <dc:language>en-US</dc:language>
  <cp:lastModifiedBy>Elijah Munyao</cp:lastModifiedBy>
  <dcterms:modified xsi:type="dcterms:W3CDTF">2009-12-21T06:31:40Z</dcterms:modified>
  <cp:revision>2</cp:revision>
  <dc:subject/>
  <dc:title>MODULE 9:  LINKING INTEGRATED ENVIRONMENTAL ASSESSMENT TO POLICY </dc:title>
</cp:coreProperties>
</file>