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08A5-0C48-4CDE-A0FE-A95A345E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D68-C7B4-492C-A471-C43F5829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928A-E556-4F89-A65B-585DCC24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B519-04DC-448B-B17B-E3406F1F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EFFB-BC15-4AFF-8FB3-86AE8083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2523-AEBB-4186-931F-9773A56F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DF89-04D8-4757-8E0B-C4E6F405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15C3-C20F-4D9D-9F23-54AE016D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C77B-E4DB-4BB1-8D0E-DA2FA180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923B-56A8-49A1-85BB-CB4885D2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BF2A-7BA2-4876-9974-FF616C6A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E483-98A2-404F-870C-DCDB0959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3C20-1103-41C6-9221-86142365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11AA-6A2C-4BDE-BD95-83BB0EB6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A4A1-7A64-4FAB-9C0F-21B45DBF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1839-06CA-4C36-90CA-A62BDDB2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8FF1-A926-4327-9D2D-9AF38A33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4E00-5EF1-44E8-A0F7-87941004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5DDA-473C-46FC-8D04-AC8BA9FF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8B0-9CC1-4ABE-8DD6-E74D6DF0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4473-CA22-48DE-A447-6BF97734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E413-1753-4707-B6D7-A011BF5E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D0BB-93C6-4C2F-B605-0393E8FB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B1C3-E0DF-4645-AEC1-C15A9B33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7B6C-5E28-4268-AE06-AACCADBD8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600" y="66639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057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BD2C-7B63-4280-8CB7-3437C38136F7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6207200">
            <a:off x="-1332360" y="247536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Early War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648640" y="5638680"/>
            <a:ext cx="304920" cy="228600"/>
          </a:xfrm>
          <a:custGeom>
            <a:avLst/>
            <a:gdLst>
              <a:gd name="textAreaLeft" fmla="*/ 4752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016840" y="6019920"/>
          <a:ext cx="112716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6840" y="6019920"/>
                    <a:ext cx="11271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ODULE 10: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TARGETING A THEME IN ENVIRONMENTAL ASSESSMENT: HUMAN VULNERABILITY DUE TO ENVIRONMENTAL CHAN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ntroduction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239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is module focuses on the theme of human vulnerability. It provides a comprehensive example for the many ideas discussed he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t gives some potential indicators of human vulnerabil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t uses these indicators to show the importance of providing a forum for public participation in IEA to improve the indicator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t illustrates the importance of demand driven initiatives in IEA for sustainable developme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t shows the importance of respecting local ideas (including those of the underprivileged) and culture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Concepts of human vulnerability 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eing continuously re-defined but degree of vulnerability commonly looked at a continuum from extremely vulnerable to extremely sec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ore vulnerable communities have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mited choices – relatively low levels of technology and any exposure to hazard may strain cho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mited ability to adapt to changing environmental  circumstances. Common response to hazards is to expand operations or move to new area which leads to conflict over resources with other commun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mited political/social/economic power to make own views important: i.e. marginalized in decision mak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mited control of own destiny. Highly dependent on external intervention and therefore easy to victimiz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Environmental change intensifies vulnerability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Garamond-Regular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r vulnerable communities, environmental chang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ensifies human impact on environmental resources,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roduces shortages they cannot adjust to,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eakens health due to increased food insecurity,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creases marginalization in decision making and resource allocation, and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creases their potential for conflict as they migrate in search of new resources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nsequently, assessing human vulnerability to environmental change is important, to provide early warning to catastrophes, especially in Afric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Assessing human vulnerability  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eedback loops exist in human impact on the environment which should be considered in vulnerability assess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hanges in environment </a:t>
            </a:r>
            <a:r>
              <a:rPr b="1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impact on human welfare </a:t>
            </a:r>
            <a:r>
              <a:rPr b="1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human response e.g. change in behaviour </a:t>
            </a:r>
            <a:r>
              <a:rPr b="1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reduction of environmental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sponse fails or is ineffective in more vulnerable communities and problem increases without outside interven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mmunity becomes more and more vulnerable to any extreme event, e.g. drought, flo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creases food insecurity, poverty, economic losses, poor health, potential for conflicts, all of which have been suggested as potential indicators of vulnerabilit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An example of a framework for assessing human vulnerability</a:t>
            </a: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440" y="24652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440" y="28306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440" y="31939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80720" y="31939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0440" y="35593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720" y="35593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0440" y="392436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0440" y="42894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440" y="46530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0440" y="50180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80720" y="50180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440" y="53830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0440" y="57484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440" y="61117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2666880"/>
            <a:ext cx="3733560" cy="12398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uman impact on environment (e.g. deforestation, soil eros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57080" y="28274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1480" y="32004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3619440"/>
            <a:ext cx="3276720" cy="1333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uman vulnerability to environmental change (health, pover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3657600"/>
            <a:ext cx="244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0560" y="445464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25520" y="4800600"/>
            <a:ext cx="2789280" cy="12524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cietal commitment to the environment e.g. invest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50960" y="53164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2080" y="568152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124080"/>
            <a:ext cx="1970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46720" y="4952880"/>
            <a:ext cx="1800" cy="714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127400" y="5562720"/>
            <a:ext cx="2120400" cy="206280"/>
            <a:chOff x="4127400" y="5562720"/>
            <a:chExt cx="2120400" cy="206280"/>
          </a:xfrm>
        </p:grpSpPr>
        <p:sp>
          <p:nvSpPr>
            <p:cNvPr id="125" name=""/>
            <p:cNvSpPr/>
            <p:nvPr/>
          </p:nvSpPr>
          <p:spPr>
            <a:xfrm flipH="1">
              <a:off x="4236480" y="5664240"/>
              <a:ext cx="20113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27400" y="5562720"/>
              <a:ext cx="114120" cy="206280"/>
            </a:xfrm>
            <a:custGeom>
              <a:avLst/>
              <a:gdLst/>
              <a:ahLst/>
              <a:rect l="l" t="t" r="r" b="b"/>
              <a:pathLst>
                <a:path w="72" h="130">
                  <a:moveTo>
                    <a:pt x="72" y="0"/>
                  </a:moveTo>
                  <a:lnTo>
                    <a:pt x="0" y="66"/>
                  </a:lnTo>
                  <a:lnTo>
                    <a:pt x="72" y="13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172200" y="3124080"/>
            <a:ext cx="115920" cy="477720"/>
            <a:chOff x="6172200" y="3124080"/>
            <a:chExt cx="115920" cy="477720"/>
          </a:xfrm>
        </p:grpSpPr>
        <p:sp>
          <p:nvSpPr>
            <p:cNvPr id="128" name=""/>
            <p:cNvSpPr/>
            <p:nvPr/>
          </p:nvSpPr>
          <p:spPr>
            <a:xfrm>
              <a:off x="6229080" y="3124080"/>
              <a:ext cx="1800" cy="27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2200" y="3392280"/>
              <a:ext cx="115920" cy="209520"/>
            </a:xfrm>
            <a:custGeom>
              <a:avLst/>
              <a:gdLst/>
              <a:ahLst/>
              <a:rect l="l" t="t" r="r" b="b"/>
              <a:pathLst>
                <a:path w="73" h="132">
                  <a:moveTo>
                    <a:pt x="0" y="0"/>
                  </a:moveTo>
                  <a:lnTo>
                    <a:pt x="37" y="132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 flipV="1">
            <a:off x="21337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508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toneSans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0991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toneSans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Some potential indicators for assessing human vulnerability to environmenta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57200" y="1143000"/>
            <a:ext cx="7467480" cy="5105520"/>
            <a:chOff x="457200" y="1143000"/>
            <a:chExt cx="7467480" cy="5105520"/>
          </a:xfrm>
        </p:grpSpPr>
        <p:grpSp>
          <p:nvGrpSpPr>
            <p:cNvPr id="135" name=""/>
            <p:cNvGrpSpPr/>
            <p:nvPr/>
          </p:nvGrpSpPr>
          <p:grpSpPr>
            <a:xfrm>
              <a:off x="1581120" y="1147680"/>
              <a:ext cx="2354040" cy="617400"/>
              <a:chOff x="1581120" y="1147680"/>
              <a:chExt cx="2354040" cy="617400"/>
            </a:xfrm>
          </p:grpSpPr>
          <p:sp>
            <p:nvSpPr>
              <p:cNvPr id="136" name=""/>
              <p:cNvSpPr/>
              <p:nvPr/>
            </p:nvSpPr>
            <p:spPr>
              <a:xfrm>
                <a:off x="1661040" y="1147680"/>
                <a:ext cx="2194200" cy="61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Environmental caus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81120" y="1147680"/>
                <a:ext cx="2354040" cy="61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935520" y="1147680"/>
              <a:ext cx="3982680" cy="617400"/>
              <a:chOff x="3935520" y="1147680"/>
              <a:chExt cx="3982680" cy="617400"/>
            </a:xfrm>
          </p:grpSpPr>
          <p:sp>
            <p:nvSpPr>
              <p:cNvPr id="139" name=""/>
              <p:cNvSpPr/>
              <p:nvPr/>
            </p:nvSpPr>
            <p:spPr>
              <a:xfrm>
                <a:off x="4015080" y="1147680"/>
                <a:ext cx="3823200" cy="61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Examples of Indicator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935520" y="1147680"/>
                <a:ext cx="3982680" cy="61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39640" y="1765440"/>
              <a:ext cx="1041120" cy="617040"/>
              <a:chOff x="539640" y="1765440"/>
              <a:chExt cx="1041120" cy="617040"/>
            </a:xfrm>
          </p:grpSpPr>
          <p:sp>
            <p:nvSpPr>
              <p:cNvPr id="142" name=""/>
              <p:cNvSpPr/>
              <p:nvPr/>
            </p:nvSpPr>
            <p:spPr>
              <a:xfrm>
                <a:off x="619560" y="1765440"/>
                <a:ext cx="881280" cy="61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Healt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39640" y="1765440"/>
                <a:ext cx="1041120" cy="61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581120" y="1765440"/>
              <a:ext cx="2354040" cy="617040"/>
              <a:chOff x="1581120" y="1765440"/>
              <a:chExt cx="2354040" cy="617040"/>
            </a:xfrm>
          </p:grpSpPr>
          <p:sp>
            <p:nvSpPr>
              <p:cNvPr id="145" name=""/>
              <p:cNvSpPr/>
              <p:nvPr/>
            </p:nvSpPr>
            <p:spPr>
              <a:xfrm>
                <a:off x="1661040" y="1765440"/>
                <a:ext cx="2194200" cy="61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Urban air and water pollu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581120" y="1765440"/>
                <a:ext cx="2354040" cy="61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935520" y="1765440"/>
              <a:ext cx="3982680" cy="617040"/>
              <a:chOff x="3935520" y="1765440"/>
              <a:chExt cx="3982680" cy="617040"/>
            </a:xfrm>
          </p:grpSpPr>
          <p:sp>
            <p:nvSpPr>
              <p:cNvPr id="148" name=""/>
              <p:cNvSpPr/>
              <p:nvPr/>
            </p:nvSpPr>
            <p:spPr>
              <a:xfrm>
                <a:off x="4015080" y="1765440"/>
                <a:ext cx="3823200" cy="61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StoneSans"/>
                    <a:ea typeface="Arial"/>
                  </a:rPr>
                  <a:t>- Percentage of people affected by environmental diseas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935520" y="1765440"/>
                <a:ext cx="3982680" cy="61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39640" y="2382840"/>
              <a:ext cx="1041120" cy="926640"/>
              <a:chOff x="539640" y="2382840"/>
              <a:chExt cx="1041120" cy="926640"/>
            </a:xfrm>
          </p:grpSpPr>
          <p:sp>
            <p:nvSpPr>
              <p:cNvPr id="151" name=""/>
              <p:cNvSpPr/>
              <p:nvPr/>
            </p:nvSpPr>
            <p:spPr>
              <a:xfrm>
                <a:off x="619560" y="2382840"/>
                <a:ext cx="88128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Economic losses/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gai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39640" y="2382840"/>
                <a:ext cx="104112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1581120" y="2382840"/>
              <a:ext cx="2354040" cy="926640"/>
              <a:chOff x="1581120" y="2382840"/>
              <a:chExt cx="2354040" cy="926640"/>
            </a:xfrm>
          </p:grpSpPr>
          <p:sp>
            <p:nvSpPr>
              <p:cNvPr id="154" name=""/>
              <p:cNvSpPr/>
              <p:nvPr/>
            </p:nvSpPr>
            <p:spPr>
              <a:xfrm>
                <a:off x="1661040" y="2382840"/>
                <a:ext cx="2194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Environmental diseas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Soil eros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Deforest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581120" y="2382840"/>
                <a:ext cx="235404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935520" y="2382840"/>
              <a:ext cx="3982680" cy="926640"/>
              <a:chOff x="3935520" y="2382840"/>
              <a:chExt cx="3982680" cy="926640"/>
            </a:xfrm>
          </p:grpSpPr>
          <p:sp>
            <p:nvSpPr>
              <p:cNvPr id="157" name=""/>
              <p:cNvSpPr/>
              <p:nvPr/>
            </p:nvSpPr>
            <p:spPr>
              <a:xfrm>
                <a:off x="4015080" y="2382840"/>
                <a:ext cx="3823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Hours of labour lost due to environmental diseas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Food productivity loss due to soil erosion, etc.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Reduction in yield (e.g. fish) from water bod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935520" y="2382840"/>
                <a:ext cx="398268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39640" y="3309840"/>
              <a:ext cx="1041120" cy="771120"/>
              <a:chOff x="539640" y="3309840"/>
              <a:chExt cx="1041120" cy="771120"/>
            </a:xfrm>
          </p:grpSpPr>
          <p:sp>
            <p:nvSpPr>
              <p:cNvPr id="160" name=""/>
              <p:cNvSpPr/>
              <p:nvPr/>
            </p:nvSpPr>
            <p:spPr>
              <a:xfrm>
                <a:off x="619560" y="3309840"/>
                <a:ext cx="88128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overt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39640" y="3309840"/>
                <a:ext cx="104112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1581120" y="3309840"/>
              <a:ext cx="2354040" cy="771120"/>
              <a:chOff x="1581120" y="3309840"/>
              <a:chExt cx="2354040" cy="771120"/>
            </a:xfrm>
          </p:grpSpPr>
          <p:sp>
            <p:nvSpPr>
              <p:cNvPr id="163" name=""/>
              <p:cNvSpPr/>
              <p:nvPr/>
            </p:nvSpPr>
            <p:spPr>
              <a:xfrm>
                <a:off x="1661040" y="3309840"/>
                <a:ext cx="219420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Depletion of resource base to meet the basic needs, e.g. foo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81120" y="3309840"/>
                <a:ext cx="235404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3935520" y="3309840"/>
              <a:ext cx="3982680" cy="771120"/>
              <a:chOff x="3935520" y="3309840"/>
              <a:chExt cx="3982680" cy="771120"/>
            </a:xfrm>
          </p:grpSpPr>
          <p:sp>
            <p:nvSpPr>
              <p:cNvPr id="166" name=""/>
              <p:cNvSpPr/>
              <p:nvPr/>
            </p:nvSpPr>
            <p:spPr>
              <a:xfrm>
                <a:off x="4015080" y="3309840"/>
                <a:ext cx="382320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ercentage of labour force affected by resource deple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935520" y="3309840"/>
                <a:ext cx="398268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39640" y="4081320"/>
              <a:ext cx="1041120" cy="1234800"/>
              <a:chOff x="539640" y="4081320"/>
              <a:chExt cx="1041120" cy="1234800"/>
            </a:xfrm>
          </p:grpSpPr>
          <p:sp>
            <p:nvSpPr>
              <p:cNvPr id="169" name=""/>
              <p:cNvSpPr/>
              <p:nvPr/>
            </p:nvSpPr>
            <p:spPr>
              <a:xfrm>
                <a:off x="619560" y="4081320"/>
                <a:ext cx="88128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Food</a:t>
                </a:r>
                <a:r>
                  <a:rPr b="0" lang="en-GB" sz="10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 </a:t>
                </a: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securit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9640" y="4081320"/>
                <a:ext cx="1041120" cy="1234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1581120" y="4081320"/>
              <a:ext cx="2354040" cy="1234800"/>
              <a:chOff x="1581120" y="4081320"/>
              <a:chExt cx="2354040" cy="1234800"/>
            </a:xfrm>
          </p:grpSpPr>
          <p:sp>
            <p:nvSpPr>
              <p:cNvPr id="172" name=""/>
              <p:cNvSpPr/>
              <p:nvPr/>
            </p:nvSpPr>
            <p:spPr>
              <a:xfrm>
                <a:off x="1661040" y="4081320"/>
                <a:ext cx="219420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Loss of natural vegetation and biological diversit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Soil eros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Rainfall amount and distribu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81120" y="4081320"/>
                <a:ext cx="2354040" cy="1234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935520" y="4081320"/>
              <a:ext cx="3982680" cy="1234800"/>
              <a:chOff x="3935520" y="4081320"/>
              <a:chExt cx="3982680" cy="1234800"/>
            </a:xfrm>
          </p:grpSpPr>
          <p:sp>
            <p:nvSpPr>
              <p:cNvPr id="175" name=""/>
              <p:cNvSpPr/>
              <p:nvPr/>
            </p:nvSpPr>
            <p:spPr>
              <a:xfrm>
                <a:off x="4015080" y="4081320"/>
                <a:ext cx="382320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ercentage of natural vegetation cov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Percentage of people directly dependent on land resourc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Extent and distribution of degraded lan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Rainfall amount and variabilit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935520" y="4081320"/>
                <a:ext cx="3982680" cy="1234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539640" y="5316480"/>
              <a:ext cx="1041120" cy="926640"/>
              <a:chOff x="539640" y="5316480"/>
              <a:chExt cx="1041120" cy="926640"/>
            </a:xfrm>
          </p:grpSpPr>
          <p:sp>
            <p:nvSpPr>
              <p:cNvPr id="178" name=""/>
              <p:cNvSpPr/>
              <p:nvPr/>
            </p:nvSpPr>
            <p:spPr>
              <a:xfrm>
                <a:off x="619560" y="5316480"/>
                <a:ext cx="88128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Conflict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39640" y="5316480"/>
                <a:ext cx="104112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581120" y="5316480"/>
              <a:ext cx="2354040" cy="926640"/>
              <a:chOff x="1581120" y="5316480"/>
              <a:chExt cx="2354040" cy="926640"/>
            </a:xfrm>
          </p:grpSpPr>
          <p:sp>
            <p:nvSpPr>
              <p:cNvPr id="181" name=""/>
              <p:cNvSpPr/>
              <p:nvPr/>
            </p:nvSpPr>
            <p:spPr>
              <a:xfrm>
                <a:off x="1661040" y="5316480"/>
                <a:ext cx="2194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Scarcity of wat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Depletion of natural resource bas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81120" y="5316480"/>
                <a:ext cx="235404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3935520" y="5316480"/>
              <a:ext cx="3982680" cy="926640"/>
              <a:chOff x="3935520" y="5316480"/>
              <a:chExt cx="3982680" cy="926640"/>
            </a:xfrm>
          </p:grpSpPr>
          <p:sp>
            <p:nvSpPr>
              <p:cNvPr id="184" name=""/>
              <p:cNvSpPr/>
              <p:nvPr/>
            </p:nvSpPr>
            <p:spPr>
              <a:xfrm>
                <a:off x="4015080" y="5316480"/>
                <a:ext cx="3823200" cy="92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Number of people living in areas where water is scarc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- Number of people dependent on vegetation resourc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935520" y="5316480"/>
                <a:ext cx="3982680" cy="926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57200" y="1143000"/>
              <a:ext cx="7467480" cy="5105520"/>
              <a:chOff x="457200" y="1143000"/>
              <a:chExt cx="7467480" cy="510552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457200" y="1147680"/>
                <a:ext cx="1142640" cy="617400"/>
                <a:chOff x="457200" y="1147680"/>
                <a:chExt cx="1142640" cy="6174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45040" y="1147680"/>
                  <a:ext cx="967320" cy="61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Human Vulnerability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57200" y="1147680"/>
                  <a:ext cx="1142640" cy="61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533520" y="1143000"/>
                <a:ext cx="7391160" cy="510552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What case studies have shown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(see Manual)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ase studies carried out in various communities highly vulnerable to environmental change have shown that in attempting to reduce vulnerability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EA must be included in assessing the problems that arise from environmental change. In some cases (e.g. Darfur region of Sudan), publicity has focused on ethnic conflict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meaningful forum for discussing the development of indicators and policy formulation is useful.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440" y="1066320"/>
            <a:ext cx="7162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7760" indent="-233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couraging demand for reform to introduce measures that will reduce vulnerability to come from within the community has enormous benef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233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quitable contribution of input of ideas including encouraging the socially neglected social groups encourages near total participation in policy formulation, an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233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spect of local ideas and culture encourages the community to feel it owns the policy formula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What case studies… (cont’d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06:30:50Z</dcterms:created>
  <dc:creator>Elijah Munyao</dc:creator>
  <dc:description/>
  <dc:language>en-US</dc:language>
  <cp:lastModifiedBy>Elijah Munyao</cp:lastModifiedBy>
  <dcterms:modified xsi:type="dcterms:W3CDTF">2009-12-21T06:31:40Z</dcterms:modified>
  <cp:revision>2</cp:revision>
  <dc:subject/>
  <dc:title>MODULE 9:  LINKING INTEGRATED ENVIRONMENTAL ASSESSMENT TO POLICY </dc:title>
</cp:coreProperties>
</file>