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417-159D-4915-9A28-43C0D06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424-B6BE-4D31-837C-25B4107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CEC-3E41-441F-8576-6B4EAA9A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ABF-4767-47A9-A367-4F30B64E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17E5-0AD1-40BD-8117-2BCAC6D1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FFF-EDC4-4B9D-986F-EA894D9B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B420-712C-4583-9ECF-AEC807F4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D21-5633-454F-9455-A8C68DB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99A-2C30-48AC-9C0E-8DA3A74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2CA0-0583-47C1-9B6A-9FBC797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F16-0562-44CF-B035-28D4F25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E09-371B-4F6F-81F2-4802C85B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6D49-9095-47B6-AAF1-1BE8ED8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2BD8-74F9-47FC-8A31-0AE6B7B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1848-4869-432F-B54A-099EE484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FB5-3D2C-4884-BC21-E6E1D9F2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3B94-5F55-4BFE-A173-5629078C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727-5951-4017-82FA-CE28DA2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2AE-D814-4DC6-895F-E92A85EE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692-9AE9-433C-8262-24B4595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950-6A81-46EB-BFF7-B482C3E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30A-39F4-4FFA-8384-883FCC2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4FF-8424-41F7-9EBE-BEBF20D1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C80-6EFE-4E6B-ADAF-1CF18F2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C5E-45E1-4A86-847B-8A460210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B73-4ABF-4CA1-AC57-8BCA503CA42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TARGETING A THEME IN ENVIRONMENTAL ASSESSMENT: HUMAN VULNERABILITY DUE TO ENVIRONMENTAL CHAN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focuses on the theme of human vulnerability. It provides a comprehensive example for the many ideas discussed he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gives some potential indicators of human vulnera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uses these indicators to show the importance of providing a forum for public participation in IEA to improve the indicato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llustrates the importance of demand driven initiatives in IEA for sustainable develo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shows the importance of respecting local ideas (including those of the underprivileged) and culture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Concepts of human vulnerability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ing continuously re-defined but degree of vulnerability commonly looked at a continuum from extremely vulnerable to extremely sec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vulnerable communities hav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hoices – relatively low levels of technology and any exposure to hazard may strain cho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ability to adapt to changing environmental  circumstances. Common response to hazards is to expand operations or move to new area which leads to conflict over resources with other commun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political/social/economic power to make own views important: i.e. marginalized in decision ma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ontrol of own destiny. Highly dependent on external intervention and therefore easy to victim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change intensifies vulnerability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r vulnerable communities, environmental chan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s human impact on environmental resourc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roduces shortages they cannot adjust to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akens health due to increased food insecurity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marginalization in decision making and resource allocation, and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their potential for conflict as they migrate in search of new re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equently, assessing human vulnerability to environmental change is important, to provide early warning to catastrophes, especially in Afr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ssessing human vulnerability 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eedback loops exist in human impact on the environment which should be considered in vulnerability asse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s in environment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on human welfare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n response e.g. change in behaviour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eduction of environmental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fails or is ineffective in more vulnerable communities and problem increases without outside inter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munity becomes more and more vulnerable to any extreme event, e.g. drought, fl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food insecurity, poverty, economic losses, poor health, potential for conflicts, all of which have been suggested as potential indicators of vulner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n example of a framework for assessing human vulnerability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44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44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44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72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44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72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44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44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44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44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72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44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44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44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impact on environment (e.g. deforestation, soil e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708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148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vulnerability to environmental change (health, pover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56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cietal commitment to the environment e.g. inves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208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25" name="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7400" y="5562720"/>
              <a:ext cx="114120" cy="206280"/>
            </a:xfrm>
            <a:custGeom>
              <a:avLst/>
              <a:gdLst/>
              <a:ahLst/>
              <a:rect l="l" t="t" r="r" b="b"/>
              <a:pathLst>
                <a:path w="72" h="130">
                  <a:moveTo>
                    <a:pt x="72" y="0"/>
                  </a:moveTo>
                  <a:lnTo>
                    <a:pt x="0" y="66"/>
                  </a:lnTo>
                  <a:lnTo>
                    <a:pt x="72" y="13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28" name="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339228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0" y="0"/>
                  </a:moveTo>
                  <a:lnTo>
                    <a:pt x="37" y="132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ome potential indicators for assessing human vulnerability to environment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35" name="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36" name="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nvironmental cau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39" name="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amples of Indica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al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45" name="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Urban air and water pollu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ercentage of people affected by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51" name="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conomic losses/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gai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54" name="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57" name="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Hours of labour lost due to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Food productivity loss due to soil erosion, etc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in yield (e.g. fish) from water bod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ver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centage of labour force affected by resource deple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ood</a:t>
                </a:r>
                <a:r>
                  <a:rPr b="0" lang="en-GB" sz="10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72" name="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Loss of natural vegetation and biological d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distribu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75" name="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natural vegetation cov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people directly dependent on land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xtent and distribution of degraded l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variabil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c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carcity of wa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84" name="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living in areas where water is scar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dependent on vegetation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Human Vulnerabil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What case studies have show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see Manua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se studies carried out in various communities highly vulnerable to environmental change have shown that in attempting to reduce vulnerabil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must be included in assessing the problems that arise from environmental change. In some cases (e.g. Darfur region of Sudan), publicity has focused on ethnic conflic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meaningful forum for discussing the development of indicators and policy formulation is useful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ing demand for reform to introduce measures that will reduce vulnerability to come from within the community has enormous benef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quitable contribution of input of ideas including encouraging the socially neglected social groups encourages near total participation in policy formulation, an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ect of local ideas and culture encourages the community to feel it owns the policy formul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What case studies…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40Z</dcterms:modified>
  <cp:revision>2</cp:revision>
  <dc:subject/>
  <dc:title>MODULE 9:  LINKING INTEGRATED ENVIRONMENTAL ASSESSMENT TO POLICY </dc:title>
</cp:coreProperties>
</file>