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91FC5-9C3B-4EC3-9390-1CC2008016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30AC0-A364-4E00-9B05-A6B15311D50C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3520E-60AA-4127-B279-2DDDAA72DA42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2F10E-7477-471A-9229-63CF897EA016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51AAC-1A46-4890-9A6A-2E2E27F97730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24D75-6FC1-449D-B013-AA372C5BB581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5FB23-2B65-4E0F-827F-5ACDE82AF711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C3E89-66BA-4A30-B8F4-F098028DD6AC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AFCBA-4EAB-44E3-982E-21EE09E0C5B6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1EF97-0135-4361-BD3A-EC937AF79AF4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15C70-1085-402E-9C44-1372209BE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7467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3160" y="3766680"/>
            <a:ext cx="7467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2281E-EC08-4BD2-AB90-01A6002DA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359600" y="121932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3160" y="376668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359600" y="376668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0AC44-8E11-4DC2-8400-B5FDCE462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2404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58200" y="1219320"/>
            <a:ext cx="2404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583240" y="1219320"/>
            <a:ext cx="2404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3160" y="3766680"/>
            <a:ext cx="2404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58200" y="3766680"/>
            <a:ext cx="2404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583240" y="3766680"/>
            <a:ext cx="2404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9DE1F-83CE-46F8-B7CB-07E7A5071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9FA77-24FD-4D39-B9EB-32B1DB27E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533160" y="1219320"/>
            <a:ext cx="7467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14093-2C4D-4A07-B0E6-7980D9543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7467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4AAF1-028A-495F-BC64-5DE80F299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36439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359600" y="1219320"/>
            <a:ext cx="36439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4FFBB-E52E-4BE8-9978-F591033F6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8CAAD-10BF-4C54-97FD-E7AA9CBD6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990720" y="7632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4E39F-052C-49E7-A848-1F6400E68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59600" y="1219320"/>
            <a:ext cx="36439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33160" y="376668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FE356-4773-4801-8622-F5FC933E5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3160" y="1219320"/>
            <a:ext cx="7467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59CDA-AEA5-438A-8FF2-7CEC3F0B5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36439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359600" y="121932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359600" y="376668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EE126-2E00-420D-BD4F-7BA065550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359600" y="121932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33160" y="3766680"/>
            <a:ext cx="7467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2E92B-26EA-4211-9A74-AFDF42BA2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7467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33160" y="3766680"/>
            <a:ext cx="7467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64C7F-73EA-49E2-A9F6-71695C356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359600" y="121932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33160" y="376668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359600" y="376668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DFACA-9E1D-44FE-90B2-B59DA62B3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2404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058200" y="1219320"/>
            <a:ext cx="2404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583240" y="1219320"/>
            <a:ext cx="2404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33160" y="3766680"/>
            <a:ext cx="2404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058200" y="3766680"/>
            <a:ext cx="2404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583240" y="3766680"/>
            <a:ext cx="2404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5562C-3AC3-45B7-BF6C-D9B9699AC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7467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529B2-3389-4B7A-A736-7F329C940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36439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359600" y="1219320"/>
            <a:ext cx="36439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5E48A-E40B-485B-8093-39C987014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89A37-A0D8-4668-AA2B-E3E1C9976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90720" y="7632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DB6BC-8AB6-474A-B257-C0BE9FE3C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59600" y="1219320"/>
            <a:ext cx="36439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3160" y="376668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6E3C2-84E9-47F8-8B1D-505162656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36439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59600" y="121932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359600" y="376668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2846C-1575-4BBE-B64B-FAC99EDAE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359600" y="121932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3160" y="3766680"/>
            <a:ext cx="7467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DF1C6-A5B9-476A-920A-7AB9F2C30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C6BF4-7F86-4276-B411-DA50B4B321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Object 2"/>
          <p:cNvGraphicFramePr/>
          <p:nvPr/>
        </p:nvGraphicFramePr>
        <p:xfrm>
          <a:off x="0" y="0"/>
          <a:ext cx="9144000" cy="6864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2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686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533160" y="1219320"/>
            <a:ext cx="7467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6600" y="666396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057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94CA8-D7FF-4A55-87B6-EDDB0FFCF0FC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8"/>
          <p:cNvSpPr/>
          <p:nvPr/>
        </p:nvSpPr>
        <p:spPr>
          <a:xfrm rot="16207200">
            <a:off x="-1332360" y="2475360"/>
            <a:ext cx="312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Division Of Early Warning And Assess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9">
            <a:hlinkClick r:id="" action="ppaction://hlinkshowjump?jump=previousslide"/>
          </p:cNvPr>
          <p:cNvSpPr/>
          <p:nvPr/>
        </p:nvSpPr>
        <p:spPr>
          <a:xfrm>
            <a:off x="8648640" y="5638680"/>
            <a:ext cx="304920" cy="228600"/>
          </a:xfrm>
          <a:prstGeom prst="pie">
            <a:avLst/>
          </a:prstGeom>
          <a:gradFill rotWithShape="0">
            <a:gsLst>
              <a:gs pos="0">
                <a:srgbClr val="005e76"/>
              </a:gs>
              <a:gs pos="50000">
                <a:srgbClr val="00ccff"/>
              </a:gs>
              <a:gs pos="100000">
                <a:srgbClr val="005e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Object 10"/>
          <p:cNvGraphicFramePr/>
          <p:nvPr/>
        </p:nvGraphicFramePr>
        <p:xfrm>
          <a:off x="8016840" y="6019920"/>
          <a:ext cx="1127160" cy="8096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1" name="Object 10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016840" y="6019920"/>
                    <a:ext cx="1127160" cy="80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Espace réservé du numéro de diapositive 5"/>
          <p:cNvSpPr/>
          <p:nvPr/>
        </p:nvSpPr>
        <p:spPr>
          <a:xfrm>
            <a:off x="6058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EC1F5-3D76-4F14-9E85-B50BCB288315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520" y="182880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808080"/>
                </a:solidFill>
                <a:latin typeface="Arial Unicode MS"/>
                <a:ea typeface="Arial Unicode MS"/>
              </a:rPr>
              <a:t>MODULE 10:</a:t>
            </a:r>
            <a:br>
              <a:rPr sz="4000"/>
            </a:br>
            <a:br>
              <a:rPr sz="4000"/>
            </a:br>
            <a:r>
              <a:rPr b="1" lang="en-GB" sz="4000" spc="-1" strike="noStrike">
                <a:solidFill>
                  <a:srgbClr val="808080"/>
                </a:solidFill>
                <a:latin typeface="Arial Unicode MS"/>
                <a:ea typeface="Arial Unicode MS"/>
              </a:rPr>
              <a:t>CIBLER UN THEME EN EVALUATION ENVIRONNEMENTALE: VULNERABILITE HUMAINE DUE AU CHANGEMENT ENVIRONMENTAL</a:t>
            </a:r>
            <a:endParaRPr b="1" lang="en-US" sz="40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Espace réservé du numéro de diapositive 5"/>
          <p:cNvSpPr/>
          <p:nvPr/>
        </p:nvSpPr>
        <p:spPr>
          <a:xfrm>
            <a:off x="6058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19755-3E24-4591-95AF-4CAFA78CCF75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040" y="1519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808080"/>
                </a:solidFill>
                <a:latin typeface="Arial"/>
                <a:ea typeface="Times New Roman"/>
              </a:rPr>
              <a:t>Introduction</a:t>
            </a:r>
            <a:r>
              <a:rPr b="1" lang="en-GB" sz="3200" spc="-1" strike="noStrike">
                <a:solidFill>
                  <a:srgbClr val="000000"/>
                </a:solidFill>
                <a:latin typeface="StoneSans-Semibold"/>
                <a:ea typeface="Times New Roman"/>
              </a:rPr>
              <a:t> </a:t>
            </a: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120" y="1143000"/>
            <a:ext cx="7239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Ce module se focalise sur le thème de la vulnérabilité humaine. Il présente plusieurs idées discutées ici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Il présente des indicateurs potentiels de la vulnérabilité humaine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Il utilise ces indicateurs pour montrer l’importance de mettre en place un forum de participation publique à l’EEI pour améliorer les indicateurs 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Il démontre l’importance d’initiatives EEI basées sur la demande, pour le développement durable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Il montre l’importance de respecter les idées et cultures locales (y compris celles des défavorisés)</a:t>
            </a:r>
            <a:r>
              <a:rPr b="0" lang="en-GB" sz="2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Espace réservé du numéro de diapositive 5"/>
          <p:cNvSpPr/>
          <p:nvPr/>
        </p:nvSpPr>
        <p:spPr>
          <a:xfrm>
            <a:off x="6058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BBB4D-19CC-4A55-B073-CCA592640818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040" y="15192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808080"/>
                </a:solidFill>
                <a:latin typeface="Arial Unicode MS"/>
                <a:ea typeface="Times New Roman"/>
              </a:rPr>
              <a:t>Concepts de vulnérabilité humaine</a:t>
            </a: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3152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En constante redéfinition mais implique un progression de la vulnérabilité extreme à la sécurité extre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Les communités plus vulnérables ont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Des choix limités – technologie relativement faible et l’exposition à des dangers peut réduire les choix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Une capacité limitée à s’adapter aux circonstances environnementales changeantes. En réponse aux dangers, l’action est souvent d’étendre les activités ou se déplacer vers de nouvelles zones, ce qui mène à des conflits avec d’autres communautés pour l’accès aux ressources.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Un pouvoir politique/social/économique limité pour se faire entendre (marginalisées dans les prises de décisions)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Un contrôle limité sur leur propre destin. Dépendent fortement d’interventions externes et sont donc facilement victimisées.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Espace réservé du numéro de diapositive 5"/>
          <p:cNvSpPr/>
          <p:nvPr/>
        </p:nvSpPr>
        <p:spPr>
          <a:xfrm>
            <a:off x="6058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BC9E1-4FDC-4F78-9228-ABE46038E76A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808080"/>
                </a:solidFill>
                <a:latin typeface="StoneSans-Semibold"/>
                <a:ea typeface="Times New Roman"/>
              </a:rPr>
              <a:t>Le changement environmental intensifie la vulnérabilité</a:t>
            </a:r>
            <a:r>
              <a:rPr b="1" lang="en-GB" sz="3200" spc="-1" strike="noStrike">
                <a:solidFill>
                  <a:srgbClr val="000000"/>
                </a:solidFill>
                <a:latin typeface="StoneSans-Semibold"/>
                <a:ea typeface="Times New Roman"/>
              </a:rPr>
              <a:t> </a:t>
            </a: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75438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Garamond-Regular"/>
                <a:ea typeface="Times New Roman"/>
              </a:rPr>
              <a:t> </a:t>
            </a:r>
            <a:r>
              <a:rPr b="1" lang="en-GB" sz="2200" spc="-1" strike="noStrike">
                <a:solidFill>
                  <a:srgbClr val="ffffff"/>
                </a:solidFill>
                <a:latin typeface="AGaramond-Regular"/>
                <a:ea typeface="Times New Roman"/>
              </a:rPr>
              <a:t>Pour les communautés</a:t>
            </a:r>
            <a:r>
              <a:rPr b="1" lang="en-GB" sz="2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vulnérables, le changement environnemental: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intensifie l’impact humain sur les ressources environmentales,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Crée des pénuries auxquelles elles sont incapables de s’adapter 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Affaiblit leur santé, du fait de l’insecurité alimentaire croissante,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Empire leur marginalisation dans la prise de décisions et d’attribution des ressources et 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Augmente leur chance d’entrer en conflit, étant donné qu’ils migrent à la recherche de nouvelles ressources.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Par conséquent, pour donner une alerte précoce sur les catastrophes, surtout en Afrique, il est important d’analyser la vulnérabilité humaine face au changement environnemental.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Espace réservé du numéro de diapositive 5"/>
          <p:cNvSpPr/>
          <p:nvPr/>
        </p:nvSpPr>
        <p:spPr>
          <a:xfrm>
            <a:off x="6058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FA8D1-92D7-47E3-B1BB-AFBEC1E71433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040" y="7632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808080"/>
                </a:solidFill>
                <a:latin typeface="Arial Unicode MS"/>
                <a:ea typeface="Times New Roman"/>
              </a:rPr>
              <a:t>Analyser la vulnérabilité humaine</a:t>
            </a: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315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Des liens de rétroaction existent dans la dynamique d’impacts humains sur l’environnement et doivent être pris en compte dans une analyse de la vulnérabilité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Changements environmentaux </a:t>
            </a:r>
            <a:r>
              <a:rPr b="1" lang="en-GB" sz="2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GB" sz="2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impact sur le bien-être humain </a:t>
            </a:r>
            <a:r>
              <a:rPr b="1" lang="en-GB" sz="2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GB" sz="2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réponse humaine ex: changement de comportement </a:t>
            </a:r>
            <a:r>
              <a:rPr b="1" lang="en-GB" sz="2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GB" sz="2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amoindrissement du problème environnementa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Réponse failli ou est sans effet dans des communautés plus vulnerables et le problème s</a:t>
            </a:r>
            <a:r>
              <a:rPr b="1" lang="en-US" sz="2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’accentue sans intervention extérieure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La communauté devient de plus en plus vulnérable à des phénomènes extremes; ex: sécheresse, inondations 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Augmente l’insécurité alimentaire, la pauvreté, les pertes économiques, la mauvaise santé, les conflits potentiels, tous suggérés comme indicateurs potentiels de vulnérabilité.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Espace réservé du numéro de diapositive 5"/>
          <p:cNvSpPr/>
          <p:nvPr/>
        </p:nvSpPr>
        <p:spPr>
          <a:xfrm>
            <a:off x="6058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292D8-002A-4A90-B3FA-C7C124B29C4B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6197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808080"/>
                </a:solidFill>
                <a:latin typeface="Arial Unicode MS"/>
                <a:ea typeface="Times New Roman"/>
              </a:rPr>
              <a:t>Un exemple de cadre analytique de la vulnérabilité humaine</a:t>
            </a: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76964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Rectangle 5"/>
          <p:cNvSpPr/>
          <p:nvPr/>
        </p:nvSpPr>
        <p:spPr>
          <a:xfrm>
            <a:off x="550800" y="2465280"/>
            <a:ext cx="799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6"/>
          <p:cNvSpPr/>
          <p:nvPr/>
        </p:nvSpPr>
        <p:spPr>
          <a:xfrm>
            <a:off x="550800" y="2830680"/>
            <a:ext cx="799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7"/>
          <p:cNvSpPr/>
          <p:nvPr/>
        </p:nvSpPr>
        <p:spPr>
          <a:xfrm>
            <a:off x="550800" y="3193920"/>
            <a:ext cx="799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8"/>
          <p:cNvSpPr/>
          <p:nvPr/>
        </p:nvSpPr>
        <p:spPr>
          <a:xfrm>
            <a:off x="1081080" y="3193920"/>
            <a:ext cx="799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9"/>
          <p:cNvSpPr/>
          <p:nvPr/>
        </p:nvSpPr>
        <p:spPr>
          <a:xfrm>
            <a:off x="550800" y="3559320"/>
            <a:ext cx="799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10"/>
          <p:cNvSpPr/>
          <p:nvPr/>
        </p:nvSpPr>
        <p:spPr>
          <a:xfrm>
            <a:off x="1081080" y="3559320"/>
            <a:ext cx="799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11"/>
          <p:cNvSpPr/>
          <p:nvPr/>
        </p:nvSpPr>
        <p:spPr>
          <a:xfrm>
            <a:off x="550800" y="3924360"/>
            <a:ext cx="799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12"/>
          <p:cNvSpPr/>
          <p:nvPr/>
        </p:nvSpPr>
        <p:spPr>
          <a:xfrm>
            <a:off x="550800" y="4289400"/>
            <a:ext cx="799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13"/>
          <p:cNvSpPr/>
          <p:nvPr/>
        </p:nvSpPr>
        <p:spPr>
          <a:xfrm>
            <a:off x="550800" y="4653000"/>
            <a:ext cx="799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14"/>
          <p:cNvSpPr/>
          <p:nvPr/>
        </p:nvSpPr>
        <p:spPr>
          <a:xfrm>
            <a:off x="550800" y="5018040"/>
            <a:ext cx="799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5"/>
          <p:cNvSpPr/>
          <p:nvPr/>
        </p:nvSpPr>
        <p:spPr>
          <a:xfrm>
            <a:off x="1081080" y="5018040"/>
            <a:ext cx="799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6"/>
          <p:cNvSpPr/>
          <p:nvPr/>
        </p:nvSpPr>
        <p:spPr>
          <a:xfrm>
            <a:off x="550800" y="5383080"/>
            <a:ext cx="799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7"/>
          <p:cNvSpPr/>
          <p:nvPr/>
        </p:nvSpPr>
        <p:spPr>
          <a:xfrm>
            <a:off x="550800" y="5748480"/>
            <a:ext cx="799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8"/>
          <p:cNvSpPr/>
          <p:nvPr/>
        </p:nvSpPr>
        <p:spPr>
          <a:xfrm>
            <a:off x="550800" y="6111720"/>
            <a:ext cx="799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9"/>
          <p:cNvSpPr/>
          <p:nvPr/>
        </p:nvSpPr>
        <p:spPr>
          <a:xfrm>
            <a:off x="533520" y="2666880"/>
            <a:ext cx="3733560" cy="123984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mpact humain sur l’environnement (ex: déforestation, érosion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21"/>
          <p:cNvSpPr/>
          <p:nvPr/>
        </p:nvSpPr>
        <p:spPr>
          <a:xfrm>
            <a:off x="3457440" y="2827440"/>
            <a:ext cx="799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23"/>
          <p:cNvSpPr/>
          <p:nvPr/>
        </p:nvSpPr>
        <p:spPr>
          <a:xfrm>
            <a:off x="3201840" y="3200400"/>
            <a:ext cx="799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24"/>
          <p:cNvSpPr/>
          <p:nvPr/>
        </p:nvSpPr>
        <p:spPr>
          <a:xfrm>
            <a:off x="4495680" y="3619440"/>
            <a:ext cx="3276720" cy="133344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vulnérabilité humaine au changement environmental (santé, pauvreté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25"/>
          <p:cNvSpPr/>
          <p:nvPr/>
        </p:nvSpPr>
        <p:spPr>
          <a:xfrm>
            <a:off x="4267080" y="3657600"/>
            <a:ext cx="24400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28"/>
          <p:cNvSpPr/>
          <p:nvPr/>
        </p:nvSpPr>
        <p:spPr>
          <a:xfrm>
            <a:off x="5560920" y="4454640"/>
            <a:ext cx="799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29"/>
          <p:cNvSpPr/>
          <p:nvPr/>
        </p:nvSpPr>
        <p:spPr>
          <a:xfrm>
            <a:off x="1325520" y="4800600"/>
            <a:ext cx="2789280" cy="125244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ngagement social envers l’environnement ex: investissement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32"/>
          <p:cNvSpPr/>
          <p:nvPr/>
        </p:nvSpPr>
        <p:spPr>
          <a:xfrm>
            <a:off x="3450960" y="5316480"/>
            <a:ext cx="799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33"/>
          <p:cNvSpPr/>
          <p:nvPr/>
        </p:nvSpPr>
        <p:spPr>
          <a:xfrm>
            <a:off x="1252440" y="5681520"/>
            <a:ext cx="799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34"/>
          <p:cNvSpPr/>
          <p:nvPr/>
        </p:nvSpPr>
        <p:spPr>
          <a:xfrm>
            <a:off x="4267080" y="3124080"/>
            <a:ext cx="197028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35"/>
          <p:cNvSpPr/>
          <p:nvPr/>
        </p:nvSpPr>
        <p:spPr>
          <a:xfrm>
            <a:off x="6246720" y="4952880"/>
            <a:ext cx="1800" cy="7146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Group 43"/>
          <p:cNvGrpSpPr/>
          <p:nvPr/>
        </p:nvGrpSpPr>
        <p:grpSpPr>
          <a:xfrm>
            <a:off x="4127400" y="5562720"/>
            <a:ext cx="2120400" cy="206280"/>
            <a:chOff x="4127400" y="5562720"/>
            <a:chExt cx="2120400" cy="206280"/>
          </a:xfrm>
        </p:grpSpPr>
        <p:sp>
          <p:nvSpPr>
            <p:cNvPr id="138" name="Line 41"/>
            <p:cNvSpPr/>
            <p:nvPr/>
          </p:nvSpPr>
          <p:spPr>
            <a:xfrm flipH="1">
              <a:off x="4236480" y="5664240"/>
              <a:ext cx="2011320" cy="1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42"/>
            <p:cNvSpPr/>
            <p:nvPr/>
          </p:nvSpPr>
          <p:spPr>
            <a:xfrm>
              <a:off x="4127400" y="5562720"/>
              <a:ext cx="114120" cy="206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Group 46"/>
          <p:cNvGrpSpPr/>
          <p:nvPr/>
        </p:nvGrpSpPr>
        <p:grpSpPr>
          <a:xfrm>
            <a:off x="6172200" y="3124080"/>
            <a:ext cx="115920" cy="477720"/>
            <a:chOff x="6172200" y="3124080"/>
            <a:chExt cx="115920" cy="477720"/>
          </a:xfrm>
        </p:grpSpPr>
        <p:sp>
          <p:nvSpPr>
            <p:cNvPr id="141" name="Line 44"/>
            <p:cNvSpPr/>
            <p:nvPr/>
          </p:nvSpPr>
          <p:spPr>
            <a:xfrm>
              <a:off x="6229080" y="3124080"/>
              <a:ext cx="1800" cy="2746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45"/>
            <p:cNvSpPr/>
            <p:nvPr/>
          </p:nvSpPr>
          <p:spPr>
            <a:xfrm>
              <a:off x="6172200" y="3392280"/>
              <a:ext cx="115920" cy="209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Line 47"/>
          <p:cNvSpPr/>
          <p:nvPr/>
        </p:nvSpPr>
        <p:spPr>
          <a:xfrm flipV="1">
            <a:off x="2133720" y="3962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Espace réservé du numéro de diapositive 4"/>
          <p:cNvSpPr/>
          <p:nvPr/>
        </p:nvSpPr>
        <p:spPr>
          <a:xfrm>
            <a:off x="6058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AD5A9-8C75-44FD-825E-5FD613A0678C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1217"/>
          <p:cNvSpPr/>
          <p:nvPr/>
        </p:nvSpPr>
        <p:spPr>
          <a:xfrm>
            <a:off x="0" y="15084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1275"/>
          <p:cNvSpPr/>
          <p:nvPr/>
        </p:nvSpPr>
        <p:spPr>
          <a:xfrm>
            <a:off x="0" y="609912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1276"/>
          <p:cNvSpPr/>
          <p:nvPr/>
        </p:nvSpPr>
        <p:spPr>
          <a:xfrm>
            <a:off x="914400" y="0"/>
            <a:ext cx="89917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Arial"/>
                <a:ea typeface="Times New Roman"/>
              </a:rPr>
              <a:t>Des indicateurs potentiels pour analyser la vulnérabilité humaine face au changement environneme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Group 1336"/>
          <p:cNvGrpSpPr/>
          <p:nvPr/>
        </p:nvGrpSpPr>
        <p:grpSpPr>
          <a:xfrm>
            <a:off x="457200" y="1143000"/>
            <a:ext cx="7467480" cy="5105520"/>
            <a:chOff x="457200" y="1143000"/>
            <a:chExt cx="7467480" cy="5105520"/>
          </a:xfrm>
        </p:grpSpPr>
        <p:grpSp>
          <p:nvGrpSpPr>
            <p:cNvPr id="149" name="Group 1283"/>
            <p:cNvGrpSpPr/>
            <p:nvPr/>
          </p:nvGrpSpPr>
          <p:grpSpPr>
            <a:xfrm>
              <a:off x="1581120" y="1147680"/>
              <a:ext cx="2354040" cy="617400"/>
              <a:chOff x="1581120" y="1147680"/>
              <a:chExt cx="2354040" cy="617400"/>
            </a:xfrm>
          </p:grpSpPr>
          <p:sp>
            <p:nvSpPr>
              <p:cNvPr id="150" name="Rectangle 1284"/>
              <p:cNvSpPr/>
              <p:nvPr/>
            </p:nvSpPr>
            <p:spPr>
              <a:xfrm>
                <a:off x="1661040" y="1147680"/>
                <a:ext cx="2194200" cy="61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100" spc="-1" strike="noStrike">
                    <a:solidFill>
                      <a:srgbClr val="ffffff"/>
                    </a:solidFill>
                    <a:latin typeface="Arial Unicode MS"/>
                    <a:ea typeface="Arial Unicode MS"/>
                  </a:rPr>
                  <a:t>Causes environmentales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Rectangle 1285"/>
              <p:cNvSpPr/>
              <p:nvPr/>
            </p:nvSpPr>
            <p:spPr>
              <a:xfrm>
                <a:off x="1581120" y="1147680"/>
                <a:ext cx="2354040" cy="61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" name="Group 1286"/>
            <p:cNvGrpSpPr/>
            <p:nvPr/>
          </p:nvGrpSpPr>
          <p:grpSpPr>
            <a:xfrm>
              <a:off x="3935520" y="1147680"/>
              <a:ext cx="3982680" cy="617400"/>
              <a:chOff x="3935520" y="1147680"/>
              <a:chExt cx="3982680" cy="617400"/>
            </a:xfrm>
          </p:grpSpPr>
          <p:sp>
            <p:nvSpPr>
              <p:cNvPr id="153" name="Rectangle 1287"/>
              <p:cNvSpPr/>
              <p:nvPr/>
            </p:nvSpPr>
            <p:spPr>
              <a:xfrm>
                <a:off x="4015080" y="1147680"/>
                <a:ext cx="3823200" cy="61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100" spc="-1" strike="noStrike">
                    <a:solidFill>
                      <a:srgbClr val="ffffff"/>
                    </a:solidFill>
                    <a:latin typeface="Arial Unicode MS"/>
                    <a:ea typeface="Arial Unicode MS"/>
                  </a:rPr>
                  <a:t>Exemples d’indicateurs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Rectangle 1288"/>
              <p:cNvSpPr/>
              <p:nvPr/>
            </p:nvSpPr>
            <p:spPr>
              <a:xfrm>
                <a:off x="3935520" y="1147680"/>
                <a:ext cx="3982680" cy="61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5" name="Group 1289"/>
            <p:cNvGrpSpPr/>
            <p:nvPr/>
          </p:nvGrpSpPr>
          <p:grpSpPr>
            <a:xfrm>
              <a:off x="539640" y="1765440"/>
              <a:ext cx="1041120" cy="617040"/>
              <a:chOff x="539640" y="1765440"/>
              <a:chExt cx="1041120" cy="617040"/>
            </a:xfrm>
          </p:grpSpPr>
          <p:sp>
            <p:nvSpPr>
              <p:cNvPr id="156" name="Rectangle 1290"/>
              <p:cNvSpPr/>
              <p:nvPr/>
            </p:nvSpPr>
            <p:spPr>
              <a:xfrm>
                <a:off x="619560" y="1765440"/>
                <a:ext cx="881280" cy="61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100" spc="-1" strike="noStrike">
                    <a:solidFill>
                      <a:srgbClr val="ffffff"/>
                    </a:solidFill>
                    <a:latin typeface="Arial Unicode MS"/>
                    <a:ea typeface="Arial Unicode MS"/>
                  </a:rPr>
                  <a:t>Santé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Rectangle 1291"/>
              <p:cNvSpPr/>
              <p:nvPr/>
            </p:nvSpPr>
            <p:spPr>
              <a:xfrm>
                <a:off x="539640" y="1765440"/>
                <a:ext cx="1041120" cy="6170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8" name="Group 1292"/>
            <p:cNvGrpSpPr/>
            <p:nvPr/>
          </p:nvGrpSpPr>
          <p:grpSpPr>
            <a:xfrm>
              <a:off x="1581120" y="1765440"/>
              <a:ext cx="2354040" cy="617040"/>
              <a:chOff x="1581120" y="1765440"/>
              <a:chExt cx="2354040" cy="617040"/>
            </a:xfrm>
          </p:grpSpPr>
          <p:sp>
            <p:nvSpPr>
              <p:cNvPr id="159" name="Rectangle 1293"/>
              <p:cNvSpPr/>
              <p:nvPr/>
            </p:nvSpPr>
            <p:spPr>
              <a:xfrm>
                <a:off x="1661040" y="1765440"/>
                <a:ext cx="2194200" cy="61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100" spc="-1" strike="noStrike">
                    <a:solidFill>
                      <a:srgbClr val="ffffff"/>
                    </a:solidFill>
                    <a:latin typeface="Arial Unicode MS"/>
                    <a:ea typeface="Arial Unicode MS"/>
                  </a:rPr>
                  <a:t>- qualité de l’air urbain et pollution de l’eau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Rectangle 1294"/>
              <p:cNvSpPr/>
              <p:nvPr/>
            </p:nvSpPr>
            <p:spPr>
              <a:xfrm>
                <a:off x="1581120" y="1765440"/>
                <a:ext cx="2354040" cy="6170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" name="Group 1295"/>
            <p:cNvGrpSpPr/>
            <p:nvPr/>
          </p:nvGrpSpPr>
          <p:grpSpPr>
            <a:xfrm>
              <a:off x="3935520" y="1765440"/>
              <a:ext cx="3982680" cy="617040"/>
              <a:chOff x="3935520" y="1765440"/>
              <a:chExt cx="3982680" cy="617040"/>
            </a:xfrm>
          </p:grpSpPr>
          <p:sp>
            <p:nvSpPr>
              <p:cNvPr id="162" name="Rectangle 1296"/>
              <p:cNvSpPr/>
              <p:nvPr/>
            </p:nvSpPr>
            <p:spPr>
              <a:xfrm>
                <a:off x="4015080" y="1765440"/>
                <a:ext cx="3823200" cy="61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100" spc="-1" strike="noStrike">
                    <a:solidFill>
                      <a:srgbClr val="ffffff"/>
                    </a:solidFill>
                    <a:latin typeface="StoneSans"/>
                    <a:ea typeface="Arial"/>
                  </a:rPr>
                  <a:t>- Pourcentage de personnes infect</a:t>
                </a:r>
                <a:r>
                  <a:rPr b="0" lang="en-GB" sz="1100" spc="-1" strike="noStrike">
                    <a:solidFill>
                      <a:srgbClr val="ffffff"/>
                    </a:solidFill>
                    <a:latin typeface="Times New Roman"/>
                    <a:ea typeface="Arial"/>
                  </a:rPr>
                  <a:t>é</a:t>
                </a:r>
                <a:r>
                  <a:rPr b="0" lang="en-GB" sz="1100" spc="-1" strike="noStrike">
                    <a:solidFill>
                      <a:srgbClr val="ffffff"/>
                    </a:solidFill>
                    <a:latin typeface="StoneSans"/>
                    <a:ea typeface="Arial"/>
                  </a:rPr>
                  <a:t>es par les maladies environnementales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Rectangle 1297"/>
              <p:cNvSpPr/>
              <p:nvPr/>
            </p:nvSpPr>
            <p:spPr>
              <a:xfrm>
                <a:off x="3935520" y="1765440"/>
                <a:ext cx="3982680" cy="6170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4" name="Group 1298"/>
            <p:cNvGrpSpPr/>
            <p:nvPr/>
          </p:nvGrpSpPr>
          <p:grpSpPr>
            <a:xfrm>
              <a:off x="539640" y="2382840"/>
              <a:ext cx="1041120" cy="926640"/>
              <a:chOff x="539640" y="2382840"/>
              <a:chExt cx="1041120" cy="926640"/>
            </a:xfrm>
          </p:grpSpPr>
          <p:sp>
            <p:nvSpPr>
              <p:cNvPr id="165" name="Rectangle 1299"/>
              <p:cNvSpPr/>
              <p:nvPr/>
            </p:nvSpPr>
            <p:spPr>
              <a:xfrm>
                <a:off x="619560" y="2382840"/>
                <a:ext cx="881280" cy="926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100" spc="-1" strike="noStrike">
                    <a:solidFill>
                      <a:srgbClr val="ffffff"/>
                    </a:solidFill>
                    <a:latin typeface="Arial Unicode MS"/>
                    <a:ea typeface="Arial Unicode MS"/>
                  </a:rPr>
                  <a:t>Pertes/gains économiques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Rectangle 1300"/>
              <p:cNvSpPr/>
              <p:nvPr/>
            </p:nvSpPr>
            <p:spPr>
              <a:xfrm>
                <a:off x="539640" y="2382840"/>
                <a:ext cx="1041120" cy="9266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7" name="Group 1301"/>
            <p:cNvGrpSpPr/>
            <p:nvPr/>
          </p:nvGrpSpPr>
          <p:grpSpPr>
            <a:xfrm>
              <a:off x="1581120" y="2382840"/>
              <a:ext cx="2354040" cy="926640"/>
              <a:chOff x="1581120" y="2382840"/>
              <a:chExt cx="2354040" cy="926640"/>
            </a:xfrm>
          </p:grpSpPr>
          <p:sp>
            <p:nvSpPr>
              <p:cNvPr id="168" name="Rectangle 1302"/>
              <p:cNvSpPr/>
              <p:nvPr/>
            </p:nvSpPr>
            <p:spPr>
              <a:xfrm>
                <a:off x="1661040" y="2382840"/>
                <a:ext cx="2194200" cy="926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100" spc="-1" strike="noStrike">
                    <a:solidFill>
                      <a:srgbClr val="ffffff"/>
                    </a:solidFill>
                    <a:latin typeface="Arial Unicode MS"/>
                    <a:ea typeface="Arial Unicode MS"/>
                  </a:rPr>
                  <a:t>- Maladies environmentales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100" spc="-1" strike="noStrike">
                    <a:solidFill>
                      <a:srgbClr val="ffffff"/>
                    </a:solidFill>
                    <a:latin typeface="Arial Unicode MS"/>
                    <a:ea typeface="Arial Unicode MS"/>
                  </a:rPr>
                  <a:t>- Erosion des sols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100" spc="-1" strike="noStrike">
                    <a:solidFill>
                      <a:srgbClr val="ffffff"/>
                    </a:solidFill>
                    <a:latin typeface="Arial Unicode MS"/>
                    <a:ea typeface="Arial Unicode MS"/>
                  </a:rPr>
                  <a:t>- Déforestation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Rectangle 1303"/>
              <p:cNvSpPr/>
              <p:nvPr/>
            </p:nvSpPr>
            <p:spPr>
              <a:xfrm>
                <a:off x="1581120" y="2382840"/>
                <a:ext cx="2354040" cy="9266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0" name="Group 1304"/>
            <p:cNvGrpSpPr/>
            <p:nvPr/>
          </p:nvGrpSpPr>
          <p:grpSpPr>
            <a:xfrm>
              <a:off x="3935520" y="2382840"/>
              <a:ext cx="3982680" cy="926640"/>
              <a:chOff x="3935520" y="2382840"/>
              <a:chExt cx="3982680" cy="926640"/>
            </a:xfrm>
          </p:grpSpPr>
          <p:sp>
            <p:nvSpPr>
              <p:cNvPr id="171" name="Rectangle 1305"/>
              <p:cNvSpPr/>
              <p:nvPr/>
            </p:nvSpPr>
            <p:spPr>
              <a:xfrm>
                <a:off x="4015080" y="2382840"/>
                <a:ext cx="3823200" cy="926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buClr>
                    <a:srgbClr val="ffffff"/>
                  </a:buClr>
                  <a:buFont typeface="Arial Unicode MS"/>
                  <a:buChar char="-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100" spc="-1" strike="noStrike">
                    <a:solidFill>
                      <a:srgbClr val="ffffff"/>
                    </a:solidFill>
                    <a:latin typeface="Arial Unicode MS"/>
                    <a:ea typeface="Arial Unicode MS"/>
                  </a:rPr>
                  <a:t>Heures de travail perdues à cause des maladies environnementales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buClr>
                    <a:srgbClr val="ffffff"/>
                  </a:buClr>
                  <a:buFont typeface="Arial Unicode MS"/>
                  <a:buChar char="-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100" spc="-1" strike="noStrike">
                    <a:solidFill>
                      <a:srgbClr val="ffffff"/>
                    </a:solidFill>
                    <a:latin typeface="Arial Unicode MS"/>
                    <a:ea typeface="Arial Unicode MS"/>
                  </a:rPr>
                  <a:t> </a:t>
                </a:r>
                <a:r>
                  <a:rPr b="0" lang="en-GB" sz="1100" spc="-1" strike="noStrike">
                    <a:solidFill>
                      <a:srgbClr val="ffffff"/>
                    </a:solidFill>
                    <a:latin typeface="Arial Unicode MS"/>
                    <a:ea typeface="Arial Unicode MS"/>
                  </a:rPr>
                  <a:t>Perte de productivite agricole due a l’erosion, etc.  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100" spc="-1" strike="noStrike">
                    <a:solidFill>
                      <a:srgbClr val="ffffff"/>
                    </a:solidFill>
                    <a:latin typeface="Arial Unicode MS"/>
                    <a:ea typeface="Arial Unicode MS"/>
                  </a:rPr>
                  <a:t>- Reduction du rendement (ex: poissons) des eaux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Rectangle 1306"/>
              <p:cNvSpPr/>
              <p:nvPr/>
            </p:nvSpPr>
            <p:spPr>
              <a:xfrm>
                <a:off x="3935520" y="2382840"/>
                <a:ext cx="3982680" cy="9266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" name="Group 1307"/>
            <p:cNvGrpSpPr/>
            <p:nvPr/>
          </p:nvGrpSpPr>
          <p:grpSpPr>
            <a:xfrm>
              <a:off x="539640" y="3309840"/>
              <a:ext cx="1041120" cy="771120"/>
              <a:chOff x="539640" y="3309840"/>
              <a:chExt cx="1041120" cy="771120"/>
            </a:xfrm>
          </p:grpSpPr>
          <p:sp>
            <p:nvSpPr>
              <p:cNvPr id="174" name="Rectangle 1308"/>
              <p:cNvSpPr/>
              <p:nvPr/>
            </p:nvSpPr>
            <p:spPr>
              <a:xfrm>
                <a:off x="619560" y="3309840"/>
                <a:ext cx="881280" cy="77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100" spc="-1" strike="noStrike">
                    <a:solidFill>
                      <a:srgbClr val="ffffff"/>
                    </a:solidFill>
                    <a:latin typeface="Arial Unicode MS"/>
                    <a:ea typeface="Arial Unicode MS"/>
                  </a:rPr>
                  <a:t>Pauvrete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Rectangle 1309"/>
              <p:cNvSpPr/>
              <p:nvPr/>
            </p:nvSpPr>
            <p:spPr>
              <a:xfrm>
                <a:off x="539640" y="3309840"/>
                <a:ext cx="1041120" cy="7711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" name="Group 1310"/>
            <p:cNvGrpSpPr/>
            <p:nvPr/>
          </p:nvGrpSpPr>
          <p:grpSpPr>
            <a:xfrm>
              <a:off x="1581120" y="3309840"/>
              <a:ext cx="2354040" cy="771120"/>
              <a:chOff x="1581120" y="3309840"/>
              <a:chExt cx="2354040" cy="771120"/>
            </a:xfrm>
          </p:grpSpPr>
          <p:sp>
            <p:nvSpPr>
              <p:cNvPr id="177" name="Rectangle 1311"/>
              <p:cNvSpPr/>
              <p:nvPr/>
            </p:nvSpPr>
            <p:spPr>
              <a:xfrm>
                <a:off x="1661040" y="3309840"/>
                <a:ext cx="2194200" cy="77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100" spc="-1" strike="noStrike">
                    <a:solidFill>
                      <a:srgbClr val="ffffff"/>
                    </a:solidFill>
                    <a:latin typeface="Arial Unicode MS"/>
                    <a:ea typeface="Arial Unicode MS"/>
                  </a:rPr>
                  <a:t>- Depletion of resource base to meet the basic needs, e.g. food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Rectangle 1312"/>
              <p:cNvSpPr/>
              <p:nvPr/>
            </p:nvSpPr>
            <p:spPr>
              <a:xfrm>
                <a:off x="1581120" y="3309840"/>
                <a:ext cx="2354040" cy="7711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9" name="Group 1313"/>
            <p:cNvGrpSpPr/>
            <p:nvPr/>
          </p:nvGrpSpPr>
          <p:grpSpPr>
            <a:xfrm>
              <a:off x="3935520" y="3309840"/>
              <a:ext cx="3982680" cy="771120"/>
              <a:chOff x="3935520" y="3309840"/>
              <a:chExt cx="3982680" cy="771120"/>
            </a:xfrm>
          </p:grpSpPr>
          <p:sp>
            <p:nvSpPr>
              <p:cNvPr id="180" name="Rectangle 1314"/>
              <p:cNvSpPr/>
              <p:nvPr/>
            </p:nvSpPr>
            <p:spPr>
              <a:xfrm>
                <a:off x="4015080" y="3309840"/>
                <a:ext cx="3823200" cy="77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100" spc="-1" strike="noStrike">
                    <a:solidFill>
                      <a:srgbClr val="ffffff"/>
                    </a:solidFill>
                    <a:latin typeface="Arial Unicode MS"/>
                    <a:ea typeface="Arial Unicode MS"/>
                  </a:rPr>
                  <a:t>Pourcentage de la main d’oeuvre affecte par la reduction des ressources 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Rectangle 1315"/>
              <p:cNvSpPr/>
              <p:nvPr/>
            </p:nvSpPr>
            <p:spPr>
              <a:xfrm>
                <a:off x="3935520" y="3309840"/>
                <a:ext cx="3982680" cy="7711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2" name="Group 1316"/>
            <p:cNvGrpSpPr/>
            <p:nvPr/>
          </p:nvGrpSpPr>
          <p:grpSpPr>
            <a:xfrm>
              <a:off x="539640" y="4081320"/>
              <a:ext cx="1041120" cy="1234800"/>
              <a:chOff x="539640" y="4081320"/>
              <a:chExt cx="1041120" cy="1234800"/>
            </a:xfrm>
          </p:grpSpPr>
          <p:sp>
            <p:nvSpPr>
              <p:cNvPr id="183" name="Rectangle 1317"/>
              <p:cNvSpPr/>
              <p:nvPr/>
            </p:nvSpPr>
            <p:spPr>
              <a:xfrm>
                <a:off x="619560" y="4081320"/>
                <a:ext cx="881280" cy="123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100" spc="-1" strike="noStrike">
                    <a:solidFill>
                      <a:srgbClr val="ffffff"/>
                    </a:solidFill>
                    <a:latin typeface="Arial Unicode MS"/>
                    <a:ea typeface="Arial Unicode MS"/>
                  </a:rPr>
                  <a:t>Securite alimentaire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Rectangle 1318"/>
              <p:cNvSpPr/>
              <p:nvPr/>
            </p:nvSpPr>
            <p:spPr>
              <a:xfrm>
                <a:off x="539640" y="4081320"/>
                <a:ext cx="1041120" cy="1234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" name="Group 1319"/>
            <p:cNvGrpSpPr/>
            <p:nvPr/>
          </p:nvGrpSpPr>
          <p:grpSpPr>
            <a:xfrm>
              <a:off x="1581120" y="4081320"/>
              <a:ext cx="2354040" cy="1234800"/>
              <a:chOff x="1581120" y="4081320"/>
              <a:chExt cx="2354040" cy="1234800"/>
            </a:xfrm>
          </p:grpSpPr>
          <p:sp>
            <p:nvSpPr>
              <p:cNvPr id="186" name="Rectangle 1320"/>
              <p:cNvSpPr/>
              <p:nvPr/>
            </p:nvSpPr>
            <p:spPr>
              <a:xfrm>
                <a:off x="1661040" y="4081320"/>
                <a:ext cx="2194200" cy="123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100" spc="-1" strike="noStrike">
                    <a:solidFill>
                      <a:srgbClr val="ffffff"/>
                    </a:solidFill>
                    <a:latin typeface="Arial Unicode MS"/>
                    <a:ea typeface="Arial Unicode MS"/>
                  </a:rPr>
                  <a:t>- Perte de vegétat ion naturelle et de diversite biologique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100" spc="-1" strike="noStrike">
                    <a:solidFill>
                      <a:srgbClr val="ffffff"/>
                    </a:solidFill>
                    <a:latin typeface="Arial Unicode MS"/>
                    <a:ea typeface="Arial Unicode MS"/>
                  </a:rPr>
                  <a:t>- Erosion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100" spc="-1" strike="noStrike">
                    <a:solidFill>
                      <a:srgbClr val="ffffff"/>
                    </a:solidFill>
                    <a:latin typeface="Arial Unicode MS"/>
                    <a:ea typeface="Arial Unicode MS"/>
                  </a:rPr>
                  <a:t>- Quantite et repartition d’eau de pluie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Rectangle 1321"/>
              <p:cNvSpPr/>
              <p:nvPr/>
            </p:nvSpPr>
            <p:spPr>
              <a:xfrm>
                <a:off x="1581120" y="4081320"/>
                <a:ext cx="2354040" cy="1234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8" name="Group 1322"/>
            <p:cNvGrpSpPr/>
            <p:nvPr/>
          </p:nvGrpSpPr>
          <p:grpSpPr>
            <a:xfrm>
              <a:off x="3935520" y="4081320"/>
              <a:ext cx="3982680" cy="1234800"/>
              <a:chOff x="3935520" y="4081320"/>
              <a:chExt cx="3982680" cy="1234800"/>
            </a:xfrm>
          </p:grpSpPr>
          <p:sp>
            <p:nvSpPr>
              <p:cNvPr id="189" name="Rectangle 1323"/>
              <p:cNvSpPr/>
              <p:nvPr/>
            </p:nvSpPr>
            <p:spPr>
              <a:xfrm>
                <a:off x="4015080" y="4081320"/>
                <a:ext cx="3823200" cy="123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100" spc="-1" strike="noStrike">
                    <a:solidFill>
                      <a:srgbClr val="ffffff"/>
                    </a:solidFill>
                    <a:latin typeface="Arial Unicode MS"/>
                    <a:ea typeface="Arial Unicode MS"/>
                  </a:rPr>
                  <a:t>- Pourcentage de couverture vegetale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100" spc="-1" strike="noStrike">
                    <a:solidFill>
                      <a:srgbClr val="ffffff"/>
                    </a:solidFill>
                    <a:latin typeface="Arial Unicode MS"/>
                    <a:ea typeface="Arial Unicode MS"/>
                  </a:rPr>
                  <a:t>- Pourcentage de personnes dependant directement des ressources terrestres 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100" spc="-1" strike="noStrike">
                    <a:solidFill>
                      <a:srgbClr val="ffffff"/>
                    </a:solidFill>
                    <a:latin typeface="Arial Unicode MS"/>
                    <a:ea typeface="Arial Unicode MS"/>
                  </a:rPr>
                  <a:t>- Etendue et repartition des terres degradees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100" spc="-1" strike="noStrike">
                    <a:solidFill>
                      <a:srgbClr val="ffffff"/>
                    </a:solidFill>
                    <a:latin typeface="Arial Unicode MS"/>
                    <a:ea typeface="Arial Unicode MS"/>
                  </a:rPr>
                  <a:t>- Quantite et variabilite des eaux de pluie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Rectangle 1324"/>
              <p:cNvSpPr/>
              <p:nvPr/>
            </p:nvSpPr>
            <p:spPr>
              <a:xfrm>
                <a:off x="3935520" y="4081320"/>
                <a:ext cx="3982680" cy="1234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1" name="Group 1325"/>
            <p:cNvGrpSpPr/>
            <p:nvPr/>
          </p:nvGrpSpPr>
          <p:grpSpPr>
            <a:xfrm>
              <a:off x="539640" y="5316480"/>
              <a:ext cx="1041120" cy="926640"/>
              <a:chOff x="539640" y="5316480"/>
              <a:chExt cx="1041120" cy="926640"/>
            </a:xfrm>
          </p:grpSpPr>
          <p:sp>
            <p:nvSpPr>
              <p:cNvPr id="192" name="Rectangle 1326"/>
              <p:cNvSpPr/>
              <p:nvPr/>
            </p:nvSpPr>
            <p:spPr>
              <a:xfrm>
                <a:off x="619560" y="5316480"/>
                <a:ext cx="881280" cy="926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100" spc="-1" strike="noStrike">
                    <a:solidFill>
                      <a:srgbClr val="ffffff"/>
                    </a:solidFill>
                    <a:latin typeface="Arial Unicode MS"/>
                    <a:ea typeface="Arial Unicode MS"/>
                  </a:rPr>
                  <a:t>Conflits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Rectangle 1327"/>
              <p:cNvSpPr/>
              <p:nvPr/>
            </p:nvSpPr>
            <p:spPr>
              <a:xfrm>
                <a:off x="539640" y="5316480"/>
                <a:ext cx="1041120" cy="9266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4" name="Group 1328"/>
            <p:cNvGrpSpPr/>
            <p:nvPr/>
          </p:nvGrpSpPr>
          <p:grpSpPr>
            <a:xfrm>
              <a:off x="1581120" y="5316480"/>
              <a:ext cx="2354040" cy="926640"/>
              <a:chOff x="1581120" y="5316480"/>
              <a:chExt cx="2354040" cy="926640"/>
            </a:xfrm>
          </p:grpSpPr>
          <p:sp>
            <p:nvSpPr>
              <p:cNvPr id="195" name="Rectangle 1329"/>
              <p:cNvSpPr/>
              <p:nvPr/>
            </p:nvSpPr>
            <p:spPr>
              <a:xfrm>
                <a:off x="1661040" y="5316480"/>
                <a:ext cx="2194200" cy="926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100" spc="-1" strike="noStrike">
                    <a:solidFill>
                      <a:srgbClr val="ffffff"/>
                    </a:solidFill>
                    <a:latin typeface="Arial Unicode MS"/>
                    <a:ea typeface="Arial Unicode MS"/>
                  </a:rPr>
                  <a:t>- Penurie d’eau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100" spc="-1" strike="noStrike">
                    <a:solidFill>
                      <a:srgbClr val="ffffff"/>
                    </a:solidFill>
                    <a:latin typeface="Arial Unicode MS"/>
                    <a:ea typeface="Arial Unicode MS"/>
                  </a:rPr>
                  <a:t>- Depletion of natural resource base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Rectangle 1330"/>
              <p:cNvSpPr/>
              <p:nvPr/>
            </p:nvSpPr>
            <p:spPr>
              <a:xfrm>
                <a:off x="1581120" y="5316480"/>
                <a:ext cx="2354040" cy="9266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7" name="Group 1331"/>
            <p:cNvGrpSpPr/>
            <p:nvPr/>
          </p:nvGrpSpPr>
          <p:grpSpPr>
            <a:xfrm>
              <a:off x="3935520" y="5316480"/>
              <a:ext cx="3982680" cy="926640"/>
              <a:chOff x="3935520" y="5316480"/>
              <a:chExt cx="3982680" cy="926640"/>
            </a:xfrm>
          </p:grpSpPr>
          <p:sp>
            <p:nvSpPr>
              <p:cNvPr id="198" name="Rectangle 1332"/>
              <p:cNvSpPr/>
              <p:nvPr/>
            </p:nvSpPr>
            <p:spPr>
              <a:xfrm>
                <a:off x="4015080" y="5316480"/>
                <a:ext cx="3823200" cy="926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100" spc="-1" strike="noStrike">
                    <a:solidFill>
                      <a:srgbClr val="ffffff"/>
                    </a:solidFill>
                    <a:latin typeface="Arial Unicode MS"/>
                    <a:ea typeface="Arial Unicode MS"/>
                  </a:rPr>
                  <a:t>- Nombre de personnes vivant dans des zones ou l’eau est rare 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100" spc="-1" strike="noStrike">
                    <a:solidFill>
                      <a:srgbClr val="ffffff"/>
                    </a:solidFill>
                    <a:latin typeface="Arial Unicode MS"/>
                    <a:ea typeface="Arial Unicode MS"/>
                  </a:rPr>
                  <a:t>- Nombre de personnes dependantes des ressources vegetales 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Rectangle 1333"/>
              <p:cNvSpPr/>
              <p:nvPr/>
            </p:nvSpPr>
            <p:spPr>
              <a:xfrm>
                <a:off x="3935520" y="5316480"/>
                <a:ext cx="3982680" cy="9266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0" name="Group 1335"/>
            <p:cNvGrpSpPr/>
            <p:nvPr/>
          </p:nvGrpSpPr>
          <p:grpSpPr>
            <a:xfrm>
              <a:off x="457200" y="1143000"/>
              <a:ext cx="7467480" cy="5105520"/>
              <a:chOff x="457200" y="1143000"/>
              <a:chExt cx="7467480" cy="5105520"/>
            </a:xfrm>
          </p:grpSpPr>
          <p:grpSp>
            <p:nvGrpSpPr>
              <p:cNvPr id="201" name="Group 1280"/>
              <p:cNvGrpSpPr/>
              <p:nvPr/>
            </p:nvGrpSpPr>
            <p:grpSpPr>
              <a:xfrm>
                <a:off x="457200" y="1147680"/>
                <a:ext cx="1142640" cy="617400"/>
                <a:chOff x="457200" y="1147680"/>
                <a:chExt cx="1142640" cy="617400"/>
              </a:xfrm>
            </p:grpSpPr>
            <p:sp>
              <p:nvSpPr>
                <p:cNvPr id="202" name="Rectangle 1281"/>
                <p:cNvSpPr/>
                <p:nvPr/>
              </p:nvSpPr>
              <p:spPr>
                <a:xfrm>
                  <a:off x="545040" y="1147680"/>
                  <a:ext cx="967320" cy="61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ffffff"/>
                      </a:solidFill>
                      <a:latin typeface="Arial"/>
                      <a:ea typeface="Arial Unicode MS"/>
                    </a:rPr>
                    <a:t>Vulnérabilité hu</a:t>
                  </a:r>
                  <a:r>
                    <a:rPr b="1" lang="en-US" sz="1000" spc="-1" strike="noStrike">
                      <a:solidFill>
                        <a:srgbClr val="ffffff"/>
                      </a:solidFill>
                      <a:latin typeface="Arial"/>
                      <a:ea typeface="Arial Unicode MS"/>
                    </a:rPr>
                    <a:t>maine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" name="Rectangle 1282"/>
                <p:cNvSpPr/>
                <p:nvPr/>
              </p:nvSpPr>
              <p:spPr>
                <a:xfrm>
                  <a:off x="457200" y="1147680"/>
                  <a:ext cx="1142640" cy="61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4" name="Rectangle 1334"/>
              <p:cNvSpPr/>
              <p:nvPr/>
            </p:nvSpPr>
            <p:spPr>
              <a:xfrm>
                <a:off x="533520" y="1143000"/>
                <a:ext cx="7391160" cy="5105520"/>
              </a:xfrm>
              <a:prstGeom prst="rect">
                <a:avLst/>
              </a:prstGeom>
              <a:noFill/>
              <a:ln w="1116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Espace réservé du numéro de diapositive 5"/>
          <p:cNvSpPr/>
          <p:nvPr/>
        </p:nvSpPr>
        <p:spPr>
          <a:xfrm>
            <a:off x="6058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B7A98-BD04-4A84-AE79-4400843ED230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808080"/>
                </a:solidFill>
                <a:latin typeface="StoneSans-Semibold"/>
                <a:ea typeface="Times New Roman"/>
              </a:rPr>
              <a:t>Ce que les études de cas ont montré</a:t>
            </a:r>
            <a:r>
              <a:rPr b="1" lang="en-GB" sz="3200" spc="-1" strike="noStrike">
                <a:solidFill>
                  <a:srgbClr val="000000"/>
                </a:solidFill>
                <a:latin typeface="StoneSans-Semibold"/>
                <a:ea typeface="Times New Roman"/>
              </a:rPr>
              <a:t> </a:t>
            </a:r>
            <a:r>
              <a:rPr b="1" lang="en-GB" sz="2000" spc="-1" strike="noStrike">
                <a:solidFill>
                  <a:srgbClr val="808080"/>
                </a:solidFill>
                <a:latin typeface="StoneSans-Semibold"/>
                <a:ea typeface="Times New Roman"/>
              </a:rPr>
              <a:t>(Voir Manuel)</a:t>
            </a:r>
            <a:endParaRPr b="1" lang="en-US" sz="2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746748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Les études de cas parmi les communautés très vulnérables au changement environnemental ont montré que dans un effort de réduire la vulnérabilité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L’EEI doit être incluse dans l’évaluation des problèmes émanants du changement environnemental. Dans certains cas (ex: Le Darfour), l’attention a été focalisée sur le conflit ethnique.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Un forum de discussion sur le développement d’indicateurs et la formulation de politiques est très utile.  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Espace réservé du numéro de diapositive 5"/>
          <p:cNvSpPr/>
          <p:nvPr/>
        </p:nvSpPr>
        <p:spPr>
          <a:xfrm>
            <a:off x="6058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83691-DA52-40BC-BE2A-FA0F78FA6B8B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685440" y="1066320"/>
            <a:ext cx="71629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7760" indent="-2332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Encourager l</a:t>
            </a:r>
            <a:r>
              <a:rPr b="1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a</a:t>
            </a:r>
            <a:r>
              <a:rPr b="1" lang="en-GB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demande par la communauté,  pour que les réformes incluent des mesures réduisant la vulnérabilité a d’énormes avantag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47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47760" indent="-2332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La contribution équitable en apport d’idées, y compris par les catégories sociales négligées, ce qui promeut une participation quasi totale à la formulation de politiques 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47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47760" indent="-2332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Le respect des idées et de la culture locale encourage l’appropriation par la communauté des politiques formulé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title"/>
          </p:nvPr>
        </p:nvSpPr>
        <p:spPr>
          <a:xfrm>
            <a:off x="990720" y="1522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808080"/>
                </a:solidFill>
                <a:latin typeface="Arial"/>
              </a:rPr>
              <a:t>Ce que les études de cas… (suite)</a:t>
            </a: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2T07:04:25Z</dcterms:created>
  <dc:creator>Elijah Munyao</dc:creator>
  <dc:description/>
  <dc:language>en-US</dc:language>
  <cp:lastModifiedBy>Elijah Munyao</cp:lastModifiedBy>
  <dcterms:modified xsi:type="dcterms:W3CDTF">2009-12-22T07:14:50Z</dcterms:modified>
  <cp:revision>9</cp:revision>
  <dc:subject/>
  <dc:title>   </dc:title>
</cp:coreProperties>
</file>