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50E2-9D65-4215-A559-C42AA9D47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3A85-651B-4748-93D9-F8D894A672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AE7F-78B6-477C-B010-91629EBAE80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2A41-54AE-438B-B163-6485A2AC2E7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C609-1C40-4AAF-80CD-32F0460D967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197A-CBE7-41A9-962D-07C3AA25438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97E5-D45C-4262-84FF-D66E2E193BE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0C92-0B9A-4BB0-A435-A94ACCE59CC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8C90-3BE6-43A8-88CF-6C4E27F7763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6EB7-E090-4E94-8088-1A5CD6FBD98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960F-AE21-47EC-BF26-5C9C01FA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4FE0-301E-4EE9-974C-8268CDDE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0B55-76E1-4DD4-8AE4-C58149E92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1183-3173-4D4B-8D7A-0EA80472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5F4E-DC7B-45AF-A027-C47C1380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0638-9875-4E37-99CC-0B2B0532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5684-CF67-460C-9B73-461CCF7A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0412-8FE1-405E-954D-15FC60FC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6773-8350-45AD-979D-D00C9B10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E1BD-6B15-46C9-A0BB-113F66C9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9084-0319-451B-9BB5-7451F8ED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CCBF-F586-4FDF-BA85-7D9050FF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DF98-A9B5-41A7-ACC8-C1B059FD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0643-FAA7-4158-BFBC-4322AB3A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45E2-B931-41A7-9BE7-5A5D274D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0715-9476-43D7-A622-2E40946A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93F5-0A8B-4AF2-9B17-AA5FF1A81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7B4F-B2F5-4CE7-9CC2-7B9C15B4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0FDB-359E-48C7-A483-2C31D7BD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F890-7083-4723-B180-09B63E08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C44C-16CF-465C-8D4B-4FA98CED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0626-7A1F-4C28-A505-2076D48A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BCC4-2D0B-43CD-A5BB-BFECBE86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0235-21D7-45E5-AC6C-D6CF3588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0B5A-AD5B-4FF0-BF2A-019FBE837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686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600" y="66639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057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8A80-EEA8-4397-8F06-DA9315A4C8C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 rot="16207200">
            <a:off x="-1332360" y="247536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on Of Early Warning And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9">
            <a:hlinkClick r:id="" action="ppaction://hlinkshowjump?jump=previousslide"/>
          </p:cNvPr>
          <p:cNvSpPr/>
          <p:nvPr/>
        </p:nvSpPr>
        <p:spPr>
          <a:xfrm>
            <a:off x="8648640" y="5638680"/>
            <a:ext cx="304920" cy="228600"/>
          </a:xfrm>
          <a:prstGeom prst="pie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0"/>
          <p:cNvGraphicFramePr/>
          <p:nvPr/>
        </p:nvGraphicFramePr>
        <p:xfrm>
          <a:off x="8016840" y="6019920"/>
          <a:ext cx="1127160" cy="80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16840" y="6019920"/>
                    <a:ext cx="11271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C66C-7BE2-492D-B5D7-E7F6A0DB8A1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MODULE 10: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CIBLER UN THEME EN EVALUATION ENVIRONNEMENTALE: VULNERABILITE HUMAINE DUE AU CHANGEMENT ENVIRONMENTAL</a:t>
            </a:r>
            <a:endParaRPr b="1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81B3-FEC2-4723-B852-45FF942D29B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Introduction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7239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e module se focalise sur le thème de la vulnérabilité humaine. Il présente plusieurs idées discutées ici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l présente des indicateurs potentiels de la vulnérabilité humai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l utilise ces indicateurs pour montrer l’importance de mettre en place un forum de participation publique à l’EEI pour améliorer les indicateur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l démontre l’importance d’initiatives EEI basées sur la demande, pour le développement durab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l montre l’importance de respecter les idées et cultures locales (y compris celles des défavorisés)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6D13-25E4-4A82-ABE8-E3850A4508E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 Unicode MS"/>
                <a:ea typeface="Times New Roman"/>
              </a:rPr>
              <a:t>Concepts de vulnérabilité humaine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 constante redéfinition mais implique un progression de la vulnérabilité extreme à la sécurité extre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communités plus vulnérables on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s choix limités – technologie relativement faible et l’exposition à des dangers peut réduire les choi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e capacité limitée à s’adapter aux circonstances environnementales changeantes. En réponse aux dangers, l’action est souvent d’étendre les activités ou se déplacer vers de nouvelles zones, ce qui mène à des conflits avec d’autres communautés pour l’accès aux ressource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 pouvoir politique/social/économique limité pour se faire entendre (marginalisées dans les prises de décisions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 contrôle limité sur leur propre destin. Dépendent fortement d’interventions externes et sont donc facilement victimisée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63E8-1B83-4F6C-AB63-42EBDD1A199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Le changement environmental intensifie la vulnérabilité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Garamond-Regular"/>
                <a:ea typeface="Times New Roman"/>
              </a:rPr>
              <a:t> </a:t>
            </a:r>
            <a:r>
              <a:rPr b="1" lang="en-GB" sz="2200" spc="-1" strike="noStrike">
                <a:solidFill>
                  <a:srgbClr val="ffffff"/>
                </a:solidFill>
                <a:latin typeface="AGaramond-Regular"/>
                <a:ea typeface="Times New Roman"/>
              </a:rPr>
              <a:t>Pour les communautés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vulnérables, le changement environnemental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ensifie l’impact humain sur les ressources environmentales,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rée des pénuries auxquelles elles sont incapables de s’adapter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ffaiblit leur santé, du fait de l’insecurité alimentaire croissante,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pire leur marginalisation dans la prise de décisions et d’attribution des ressources et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ugmente leur chance d’entrer en conflit, étant donné qu’ils migrent à la recherche de nouvelles ressources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ar conséquent, pour donner une alerte précoce sur les catastrophes, surtout en Afrique, il est important d’analyser la vulnérabilité humaine face au changement environnemental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123D-21D2-484C-AA43-48FC2464721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Unicode MS"/>
                <a:ea typeface="Times New Roman"/>
              </a:rPr>
              <a:t>Analyser la vulnérabilité humain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s liens de rétroaction existent dans la dynamique d’impacts humains sur l’environnement et doivent être pris en compte dans une analyse de la vulnérabilité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hangements environmentaux </a:t>
            </a:r>
            <a:r>
              <a:rPr b="1" lang="en-GB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impact sur le bien-être humain </a:t>
            </a:r>
            <a:r>
              <a:rPr b="1" lang="en-GB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réponse humaine ex: changement de comportement </a:t>
            </a:r>
            <a:r>
              <a:rPr b="1" lang="en-GB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amoindrissement du problème environnementa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éponse failli ou est sans effet dans des communautés plus vulnerables et le problème s</a:t>
            </a:r>
            <a:r>
              <a:rPr b="1" lang="en-US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’accentue sans intervention extérie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 communauté devient de plus en plus vulnérable à des phénomènes extremes; ex: sécheresse, inondation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ugmente l’insécurité alimentaire, la pauvreté, les pertes économiques, la mauvaise santé, les conflits potentiels, tous suggérés comme indicateurs potentiels de vulnérabilité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DA70-1DFF-4E6B-9424-9B02DD4A3C8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Unicode MS"/>
                <a:ea typeface="Times New Roman"/>
              </a:rPr>
              <a:t>Un exemple de cadre analytique de la vulnérabilité humain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50800" y="24652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550800" y="28306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550800" y="31939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1081080" y="31939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550800" y="35593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1081080" y="35593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550800" y="392436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550800" y="428940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550800" y="465300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550800" y="50180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1081080" y="50180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550800" y="53830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550800" y="57484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550800" y="61117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533520" y="2666880"/>
            <a:ext cx="3733560" cy="12398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act humain sur l’environnement (ex: déforestation, éros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1"/>
          <p:cNvSpPr/>
          <p:nvPr/>
        </p:nvSpPr>
        <p:spPr>
          <a:xfrm>
            <a:off x="3457440" y="28274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3201840" y="320040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4495680" y="3619440"/>
            <a:ext cx="3276720" cy="1333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ulnérabilité humaine au changement environmental (santé, pauvret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4267080" y="3657600"/>
            <a:ext cx="2440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8"/>
          <p:cNvSpPr/>
          <p:nvPr/>
        </p:nvSpPr>
        <p:spPr>
          <a:xfrm>
            <a:off x="5560920" y="44546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9"/>
          <p:cNvSpPr/>
          <p:nvPr/>
        </p:nvSpPr>
        <p:spPr>
          <a:xfrm>
            <a:off x="1325520" y="4800600"/>
            <a:ext cx="2789280" cy="1252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gagement social envers l’environnement ex: investissem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2"/>
          <p:cNvSpPr/>
          <p:nvPr/>
        </p:nvSpPr>
        <p:spPr>
          <a:xfrm>
            <a:off x="3450960" y="53164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3"/>
          <p:cNvSpPr/>
          <p:nvPr/>
        </p:nvSpPr>
        <p:spPr>
          <a:xfrm>
            <a:off x="1252440" y="56815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4"/>
          <p:cNvSpPr/>
          <p:nvPr/>
        </p:nvSpPr>
        <p:spPr>
          <a:xfrm>
            <a:off x="4267080" y="3124080"/>
            <a:ext cx="1970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5"/>
          <p:cNvSpPr/>
          <p:nvPr/>
        </p:nvSpPr>
        <p:spPr>
          <a:xfrm>
            <a:off x="6246720" y="4952880"/>
            <a:ext cx="1800" cy="714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3"/>
          <p:cNvGrpSpPr/>
          <p:nvPr/>
        </p:nvGrpSpPr>
        <p:grpSpPr>
          <a:xfrm>
            <a:off x="4127400" y="5562720"/>
            <a:ext cx="2120400" cy="206280"/>
            <a:chOff x="4127400" y="5562720"/>
            <a:chExt cx="2120400" cy="206280"/>
          </a:xfrm>
        </p:grpSpPr>
        <p:sp>
          <p:nvSpPr>
            <p:cNvPr id="138" name="Line 41"/>
            <p:cNvSpPr/>
            <p:nvPr/>
          </p:nvSpPr>
          <p:spPr>
            <a:xfrm flipH="1">
              <a:off x="4236480" y="5664240"/>
              <a:ext cx="20113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2"/>
            <p:cNvSpPr/>
            <p:nvPr/>
          </p:nvSpPr>
          <p:spPr>
            <a:xfrm>
              <a:off x="4127400" y="5562720"/>
              <a:ext cx="114120" cy="20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46"/>
          <p:cNvGrpSpPr/>
          <p:nvPr/>
        </p:nvGrpSpPr>
        <p:grpSpPr>
          <a:xfrm>
            <a:off x="6172200" y="3124080"/>
            <a:ext cx="115920" cy="477720"/>
            <a:chOff x="6172200" y="3124080"/>
            <a:chExt cx="115920" cy="477720"/>
          </a:xfrm>
        </p:grpSpPr>
        <p:sp>
          <p:nvSpPr>
            <p:cNvPr id="141" name="Line 44"/>
            <p:cNvSpPr/>
            <p:nvPr/>
          </p:nvSpPr>
          <p:spPr>
            <a:xfrm>
              <a:off x="6229080" y="3124080"/>
              <a:ext cx="1800" cy="27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5"/>
            <p:cNvSpPr/>
            <p:nvPr/>
          </p:nvSpPr>
          <p:spPr>
            <a:xfrm>
              <a:off x="6172200" y="3392280"/>
              <a:ext cx="115920" cy="2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Line 47"/>
          <p:cNvSpPr/>
          <p:nvPr/>
        </p:nvSpPr>
        <p:spPr>
          <a:xfrm flipV="1">
            <a:off x="21337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numéro de diapositive 4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724B-4EAE-4BF4-A4B6-2CDF2DBD50A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17"/>
          <p:cNvSpPr/>
          <p:nvPr/>
        </p:nvSpPr>
        <p:spPr>
          <a:xfrm>
            <a:off x="0" y="1508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75"/>
          <p:cNvSpPr/>
          <p:nvPr/>
        </p:nvSpPr>
        <p:spPr>
          <a:xfrm>
            <a:off x="0" y="60991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76"/>
          <p:cNvSpPr/>
          <p:nvPr/>
        </p:nvSpPr>
        <p:spPr>
          <a:xfrm>
            <a:off x="914400" y="0"/>
            <a:ext cx="8991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Des indicateurs potentiels pour analyser la vulnérabilité humaine face au changement environne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336"/>
          <p:cNvGrpSpPr/>
          <p:nvPr/>
        </p:nvGrpSpPr>
        <p:grpSpPr>
          <a:xfrm>
            <a:off x="457200" y="1143000"/>
            <a:ext cx="7467480" cy="5105520"/>
            <a:chOff x="457200" y="1143000"/>
            <a:chExt cx="7467480" cy="5105520"/>
          </a:xfrm>
        </p:grpSpPr>
        <p:grpSp>
          <p:nvGrpSpPr>
            <p:cNvPr id="149" name="Group 1283"/>
            <p:cNvGrpSpPr/>
            <p:nvPr/>
          </p:nvGrpSpPr>
          <p:grpSpPr>
            <a:xfrm>
              <a:off x="1581120" y="1147680"/>
              <a:ext cx="2354040" cy="617400"/>
              <a:chOff x="1581120" y="1147680"/>
              <a:chExt cx="2354040" cy="617400"/>
            </a:xfrm>
          </p:grpSpPr>
          <p:sp>
            <p:nvSpPr>
              <p:cNvPr id="150" name="Rectangle 1284"/>
              <p:cNvSpPr/>
              <p:nvPr/>
            </p:nvSpPr>
            <p:spPr>
              <a:xfrm>
                <a:off x="1661040" y="1147680"/>
                <a:ext cx="2194200" cy="61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Causes environmental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1285"/>
              <p:cNvSpPr/>
              <p:nvPr/>
            </p:nvSpPr>
            <p:spPr>
              <a:xfrm>
                <a:off x="1581120" y="1147680"/>
                <a:ext cx="2354040" cy="61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286"/>
            <p:cNvGrpSpPr/>
            <p:nvPr/>
          </p:nvGrpSpPr>
          <p:grpSpPr>
            <a:xfrm>
              <a:off x="3935520" y="1147680"/>
              <a:ext cx="3982680" cy="617400"/>
              <a:chOff x="3935520" y="1147680"/>
              <a:chExt cx="3982680" cy="617400"/>
            </a:xfrm>
          </p:grpSpPr>
          <p:sp>
            <p:nvSpPr>
              <p:cNvPr id="153" name="Rectangle 1287"/>
              <p:cNvSpPr/>
              <p:nvPr/>
            </p:nvSpPr>
            <p:spPr>
              <a:xfrm>
                <a:off x="4015080" y="1147680"/>
                <a:ext cx="3823200" cy="61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Exemples d’indicateur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288"/>
              <p:cNvSpPr/>
              <p:nvPr/>
            </p:nvSpPr>
            <p:spPr>
              <a:xfrm>
                <a:off x="3935520" y="1147680"/>
                <a:ext cx="3982680" cy="61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289"/>
            <p:cNvGrpSpPr/>
            <p:nvPr/>
          </p:nvGrpSpPr>
          <p:grpSpPr>
            <a:xfrm>
              <a:off x="539640" y="1765440"/>
              <a:ext cx="1041120" cy="617040"/>
              <a:chOff x="539640" y="1765440"/>
              <a:chExt cx="1041120" cy="617040"/>
            </a:xfrm>
          </p:grpSpPr>
          <p:sp>
            <p:nvSpPr>
              <p:cNvPr id="156" name="Rectangle 1290"/>
              <p:cNvSpPr/>
              <p:nvPr/>
            </p:nvSpPr>
            <p:spPr>
              <a:xfrm>
                <a:off x="619560" y="1765440"/>
                <a:ext cx="881280" cy="61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Santé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1291"/>
              <p:cNvSpPr/>
              <p:nvPr/>
            </p:nvSpPr>
            <p:spPr>
              <a:xfrm>
                <a:off x="539640" y="1765440"/>
                <a:ext cx="1041120" cy="61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1292"/>
            <p:cNvGrpSpPr/>
            <p:nvPr/>
          </p:nvGrpSpPr>
          <p:grpSpPr>
            <a:xfrm>
              <a:off x="1581120" y="1765440"/>
              <a:ext cx="2354040" cy="617040"/>
              <a:chOff x="1581120" y="1765440"/>
              <a:chExt cx="2354040" cy="617040"/>
            </a:xfrm>
          </p:grpSpPr>
          <p:sp>
            <p:nvSpPr>
              <p:cNvPr id="159" name="Rectangle 1293"/>
              <p:cNvSpPr/>
              <p:nvPr/>
            </p:nvSpPr>
            <p:spPr>
              <a:xfrm>
                <a:off x="1661040" y="1765440"/>
                <a:ext cx="2194200" cy="61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qualité de l’air urbain et pollution de l’eau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1294"/>
              <p:cNvSpPr/>
              <p:nvPr/>
            </p:nvSpPr>
            <p:spPr>
              <a:xfrm>
                <a:off x="1581120" y="1765440"/>
                <a:ext cx="2354040" cy="61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295"/>
            <p:cNvGrpSpPr/>
            <p:nvPr/>
          </p:nvGrpSpPr>
          <p:grpSpPr>
            <a:xfrm>
              <a:off x="3935520" y="1765440"/>
              <a:ext cx="3982680" cy="617040"/>
              <a:chOff x="3935520" y="1765440"/>
              <a:chExt cx="3982680" cy="617040"/>
            </a:xfrm>
          </p:grpSpPr>
          <p:sp>
            <p:nvSpPr>
              <p:cNvPr id="162" name="Rectangle 1296"/>
              <p:cNvSpPr/>
              <p:nvPr/>
            </p:nvSpPr>
            <p:spPr>
              <a:xfrm>
                <a:off x="4015080" y="1765440"/>
                <a:ext cx="3823200" cy="61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StoneSans"/>
                    <a:ea typeface="Arial"/>
                  </a:rPr>
                  <a:t>- Pourcentage de personnes infect</a:t>
                </a:r>
                <a:r>
                  <a:rPr b="0" lang="en-GB" sz="11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é</a:t>
                </a:r>
                <a:r>
                  <a:rPr b="0" lang="en-GB" sz="1100" spc="-1" strike="noStrike">
                    <a:solidFill>
                      <a:srgbClr val="ffffff"/>
                    </a:solidFill>
                    <a:latin typeface="StoneSans"/>
                    <a:ea typeface="Arial"/>
                  </a:rPr>
                  <a:t>es par les maladies environnemental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1297"/>
              <p:cNvSpPr/>
              <p:nvPr/>
            </p:nvSpPr>
            <p:spPr>
              <a:xfrm>
                <a:off x="3935520" y="1765440"/>
                <a:ext cx="3982680" cy="61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1298"/>
            <p:cNvGrpSpPr/>
            <p:nvPr/>
          </p:nvGrpSpPr>
          <p:grpSpPr>
            <a:xfrm>
              <a:off x="539640" y="2382840"/>
              <a:ext cx="1041120" cy="926640"/>
              <a:chOff x="539640" y="2382840"/>
              <a:chExt cx="1041120" cy="926640"/>
            </a:xfrm>
          </p:grpSpPr>
          <p:sp>
            <p:nvSpPr>
              <p:cNvPr id="165" name="Rectangle 1299"/>
              <p:cNvSpPr/>
              <p:nvPr/>
            </p:nvSpPr>
            <p:spPr>
              <a:xfrm>
                <a:off x="619560" y="2382840"/>
                <a:ext cx="88128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ertes/gains économiqu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300"/>
              <p:cNvSpPr/>
              <p:nvPr/>
            </p:nvSpPr>
            <p:spPr>
              <a:xfrm>
                <a:off x="539640" y="2382840"/>
                <a:ext cx="104112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301"/>
            <p:cNvGrpSpPr/>
            <p:nvPr/>
          </p:nvGrpSpPr>
          <p:grpSpPr>
            <a:xfrm>
              <a:off x="1581120" y="2382840"/>
              <a:ext cx="2354040" cy="926640"/>
              <a:chOff x="1581120" y="2382840"/>
              <a:chExt cx="2354040" cy="926640"/>
            </a:xfrm>
          </p:grpSpPr>
          <p:sp>
            <p:nvSpPr>
              <p:cNvPr id="168" name="Rectangle 1302"/>
              <p:cNvSpPr/>
              <p:nvPr/>
            </p:nvSpPr>
            <p:spPr>
              <a:xfrm>
                <a:off x="1661040" y="2382840"/>
                <a:ext cx="2194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Maladies environmental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Erosion des sol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Déforest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303"/>
              <p:cNvSpPr/>
              <p:nvPr/>
            </p:nvSpPr>
            <p:spPr>
              <a:xfrm>
                <a:off x="1581120" y="2382840"/>
                <a:ext cx="235404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1304"/>
            <p:cNvGrpSpPr/>
            <p:nvPr/>
          </p:nvGrpSpPr>
          <p:grpSpPr>
            <a:xfrm>
              <a:off x="3935520" y="2382840"/>
              <a:ext cx="3982680" cy="926640"/>
              <a:chOff x="3935520" y="2382840"/>
              <a:chExt cx="3982680" cy="926640"/>
            </a:xfrm>
          </p:grpSpPr>
          <p:sp>
            <p:nvSpPr>
              <p:cNvPr id="171" name="Rectangle 1305"/>
              <p:cNvSpPr/>
              <p:nvPr/>
            </p:nvSpPr>
            <p:spPr>
              <a:xfrm>
                <a:off x="4015080" y="2382840"/>
                <a:ext cx="3823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Arial Unicode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Heures de travail perdues à cause des maladies environnemental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Arial Unicode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 </a:t>
                </a: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erte de productivite agricole due a l’erosion, etc. 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Reduction du rendement (ex: poissons) des eaux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1306"/>
              <p:cNvSpPr/>
              <p:nvPr/>
            </p:nvSpPr>
            <p:spPr>
              <a:xfrm>
                <a:off x="3935520" y="2382840"/>
                <a:ext cx="398268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1307"/>
            <p:cNvGrpSpPr/>
            <p:nvPr/>
          </p:nvGrpSpPr>
          <p:grpSpPr>
            <a:xfrm>
              <a:off x="539640" y="3309840"/>
              <a:ext cx="1041120" cy="771120"/>
              <a:chOff x="539640" y="3309840"/>
              <a:chExt cx="1041120" cy="771120"/>
            </a:xfrm>
          </p:grpSpPr>
          <p:sp>
            <p:nvSpPr>
              <p:cNvPr id="174" name="Rectangle 1308"/>
              <p:cNvSpPr/>
              <p:nvPr/>
            </p:nvSpPr>
            <p:spPr>
              <a:xfrm>
                <a:off x="619560" y="3309840"/>
                <a:ext cx="88128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auvret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1309"/>
              <p:cNvSpPr/>
              <p:nvPr/>
            </p:nvSpPr>
            <p:spPr>
              <a:xfrm>
                <a:off x="539640" y="3309840"/>
                <a:ext cx="104112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1310"/>
            <p:cNvGrpSpPr/>
            <p:nvPr/>
          </p:nvGrpSpPr>
          <p:grpSpPr>
            <a:xfrm>
              <a:off x="1581120" y="3309840"/>
              <a:ext cx="2354040" cy="771120"/>
              <a:chOff x="1581120" y="3309840"/>
              <a:chExt cx="2354040" cy="771120"/>
            </a:xfrm>
          </p:grpSpPr>
          <p:sp>
            <p:nvSpPr>
              <p:cNvPr id="177" name="Rectangle 1311"/>
              <p:cNvSpPr/>
              <p:nvPr/>
            </p:nvSpPr>
            <p:spPr>
              <a:xfrm>
                <a:off x="1661040" y="3309840"/>
                <a:ext cx="219420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Depletion of resource base to meet the basic needs, e.g. foo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312"/>
              <p:cNvSpPr/>
              <p:nvPr/>
            </p:nvSpPr>
            <p:spPr>
              <a:xfrm>
                <a:off x="1581120" y="3309840"/>
                <a:ext cx="235404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1313"/>
            <p:cNvGrpSpPr/>
            <p:nvPr/>
          </p:nvGrpSpPr>
          <p:grpSpPr>
            <a:xfrm>
              <a:off x="3935520" y="3309840"/>
              <a:ext cx="3982680" cy="771120"/>
              <a:chOff x="3935520" y="3309840"/>
              <a:chExt cx="3982680" cy="771120"/>
            </a:xfrm>
          </p:grpSpPr>
          <p:sp>
            <p:nvSpPr>
              <p:cNvPr id="180" name="Rectangle 1314"/>
              <p:cNvSpPr/>
              <p:nvPr/>
            </p:nvSpPr>
            <p:spPr>
              <a:xfrm>
                <a:off x="4015080" y="3309840"/>
                <a:ext cx="382320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ourcentage de la main d’oeuvre affecte par la reduction des ressources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315"/>
              <p:cNvSpPr/>
              <p:nvPr/>
            </p:nvSpPr>
            <p:spPr>
              <a:xfrm>
                <a:off x="3935520" y="3309840"/>
                <a:ext cx="398268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316"/>
            <p:cNvGrpSpPr/>
            <p:nvPr/>
          </p:nvGrpSpPr>
          <p:grpSpPr>
            <a:xfrm>
              <a:off x="539640" y="4081320"/>
              <a:ext cx="1041120" cy="1234800"/>
              <a:chOff x="539640" y="4081320"/>
              <a:chExt cx="1041120" cy="1234800"/>
            </a:xfrm>
          </p:grpSpPr>
          <p:sp>
            <p:nvSpPr>
              <p:cNvPr id="183" name="Rectangle 1317"/>
              <p:cNvSpPr/>
              <p:nvPr/>
            </p:nvSpPr>
            <p:spPr>
              <a:xfrm>
                <a:off x="619560" y="4081320"/>
                <a:ext cx="881280" cy="12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Securite alimentair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318"/>
              <p:cNvSpPr/>
              <p:nvPr/>
            </p:nvSpPr>
            <p:spPr>
              <a:xfrm>
                <a:off x="539640" y="4081320"/>
                <a:ext cx="1041120" cy="1234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319"/>
            <p:cNvGrpSpPr/>
            <p:nvPr/>
          </p:nvGrpSpPr>
          <p:grpSpPr>
            <a:xfrm>
              <a:off x="1581120" y="4081320"/>
              <a:ext cx="2354040" cy="1234800"/>
              <a:chOff x="1581120" y="4081320"/>
              <a:chExt cx="2354040" cy="1234800"/>
            </a:xfrm>
          </p:grpSpPr>
          <p:sp>
            <p:nvSpPr>
              <p:cNvPr id="186" name="Rectangle 1320"/>
              <p:cNvSpPr/>
              <p:nvPr/>
            </p:nvSpPr>
            <p:spPr>
              <a:xfrm>
                <a:off x="1661040" y="4081320"/>
                <a:ext cx="2194200" cy="12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Perte de vegétat ion naturelle et de diversite biologiqu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Eros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Quantite et repartition d’eau de plui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321"/>
              <p:cNvSpPr/>
              <p:nvPr/>
            </p:nvSpPr>
            <p:spPr>
              <a:xfrm>
                <a:off x="1581120" y="4081320"/>
                <a:ext cx="2354040" cy="1234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1322"/>
            <p:cNvGrpSpPr/>
            <p:nvPr/>
          </p:nvGrpSpPr>
          <p:grpSpPr>
            <a:xfrm>
              <a:off x="3935520" y="4081320"/>
              <a:ext cx="3982680" cy="1234800"/>
              <a:chOff x="3935520" y="4081320"/>
              <a:chExt cx="3982680" cy="1234800"/>
            </a:xfrm>
          </p:grpSpPr>
          <p:sp>
            <p:nvSpPr>
              <p:cNvPr id="189" name="Rectangle 1323"/>
              <p:cNvSpPr/>
              <p:nvPr/>
            </p:nvSpPr>
            <p:spPr>
              <a:xfrm>
                <a:off x="4015080" y="4081320"/>
                <a:ext cx="3823200" cy="12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Pourcentage de couverture vegetal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Pourcentage de personnes dependant directement des ressources terrestres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Etendue et repartition des terres degrade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Quantite et variabilite des eaux de plui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324"/>
              <p:cNvSpPr/>
              <p:nvPr/>
            </p:nvSpPr>
            <p:spPr>
              <a:xfrm>
                <a:off x="3935520" y="4081320"/>
                <a:ext cx="3982680" cy="1234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325"/>
            <p:cNvGrpSpPr/>
            <p:nvPr/>
          </p:nvGrpSpPr>
          <p:grpSpPr>
            <a:xfrm>
              <a:off x="539640" y="5316480"/>
              <a:ext cx="1041120" cy="926640"/>
              <a:chOff x="539640" y="5316480"/>
              <a:chExt cx="1041120" cy="926640"/>
            </a:xfrm>
          </p:grpSpPr>
          <p:sp>
            <p:nvSpPr>
              <p:cNvPr id="192" name="Rectangle 1326"/>
              <p:cNvSpPr/>
              <p:nvPr/>
            </p:nvSpPr>
            <p:spPr>
              <a:xfrm>
                <a:off x="619560" y="5316480"/>
                <a:ext cx="88128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Conflit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327"/>
              <p:cNvSpPr/>
              <p:nvPr/>
            </p:nvSpPr>
            <p:spPr>
              <a:xfrm>
                <a:off x="539640" y="5316480"/>
                <a:ext cx="104112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328"/>
            <p:cNvGrpSpPr/>
            <p:nvPr/>
          </p:nvGrpSpPr>
          <p:grpSpPr>
            <a:xfrm>
              <a:off x="1581120" y="5316480"/>
              <a:ext cx="2354040" cy="926640"/>
              <a:chOff x="1581120" y="5316480"/>
              <a:chExt cx="2354040" cy="926640"/>
            </a:xfrm>
          </p:grpSpPr>
          <p:sp>
            <p:nvSpPr>
              <p:cNvPr id="195" name="Rectangle 1329"/>
              <p:cNvSpPr/>
              <p:nvPr/>
            </p:nvSpPr>
            <p:spPr>
              <a:xfrm>
                <a:off x="1661040" y="5316480"/>
                <a:ext cx="2194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Penurie d’eau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Depletion of natural resource bas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330"/>
              <p:cNvSpPr/>
              <p:nvPr/>
            </p:nvSpPr>
            <p:spPr>
              <a:xfrm>
                <a:off x="1581120" y="5316480"/>
                <a:ext cx="235404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331"/>
            <p:cNvGrpSpPr/>
            <p:nvPr/>
          </p:nvGrpSpPr>
          <p:grpSpPr>
            <a:xfrm>
              <a:off x="3935520" y="5316480"/>
              <a:ext cx="3982680" cy="926640"/>
              <a:chOff x="3935520" y="5316480"/>
              <a:chExt cx="3982680" cy="926640"/>
            </a:xfrm>
          </p:grpSpPr>
          <p:sp>
            <p:nvSpPr>
              <p:cNvPr id="198" name="Rectangle 1332"/>
              <p:cNvSpPr/>
              <p:nvPr/>
            </p:nvSpPr>
            <p:spPr>
              <a:xfrm>
                <a:off x="4015080" y="5316480"/>
                <a:ext cx="3823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Nombre de personnes vivant dans des zones ou l’eau est rare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Nombre de personnes dependantes des ressources vegetales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333"/>
              <p:cNvSpPr/>
              <p:nvPr/>
            </p:nvSpPr>
            <p:spPr>
              <a:xfrm>
                <a:off x="3935520" y="5316480"/>
                <a:ext cx="398268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1335"/>
            <p:cNvGrpSpPr/>
            <p:nvPr/>
          </p:nvGrpSpPr>
          <p:grpSpPr>
            <a:xfrm>
              <a:off x="457200" y="1143000"/>
              <a:ext cx="7467480" cy="5105520"/>
              <a:chOff x="457200" y="1143000"/>
              <a:chExt cx="7467480" cy="5105520"/>
            </a:xfrm>
          </p:grpSpPr>
          <p:grpSp>
            <p:nvGrpSpPr>
              <p:cNvPr id="201" name="Group 1280"/>
              <p:cNvGrpSpPr/>
              <p:nvPr/>
            </p:nvGrpSpPr>
            <p:grpSpPr>
              <a:xfrm>
                <a:off x="457200" y="1147680"/>
                <a:ext cx="1142640" cy="617400"/>
                <a:chOff x="457200" y="1147680"/>
                <a:chExt cx="1142640" cy="617400"/>
              </a:xfrm>
            </p:grpSpPr>
            <p:sp>
              <p:nvSpPr>
                <p:cNvPr id="202" name="Rectangle 1281"/>
                <p:cNvSpPr/>
                <p:nvPr/>
              </p:nvSpPr>
              <p:spPr>
                <a:xfrm>
                  <a:off x="545040" y="1147680"/>
                  <a:ext cx="967320" cy="61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Vulnérabilité hu</a:t>
                  </a: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main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Rectangle 1282"/>
                <p:cNvSpPr/>
                <p:nvPr/>
              </p:nvSpPr>
              <p:spPr>
                <a:xfrm>
                  <a:off x="457200" y="1147680"/>
                  <a:ext cx="1142640" cy="61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Rectangle 1334"/>
              <p:cNvSpPr/>
              <p:nvPr/>
            </p:nvSpPr>
            <p:spPr>
              <a:xfrm>
                <a:off x="533520" y="1143000"/>
                <a:ext cx="7391160" cy="510552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AE5D-9C0C-4A98-890B-E0FC5265EB4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Ce que les études de cas ont montré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(Voir Manuel)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études de cas parmi les communautés très vulnérables au changement environnemental ont montré que dans un effort de réduire la vulnérabilité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’EEI doit être incluse dans l’évaluation des problèmes émanants du changement environnemental. Dans certains cas (ex: Le Darfour), l’attention a été focalisée sur le conflit ethnique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 forum de discussion sur le développement d’indicateurs et la formulation de politiques est très utile. 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81FB-180F-46EB-9512-A2057BCD204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440" y="1066320"/>
            <a:ext cx="7162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7760" indent="-233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courager l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demande par la communauté,  pour que les réformes incluent des mesures réduisant la vulnérabilité a d’énormes avanta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233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 contribution équitable en apport d’idées, y compris par les catégories sociales négligées, ce qui promeut une participation quasi totale à la formulation de politiques 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233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 respect des idées et de la culture locale encourage l’appropriation par la communauté des politiques formulé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</a:rPr>
              <a:t>Ce que les études de cas… (suite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07:04:25Z</dcterms:created>
  <dc:creator>Elijah Munyao</dc:creator>
  <dc:description/>
  <dc:language>en-US</dc:language>
  <cp:lastModifiedBy>Elijah Munyao</cp:lastModifiedBy>
  <dcterms:modified xsi:type="dcterms:W3CDTF">2009-12-22T07:14:50Z</dcterms:modified>
  <cp:revision>9</cp:revision>
  <dc:subject/>
  <dc:title>   </dc:title>
</cp:coreProperties>
</file>