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8815-B592-46F5-ADEA-D0979273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D04A-9FF9-4B1B-B58B-5B154B405F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4BBD-151F-4B8E-AAB5-CA18E9A823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B7A0-C419-498D-898E-6723115AA8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4D13-CD49-4F0A-AEE6-5F54D43B86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044D-AB32-41C0-BE2F-63CDA4A3AB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7F29-04BA-4348-BC03-7201395064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959A-AAFF-487A-8BBF-CEB1F3BECA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F0FB-B7A0-4D2D-8AFC-91FBAF6C4B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3515-B243-48BC-B39C-309E21D006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1C1F-0514-4DE5-A0DA-CF8A8A0E9E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C63B-A3E7-4FD5-94DE-3A9782D6EF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044B-E6CA-4950-B6C8-80950D955F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2556-DE5F-4C26-83E8-B46B2EA715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981F-30B6-484B-A8EB-2C536D278D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F1AF-A117-4656-BA7E-8E985703DA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68E0-EC29-46DD-A5DE-53D3A2D084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1A60-A548-4614-BF19-B0312997FA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712A-D4BE-4589-9A3A-2F804F55AF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82E-D936-43D1-B86D-5413287A07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666-C076-4F0D-9E83-1FFC9B97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F11-FCC5-4B61-9E60-276C473E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CD4-0F83-463B-B0D0-895B342E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FD5-15D6-4C78-B301-5CCABF53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6349-F154-4FA0-85A5-4ED13F4E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78B2-D640-4FC0-B409-0252EE06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B702-8352-40BB-9385-BF780A7D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C9BE-49E9-47C8-95FA-AD32246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9E5D-5B85-4552-ABCD-FF479074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8D50-8E34-47F6-A076-31106187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4B82-66E3-43E7-9271-FFA139C5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5ED-D9DC-48D7-BBEF-C5F39B52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A97C-B575-40B2-88BD-B5F10FF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C849-549E-484C-914C-AE670165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597A-BC5B-48FC-9A76-17B6BDD9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1664-7CB7-4DF1-A436-E91738AF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B950-CCE4-4B34-BCF7-AE98E70D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53D-9CC1-4BCA-ADF4-70D8BA01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346-AB40-4A26-9654-F36B245F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BFE-1EEE-41D4-AF04-69182DA4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219-DE14-485F-AD48-60EFE18D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1E1-010D-46E2-9EA8-09F0CB6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02A-BF95-46A7-96DE-4895501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7C9-5CAD-429B-A0FB-B9275638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4AEA-65FB-47CD-9518-A7D0C725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0305-1301-48FC-82FB-4923DA683A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E40C-C8EE-4537-9F85-3CD40ACA0BE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1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VISAGER LE FUTUR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12F-1DBF-4A61-A0D7-454EF8654D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questions émergentes à impacts environnementaux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chauffement planétaire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mal compris durant les années 90 mais dont les impacts sont largement reconnus à présen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pagation des polluants atmosphériques– ardament débattue par quelques scientifiques dans les années 60. Son étendue et impact ont été étudiés avec succès en utilisant des informations de télédétectio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uvelles technologies pour la production agricole en plein essor durant la Révolution Verte (années 7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D5D8-CD75-4071-B71C-982E84627D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laborer des scénarios</a:t>
            </a:r>
            <a:r>
              <a:rPr b="1" lang="en-GB" sz="34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467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Tracer des tr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jectoires environnementales possibles pour certaines questions est très incerta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On peut réduire le nombre de chemins à prendre mais les conséquences de ceci peuvent être désastreuses si l’analyse est érronné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Peuvent inclure tous les espoirs de s’ajuster au fur et à mesure que les questions environnementales prennent forme (l’approche scénari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Nous pourrions concevoir un concept d’entonoir, augmentant son diamètre au fil du temps et avec moins de scénarios extrêmes en bordure de l’entono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68A3-C0C2-4420-9E59-B9229564652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Le centre présente les scénarios les plus plausibles mais des évènements peuvent influencer la gamme de scénarios possibl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9092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38080" y="1231920"/>
            <a:ext cx="6934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8F04-F900-472E-A783-8A47D8401AD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es questions émergentes doivent être incluses dans l’élaboration de scénarios car elles: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ttirent l’attention du public sur des questions importantes et augmentent la participation à la formulation de politiques relatives à ces ques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nt les discussions préliminaires pour formuler des politiques sur les questions, avant que celles-ci ne deviennent des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uident très tôt la recherche environnementale et le recueil des données sur les thèmes considér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8B0B-566E-464F-B887-65DD0B6BEB0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forces motrices de scénarios en Afriqu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ation rapide de la pop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lonté de diversifier les activités économiques très dépendantes des ressources naturel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mélioration des niveaux sociaux de développement humain avec des revenus familiaux sta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es diverses cultures africain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’une technologie appropriée dans le processus de développ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pratiques de gestion durables pour atténuer la dégrad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vantage de participation locale, meilleure gouvernance et coopération outre frontiè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224-250F-4C4B-A17D-D3CD47F316B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Pourquoi pas  une analyse des tendances ou une modélisation mathématique?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uffisants pour analyser le long terme (ex: des décennies, des générations) d’évènements environnementaux futurs car: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information est toujours insuffisante pour faire ajuster les politiques à des forces dominant la dynamique des systèmes environnementaux sur de longues périod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système environnemental, quand il est lié aux systèmes économiques, devient très complexe et succeptible de changements de comportement brutaux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futur dépend de choix humains inconnus. Ces choix humains futurs peuvent dépasser ce qui est actuellement considéré comme faisable ou acceptable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CA92-B2E2-4021-8C63-98367AE5C06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Dynamique d’un système environnemental: scénario général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9620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General Scenario dynamics"/>
          <p:cNvPicPr/>
          <p:nvPr/>
        </p:nvPicPr>
        <p:blipFill>
          <a:blip r:embed="rId1"/>
          <a:stretch/>
        </p:blipFill>
        <p:spPr>
          <a:xfrm>
            <a:off x="533520" y="114300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B7C6-AC5D-42F9-8C37-2BB7A305FA5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93396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Dynamique d’un système (suit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état actuel de l’environnement résulte d’une suite d’états précédents qui ont été soumis à des pressions dive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historique nous renseigne sur la difficulté de tracer des trajectoires futures dans l’incertitude: des forces importantes peuvent avoir changé le système, par rapport à ce qui avait été envisag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s forces motrices et pressions actuelles déterminent la trajectoire du futur, mais l’état de ce futur est imprévisible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s évènements soudains et extrêmes peuvent changer le cours du développ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35D5-8431-4400-A271-771BDE6AD8C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Etapes importantes dans l’élaboration d’un scénario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pécifier les limites de l’analyse (géographiques, thématiques et temporel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écrire les conditions actuel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s conséquences de la situation actuelle sur le thème considér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nner des informations sur la délimitation des trajectoires de scénari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 changement pour chaque 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ttre le futur en images et donner des conclusions sur les différents résulats possibles au fil du temp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1BB4-249C-41A4-8414-389B5744B2D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valuer les options de politiques et les scénario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y a toujours plusieurs cadres alternatifs possibles mais il faut réduire les options à un nombre maîtrisab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récits qualitatifs ont l’avantage de traduire des variables non-quantifiables de scénarios en termes qualitatifs (ex: la culture, les valeurs, le comportement). Inconvénient: manque de rigueur scientifique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modèles quantitatifs sont rigoureux mais peuvent malheureusement être interprétés comme des  précisions scientif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scénarios les plus utiles combinent la narration qualitative et la modélisation quantita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324D-D6C1-4C82-BE90-D80C1CBDBD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 module se penche sur la question d’évaluation environnementale future. Il aide le lecteur à acquéri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bonne compréhension de la manière de présenter le lien entre une politique environnementale et l’aven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informations sur les raisons pour lesquelles des études de politiques environnementales futuristes sont fai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prise de conscience sur l’importance des questions émergentes pour comprendre des études d’évaluation environnementales fu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compétences en matière d’élaboration de scénario pour l’évalu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12ED-A864-4E04-ADBC-6347F7AD16C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hemins vers “l’avenir”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politiques actuelles ont une grande influence sur l’environnement futu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analyses des actions et politiques actuelles peuvent être liées à des voies environnementales envisage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l est possi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comparer les diverses voies tout en prenant en compte nos limites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sélectionner une voie en pleine connaissance de cause du risque encouru et des opportunités qu’elle présente pour notre environnement futu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 voie choisie peut être différente de celle que nous préférons, étant données diverses restrictions; ex: finances, technologie et compétences disponibles, la nécessite de créer des emplois, etc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5BCB-8B44-4B1A-83CF-A83D36CEBA0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e contexte de l’EEI, nous évaluons l’avenir lorsqu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avons une bonne connaissance de l’état de l’environnement actuel, les pressions auxquelles il fait face et apprécions l’efficacité des politiques exis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en connaissons l’historique et les raisons pour lesquelles il a évolué de la sor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comprenons les dangers auxquels il est confronté à présent et avons une vague impression qu’il pourrait se détériorer dava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1670-7AD1-4460-B94D-B52F7542C8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 futur pour un développement environmentalement durable (ou non durable)? Scénarios possi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le action alternative pourrait être pris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D0DD-E3FA-4197-9EE9-06FDDA6B34C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066680" y="25146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914400" y="3124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 mesure alternative pourrait-être  prise (options pour l’action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s options futures (scénarios) pour un développement  durable (ou non durabl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s sont les mesures prises et sont-elles efficaces (répons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conséquence pour l’environnement et l’human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arrive-t-il à l’environnement et pourquoi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B070-8C9A-4A73-BCE7-6057BB408F6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 tentant de répondre à ces questions: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Il faut également répondre à d’autres sous-entendus relativement à ce que nous savons et ce que nous voulons f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Où nos politiques actuelles nous mènent-el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Est-ce la direction que nous voulons prendr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autres politiques pourraient être plus uti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seront les conséquences de diverses politiques alternatives sur l’environnement dans le futur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es questions éclairent le processus de prise de décision sur les avantages et dangers que représentent  certaines orientations potentiellement choisies pour la formulation de politiques fu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1F0F-201C-4A0A-AC11-0C8654458D7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Pourquoi une évaluation des politiques environnementales futures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prendre conscience des conséquences d’actions et de politiques actuelles sur l’environnement dans le fut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détecter et éviter les dangers fut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laborer des stratégies proactives à utiliser pour éviter des catastrophes fu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tablir un barème pour un environnement souhaitable, par rapport auquel nous mesurerons notre performance dans l’avancement d’alternatives préfér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556D-4149-4BC4-BF88-7B3637A7275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Questions émergent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73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public et les décideurs peuvent ne pas se rendre compte de l’impact futur de certaines politiques, mais quelques scientifiques peuvent  faire des spéculations; ex: l’impact socio-économique du VIH/SI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spéculation va au delà des actions politiques actuelles. Elle est incertaine et demande beaucoup de travail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120" y="403848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5:16Z</dcterms:modified>
  <cp:revision>10</cp:revision>
  <dc:subject/>
  <dc:title>   </dc:title>
</cp:coreProperties>
</file>