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6E5DE-EA27-41D0-946B-0CD2392BC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0552-4334-4503-9A90-E2A7C6F71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2F56A-D1F7-46FB-9F12-F75E6B667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D74A9-508C-4185-A644-EE2F5B02E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74EB0-06A2-4365-B1EB-438591535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E866-70FD-476C-B9C2-A426E1B51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37AAF-B047-4744-A3F0-4C8B707D6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9B570-1905-453F-B847-CDB65D02A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E07D8-1B99-4980-98E9-9FC4FD340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91DC9-FC9E-41A9-A932-CD85912A0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EA60-C5BE-4960-8338-A86A03DE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8D16-141A-474C-A2C2-A195BBFC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75283-F59D-49BF-B568-8CB097DF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57BB-7A89-4097-995F-96D9609E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0B285-7D1E-48DB-9D23-CF34A1CCA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8505B-93DE-4800-99A7-5F49540C1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AEFAA-3386-4F60-8B5F-07ABFAFAE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DEB6-830A-45DC-9257-E2D5B268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13B1-6080-4E6C-A652-C8F6772A2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03FB8-E383-4210-A176-E81D383A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7DFC-CC1C-493E-9D23-AACA4FAAB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78B9-A6CF-4DC1-A920-ACE4F86C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3849-C3A7-42B8-8673-7FAA897A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FABB-CC43-4386-88A0-CE993CC3F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92C8-C568-4623-8D6F-4575FF623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8C72-9591-4B36-A62E-EEAC95BF2DE7}"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828800"/>
            <a:ext cx="761976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11:</a:t>
            </a:r>
            <a:br>
              <a:rPr sz="4000"/>
            </a:br>
            <a:br>
              <a:rPr sz="4000"/>
            </a:br>
            <a:r>
              <a:rPr b="1" lang="en-GB" sz="4000" spc="-1" strike="noStrike">
                <a:solidFill>
                  <a:srgbClr val="808080"/>
                </a:solidFill>
                <a:latin typeface="Arial Unicode MS"/>
                <a:ea typeface="Arial Unicode MS"/>
              </a:rPr>
              <a:t>ASSESSING THE FUTURE</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151920"/>
            <a:ext cx="69339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Building scenarios</a:t>
            </a:r>
            <a:r>
              <a:rPr b="1" lang="en-GB" sz="3400" spc="-1" strike="noStrike">
                <a:solidFill>
                  <a:srgbClr val="000000"/>
                </a:solidFill>
                <a:latin typeface="StoneSans-Semibold"/>
                <a:ea typeface="Times New Roman"/>
              </a:rPr>
              <a:t> </a:t>
            </a:r>
            <a:endParaRPr b="1" lang="en-US" sz="3400" spc="-1" strike="noStrike">
              <a:solidFill>
                <a:srgbClr val="808080"/>
              </a:solidFill>
              <a:latin typeface="Arial"/>
            </a:endParaRPr>
          </a:p>
        </p:txBody>
      </p:sp>
      <p:sp>
        <p:nvSpPr>
          <p:cNvPr id="109"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veloping possible future environmental trajectories on issues of interest is very uncertain </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an limit alternative paths to a few but this may have tragic consequences if the analysis is inaccurate</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May include all possible occurrences and hope to adjust as environmental issues develop (i.e. the scenario approach)</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nceptually, we may develop a funnel increasing in diameter with time and with less likely extreme scenarios on the edge of the funnel.</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60"/>
            <a:ext cx="86108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Centre gives most likely scenarios but disruptive events may have influence on the range of possible scenarios</a:t>
            </a:r>
            <a:endParaRPr b="1" lang="en-US" sz="2400" spc="-1" strike="noStrike">
              <a:solidFill>
                <a:srgbClr val="808080"/>
              </a:solidFill>
              <a:latin typeface="Arial"/>
            </a:endParaRPr>
          </a:p>
        </p:txBody>
      </p:sp>
      <p:sp>
        <p:nvSpPr>
          <p:cNvPr id="111" name=""/>
          <p:cNvSpPr/>
          <p:nvPr/>
        </p:nvSpPr>
        <p:spPr>
          <a:xfrm>
            <a:off x="259092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838080" y="1231920"/>
            <a:ext cx="6934320" cy="49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60"/>
            <a:ext cx="80010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Unicode MS"/>
                <a:ea typeface="Arial Unicode MS"/>
              </a:rPr>
              <a:t>Emerging issues must be included in the development of scenarios as they</a:t>
            </a:r>
            <a:r>
              <a:rPr b="1" lang="en-GB" sz="3200" spc="-1" strike="noStrike">
                <a:solidFill>
                  <a:srgbClr val="808080"/>
                </a:solidFill>
                <a:latin typeface="Arial Unicode MS"/>
                <a:ea typeface="Arial Unicode MS"/>
              </a:rPr>
              <a: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4" name="PlaceHolder 2"/>
          <p:cNvSpPr>
            <a:spLocks noGrp="1"/>
          </p:cNvSpPr>
          <p:nvPr>
            <p:ph/>
          </p:nvPr>
        </p:nvSpPr>
        <p:spPr>
          <a:xfrm>
            <a:off x="762120" y="1295280"/>
            <a:ext cx="723888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raise issues of concern for the general public and increase participation in formulating policy on the issues,</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ncourage preliminary discussion for formulating policy on issues before they become  crises, and </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guide environmental research and data collection on the issues at an early s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Times New Roman"/>
              </a:rPr>
              <a:t>Some significant forces driving scenarios in Africa</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6" name="PlaceHolder 2"/>
          <p:cNvSpPr>
            <a:spLocks noGrp="1"/>
          </p:cNvSpPr>
          <p:nvPr>
            <p:ph/>
          </p:nvPr>
        </p:nvSpPr>
        <p:spPr>
          <a:xfrm>
            <a:off x="762120" y="1142640"/>
            <a:ext cx="7315200" cy="5257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Rapidly increasing popul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sire for economic diversification from dependence on natural resources </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mproving social levels of human development with good stable family incom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frica’s diverse cultur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ppropriate technology in the development proces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ustainable management practices to mitigate environmental degrad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ncreased local participation, improved governance, and cooperation beyond national border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cenarios? Why not use trend analysis or mathematical modelling ?</a:t>
            </a:r>
            <a:endParaRPr b="1" lang="en-US" sz="3200" spc="-1" strike="noStrike">
              <a:solidFill>
                <a:srgbClr val="808080"/>
              </a:solidFill>
              <a:latin typeface="Arial"/>
            </a:endParaRPr>
          </a:p>
        </p:txBody>
      </p:sp>
      <p:sp>
        <p:nvSpPr>
          <p:cNvPr id="118"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Trend analysis and mathematical modelling are not sufficient for analyzing long range (e.g. decades, generations) future environmental events because:</a:t>
            </a:r>
            <a:endParaRPr b="1" lang="en-US" sz="26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re is always insufficient information to adjust policies for forces that govern environmental system dynamics over long period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environmental system, when linked to socioeconomic systems, becomes extremely complex with potentials for turbulent behavioural chang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future depends on human choices that are unknowable. Future human choices may be made completely outside what may be considered currently feasible or acceptabl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0"/>
            <a:ext cx="8305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of an environmental system</a:t>
            </a:r>
            <a:endParaRPr b="1" lang="en-US" sz="3000" spc="-1" strike="noStrike">
              <a:solidFill>
                <a:srgbClr val="808080"/>
              </a:solidFill>
              <a:latin typeface="Arial"/>
            </a:endParaRPr>
          </a:p>
        </p:txBody>
      </p:sp>
      <p:sp>
        <p:nvSpPr>
          <p:cNvPr id="120" name=""/>
          <p:cNvSpPr/>
          <p:nvPr/>
        </p:nvSpPr>
        <p:spPr>
          <a:xfrm>
            <a:off x="19620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533520" y="114300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990360"/>
            <a:ext cx="6933960" cy="75960"/>
          </a:xfrm>
          <a:prstGeom prst="rect">
            <a:avLst/>
          </a:prstGeom>
          <a:noFill/>
          <a:ln w="0">
            <a:noFill/>
          </a:ln>
        </p:spPr>
        <p:txBody>
          <a:bodyPr lIns="90000" rIns="90000" tIns="29160" bIns="29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3" name="PlaceHolder 2"/>
          <p:cNvSpPr>
            <a:spLocks noGrp="1"/>
          </p:cNvSpPr>
          <p:nvPr>
            <p:ph/>
          </p:nvPr>
        </p:nvSpPr>
        <p:spPr>
          <a:xfrm>
            <a:off x="533160" y="1143000"/>
            <a:ext cx="75438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current state of the environment results from a history of previous states which have experienced different pressures</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ooking at the history gives us some idea of how difficult to develop future trajectories with any certainty: important forces may have changed the system dramatically from what might have been expected</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driving forces and pressures condition the path of the future but that future state is unpredictable.  </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urprising and extreme occurrences may change the path of development</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
        <p:nvSpPr>
          <p:cNvPr id="124" name=""/>
          <p:cNvSpPr/>
          <p:nvPr/>
        </p:nvSpPr>
        <p:spPr>
          <a:xfrm>
            <a:off x="83808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t steps in developing a scenario</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6" name="PlaceHolder 2"/>
          <p:cNvSpPr>
            <a:spLocks noGrp="1"/>
          </p:cNvSpPr>
          <p:nvPr>
            <p:ph/>
          </p:nvPr>
        </p:nvSpPr>
        <p:spPr>
          <a:xfrm>
            <a:off x="609480" y="1066680"/>
            <a:ext cx="7391520" cy="51055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ify the boundary of the analysis (spatially, thematically and temporally)</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scribe the current condition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onsequences of the current situation on the issue of interest</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rovide a narrative of the development of the selected paths of the scenario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hange for each option</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Give an image of the future with conclusions about the range of possible outcomes at point(s) in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32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Assessing policy options and scenarios</a:t>
            </a:r>
            <a:endParaRPr b="1" lang="en-US" sz="3200" spc="-1" strike="noStrike">
              <a:solidFill>
                <a:srgbClr val="808080"/>
              </a:solidFill>
              <a:latin typeface="Arial"/>
            </a:endParaRPr>
          </a:p>
        </p:txBody>
      </p:sp>
      <p:sp>
        <p:nvSpPr>
          <p:cNvPr id="128" name="PlaceHolder 2"/>
          <p:cNvSpPr>
            <a:spLocks noGrp="1"/>
          </p:cNvSpPr>
          <p:nvPr>
            <p:ph/>
          </p:nvPr>
        </p:nvSpPr>
        <p:spPr>
          <a:xfrm>
            <a:off x="609480" y="1143000"/>
            <a:ext cx="7467840" cy="51055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re are always many possible alternative frameworks but each must reduce possible options to a manageable number:</a:t>
            </a:r>
            <a:endParaRPr b="1" lang="en-US" sz="28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litative narratives have the advantage of expressing many unquantifiable variables of scenarios in qualitative terms (e.g. culture,  values, behaviour). Disadvantage: lack of scientific rigour</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ntitative models provide rigour but may be misinterpreted to mean scientific precision</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Most useful scenarios combine qualitative narrative and quantitative model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28240"/>
            <a:ext cx="69343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0" name="PlaceHolder 2"/>
          <p:cNvSpPr>
            <a:spLocks noGrp="1"/>
          </p:cNvSpPr>
          <p:nvPr>
            <p:ph/>
          </p:nvPr>
        </p:nvSpPr>
        <p:spPr>
          <a:xfrm>
            <a:off x="456840" y="1066680"/>
            <a:ext cx="7543800" cy="51055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600" spc="-1" strike="noStrike">
                <a:solidFill>
                  <a:srgbClr val="ffffff"/>
                </a:solidFill>
                <a:latin typeface="Arial Unicode MS"/>
                <a:ea typeface="Arial Unicode MS"/>
              </a:rPr>
              <a:t>This module is designed to address future environmental assessment. It helps readers to develop:</a:t>
            </a:r>
            <a:endParaRPr b="1" lang="en-US" sz="26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 good understanding of how present environmental policy can be linked to the future</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formation on why futuristic environmental policy studies are conducted</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Knowledge on the importance of emerging issues in understanding future environmental assessment studies</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me skills in scenario development for environmental assess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28240"/>
            <a:ext cx="69339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Paths to “the future”</a:t>
            </a:r>
            <a:endParaRPr b="1" lang="en-US" sz="3400" spc="-1" strike="noStrike">
              <a:solidFill>
                <a:srgbClr val="808080"/>
              </a:solidFill>
              <a:latin typeface="Arial"/>
            </a:endParaRPr>
          </a:p>
        </p:txBody>
      </p:sp>
      <p:sp>
        <p:nvSpPr>
          <p:cNvPr id="92" name="PlaceHolder 2"/>
          <p:cNvSpPr>
            <a:spLocks noGrp="1"/>
          </p:cNvSpPr>
          <p:nvPr>
            <p:ph/>
          </p:nvPr>
        </p:nvSpPr>
        <p:spPr>
          <a:xfrm>
            <a:off x="685800" y="1143000"/>
            <a:ext cx="7315200" cy="54864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policies have an important influence on how the future environment will turn out to be.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nalyses of present actions and policies may be linked to potential environmental paths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We can compare the various paths and, within our limitations, consciously select one with informed consent about the risks being taken, and the opportunities it will present for the future of our environment</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Our real chosen path may be different from our most preferred path due to various limitations, e.g. finance, available technology and skills, the necessity to create jobs, etc.</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in IEA</a:t>
            </a:r>
            <a:endParaRPr b="1" lang="en-US" sz="3200" spc="-1" strike="noStrike">
              <a:solidFill>
                <a:srgbClr val="808080"/>
              </a:solidFill>
              <a:latin typeface="Arial"/>
            </a:endParaRPr>
          </a:p>
        </p:txBody>
      </p:sp>
      <p:sp>
        <p:nvSpPr>
          <p:cNvPr id="94" name="PlaceHolder 2"/>
          <p:cNvSpPr>
            <a:spLocks noGrp="1"/>
          </p:cNvSpPr>
          <p:nvPr>
            <p:ph/>
          </p:nvPr>
        </p:nvSpPr>
        <p:spPr>
          <a:xfrm>
            <a:off x="685440" y="1066320"/>
            <a:ext cx="7543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e context of IEA, we assess the future when:</a:t>
            </a:r>
            <a:endParaRPr b="1" lang="en-US" sz="28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state of the current environment, the pressures on it and the effectiveness of the existing policies</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know its history and why it has taken the current trend</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current dangers it is facing now and have a vague idea that it might deteriorate further</a:t>
            </a:r>
            <a:endParaRPr b="1" lang="en-US" sz="26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is context, we ask questions 4 and 5 on the next slid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cont’d)</a:t>
            </a:r>
            <a:endParaRPr b="1" lang="en-US" sz="3200" spc="-1" strike="noStrike">
              <a:solidFill>
                <a:srgbClr val="808080"/>
              </a:solidFill>
              <a:latin typeface="Arial"/>
            </a:endParaRPr>
          </a:p>
        </p:txBody>
      </p:sp>
      <p:pic>
        <p:nvPicPr>
          <p:cNvPr id="96" name="" descr=""/>
          <p:cNvPicPr/>
          <p:nvPr/>
        </p:nvPicPr>
        <p:blipFill>
          <a:blip r:embed="rId1"/>
          <a:stretch/>
        </p:blipFill>
        <p:spPr>
          <a:xfrm>
            <a:off x="533520" y="1447920"/>
            <a:ext cx="7354800" cy="4276440"/>
          </a:xfrm>
          <a:prstGeom prst="rect">
            <a:avLst/>
          </a:prstGeom>
          <a:ln w="0">
            <a:noFill/>
          </a:ln>
        </p:spPr>
      </p:pic>
      <p:sp>
        <p:nvSpPr>
          <p:cNvPr id="97" name=""/>
          <p:cNvSpPr/>
          <p:nvPr/>
        </p:nvSpPr>
        <p:spPr>
          <a:xfrm>
            <a:off x="1066680" y="25146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1240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 trying to answer this question:</a:t>
            </a:r>
            <a:r>
              <a:rPr b="1" lang="en-GB" sz="3600" spc="-1" strike="noStrike">
                <a:solidFill>
                  <a:srgbClr val="000000"/>
                </a:solidFill>
                <a:latin typeface="StoneSans-Semibold"/>
                <a:ea typeface="Times New Roman"/>
              </a:rPr>
              <a:t> </a:t>
            </a:r>
            <a:endParaRPr b="1" lang="en-US" sz="3600" spc="-1" strike="noStrike">
              <a:solidFill>
                <a:srgbClr val="808080"/>
              </a:solidFill>
              <a:latin typeface="Arial"/>
            </a:endParaRPr>
          </a:p>
        </p:txBody>
      </p:sp>
      <p:sp>
        <p:nvSpPr>
          <p:cNvPr id="100" name="PlaceHolder 2"/>
          <p:cNvSpPr>
            <a:spLocks noGrp="1"/>
          </p:cNvSpPr>
          <p:nvPr>
            <p:ph/>
          </p:nvPr>
        </p:nvSpPr>
        <p:spPr>
          <a:xfrm>
            <a:off x="533160" y="1143000"/>
            <a:ext cx="7467480" cy="502920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400" spc="-1" strike="noStrike">
                <a:solidFill>
                  <a:srgbClr val="ffffff"/>
                </a:solidFill>
                <a:latin typeface="Arial Unicode MS"/>
                <a:ea typeface="Arial Unicode MS"/>
              </a:rPr>
              <a:t>Other implied questions must also be answered about what we know and what we want to d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ere are our current policies taking us?</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s this where we want to g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other policies could be more useful?</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consequences might various policy alternatives have on the environment in future?</a:t>
            </a:r>
            <a:endParaRPr b="1"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se questions alert the decision making process to the advantages and dangers of selecting certain paths in future policy formulation.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76320"/>
            <a:ext cx="78483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Reasons for conducting futuristic environmental policy studies</a:t>
            </a:r>
            <a:endParaRPr b="1" lang="en-US" sz="3200" spc="-1" strike="noStrike">
              <a:solidFill>
                <a:srgbClr val="808080"/>
              </a:solidFill>
              <a:latin typeface="Arial"/>
            </a:endParaRPr>
          </a:p>
        </p:txBody>
      </p:sp>
      <p:sp>
        <p:nvSpPr>
          <p:cNvPr id="102" name="PlaceHolder 2"/>
          <p:cNvSpPr>
            <a:spLocks noGrp="1"/>
          </p:cNvSpPr>
          <p:nvPr>
            <p:ph/>
          </p:nvPr>
        </p:nvSpPr>
        <p:spPr>
          <a:xfrm>
            <a:off x="609480" y="1143000"/>
            <a:ext cx="7467840" cy="495288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be aware of  the consequences of present actions and policies on the environment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tect and avoid the dangers that could happen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proactive strategies that can be used to avoid future catastrophes</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a yardstick for a desired future environment against which we can measure our performance in advancing preferred alternati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merging issues</a:t>
            </a:r>
            <a:endParaRPr b="1" lang="en-US" sz="3200" spc="-1" strike="noStrike">
              <a:solidFill>
                <a:srgbClr val="808080"/>
              </a:solidFill>
              <a:latin typeface="Arial"/>
            </a:endParaRPr>
          </a:p>
        </p:txBody>
      </p:sp>
      <p:sp>
        <p:nvSpPr>
          <p:cNvPr id="104" name="PlaceHolder 2"/>
          <p:cNvSpPr>
            <a:spLocks noGrp="1"/>
          </p:cNvSpPr>
          <p:nvPr>
            <p:ph/>
          </p:nvPr>
        </p:nvSpPr>
        <p:spPr>
          <a:xfrm>
            <a:off x="684360" y="1143000"/>
            <a:ext cx="731664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sues whose future potential impact may not currently be realized by the public or decision makers but may be vaguely speculated upon by a few scientists, e.g. the socioeconomic impact of HIV/AIDS</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ulation is beyond current policy actions. It is uncertain and labour-intensive.</a:t>
            </a:r>
            <a:endParaRPr b="1" lang="en-US" sz="2800" spc="-1" strike="noStrike">
              <a:solidFill>
                <a:srgbClr val="ffffff"/>
              </a:solidFill>
              <a:latin typeface="Arial"/>
            </a:endParaRPr>
          </a:p>
        </p:txBody>
      </p:sp>
      <p:sp>
        <p:nvSpPr>
          <p:cNvPr id="105" name=""/>
          <p:cNvSpPr txBox="1"/>
          <p:nvPr/>
        </p:nvSpPr>
        <p:spPr>
          <a:xfrm>
            <a:off x="609120" y="4038480"/>
            <a:ext cx="7543800" cy="2819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ome recent emerging issues with impact on the environmen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7" name="PlaceHolder 2"/>
          <p:cNvSpPr>
            <a:spLocks noGrp="1"/>
          </p:cNvSpPr>
          <p:nvPr>
            <p:ph/>
          </p:nvPr>
        </p:nvSpPr>
        <p:spPr>
          <a:xfrm>
            <a:off x="685800" y="1219320"/>
            <a:ext cx="7238880" cy="487656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lobal warming</a:t>
            </a:r>
            <a:r>
              <a:rPr b="1" lang="en-GB" sz="2400" spc="-1" strike="noStrike">
                <a:solidFill>
                  <a:srgbClr val="ffffff"/>
                </a:solidFill>
                <a:latin typeface="Arial Unicode MS"/>
                <a:ea typeface="Arial Unicode MS"/>
              </a:rPr>
              <a:t> </a:t>
            </a:r>
            <a:r>
              <a:rPr b="1" lang="en-GB" sz="2600" spc="-1" strike="noStrike">
                <a:solidFill>
                  <a:srgbClr val="ffffff"/>
                </a:solidFill>
                <a:latin typeface="Arial Unicode MS"/>
                <a:ea typeface="Arial Unicode MS"/>
              </a:rPr>
              <a:t>– not clearly comprehended in 1990’s but its impact widely accepted now.</a:t>
            </a:r>
            <a:endParaRPr b="1" lang="en-US" sz="26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Long range transport of atmospheric pollutants – hotly debated by a few scientists in the 1960’s.  Its extent and impact have been studied successfully using remotely sensed information.</a:t>
            </a:r>
            <a:endParaRPr b="1" lang="en-US" sz="2600" spc="-1" strike="noStrike">
              <a:solidFill>
                <a:srgbClr val="ffffff"/>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New technologies in agricultural production which culminated in the Green Revolution (1970’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30:50Z</dcterms:created>
  <dc:creator>Elijah Munyao</dc:creator>
  <dc:description/>
  <dc:language>en-US</dc:language>
  <cp:lastModifiedBy>Elijah Munyao</cp:lastModifiedBy>
  <dcterms:modified xsi:type="dcterms:W3CDTF">2009-12-21T06:32:31Z</dcterms:modified>
  <cp:revision>3</cp:revision>
  <dc:subject/>
  <dc:title>MODULE 9:  LINKING INTEGRATED ENVIRONMENTAL ASSESSMENT TO POLICY </dc:title>
</cp:coreProperties>
</file>