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ACA3-A403-41AC-90FD-D01D8D11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1C80-C77F-4F16-93DA-4FCBAF00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90D6-790C-4D25-8000-4427514F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3E3-63CD-4884-89D8-A40DA57D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4398-F3B5-4BDA-8BFA-393BC54B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3FD-B98D-4D14-ABA1-4279B3DC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D98E-9D44-44A5-8193-1AD4C80A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24F-F04B-4C37-A31A-01885F8E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32DB-64C4-4095-B7E4-B1556C6C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DECE-B0B7-4EF3-9D0D-D7378163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A789-0C48-42E8-A686-61F40FEB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B2A-BA11-4AB9-A18D-A6899BB6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6600" y="66639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057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65F1-69BE-4ECD-A7D2-1CED5DAD5977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6207200">
            <a:off x="-1332360" y="247536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Early War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8648640" y="5638680"/>
            <a:ext cx="304920" cy="228600"/>
          </a:xfrm>
          <a:custGeom>
            <a:avLst/>
            <a:gdLst>
              <a:gd name="textAreaLeft" fmla="*/ 4752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8016840" y="6019920"/>
          <a:ext cx="112716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6840" y="6019920"/>
                    <a:ext cx="11271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7315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2437920"/>
            <a:ext cx="71625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ODULE 1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Introduction to Environmental Assess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IEA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grates social, economic and environmental issues in the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trives to show cause-effect linkages of human and natural action on the environment and the implications on liveliho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-15228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08080"/>
                </a:solidFill>
                <a:latin typeface="Arial"/>
                <a:ea typeface="Arial"/>
              </a:rPr>
              <a:t>IEA needs to incorporate policy assessment for the whole system</a:t>
            </a:r>
            <a:r>
              <a:rPr b="0" lang="en-GB" sz="36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315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 intentional or unintentional consequences of policies are often dispersed over space, sectors of the economy or environmental media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 effects of policy are delayed in time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 consequences of policies can be incremental and cumulative, they may also represent root causes of environmental problem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uman well-being and vulnerability are affected by the system as a whole and the policies used to manage i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2209680"/>
            <a:ext cx="1904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3556080" cy="48006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609480" y="1676520"/>
            <a:ext cx="32004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Unicode MS"/>
                <a:ea typeface="SimSun"/>
              </a:rPr>
              <a:t>Human and natural driving forces and pressures are impacting the enviro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228240"/>
            <a:ext cx="62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  <a:ea typeface="Times New Roman"/>
              </a:rPr>
              <a:t>IEA: Human well-be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2209680"/>
            <a:ext cx="1904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19320" y="2743200"/>
            <a:ext cx="5657760" cy="393372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57200" y="1066680"/>
            <a:ext cx="7848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SimSun"/>
              </a:rPr>
              <a:t>Environmental services and human well-being affected, widening gap between the haves and have-nots, and increasing vulnerability for the lat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2278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EA: Human well-being and vuln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6238800" cy="365472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914400" y="158040"/>
            <a:ext cx="79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EA: Human…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29528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Unicode MS"/>
                <a:ea typeface="SimSun"/>
              </a:rPr>
              <a:t>Achieving human well-being is a balancing a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95320" y="0"/>
            <a:ext cx="8248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IEA multidimensional and incorporates other elements not in the traditional SOE reporting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224000"/>
            <a:ext cx="7467480" cy="53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vironmental media (state-and-trends of land, water, atmosphere and biodivers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unctional (provision of environmental goods-and-servi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source sectors (e.g. links with energy use, tourism, agriculture, manufacturing, mining and t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95320" y="0"/>
            <a:ext cx="8248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IEA multidimensional…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224000"/>
            <a:ext cx="7467480" cy="53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rosscutting issues (relating to production, consumption, gender, poverty, human wellbeing and vulnerabili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vironmental issues (land degradation, air and water pollution, disasters, overexploitation of resour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rlinkages within and between all of the abo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licy responses and analy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  <a:ea typeface="Times New Roman"/>
              </a:rPr>
              <a:t>IEA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723924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nks environmental state-and-trends with  policy respon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grates environmental analysis with social and economic trends and poli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corporates global and sub-global perspecti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corporates historical and future perspecti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volves diverse environment-socioeconomic expert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EA answers five consecutive questions in sequence, as shown below, from which we can get information to relate socioeconomic activities, environment and policy</a:t>
            </a:r>
            <a:r>
              <a:rPr b="1" lang="en-GB" sz="2400" spc="-1" strike="noStrike">
                <a:solidFill>
                  <a:srgbClr val="ffffff"/>
                </a:solidFill>
                <a:latin typeface="AGaramond-Regular"/>
                <a:ea typeface="Times New Roman"/>
              </a:rPr>
              <a:t> 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7162920" cy="3881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90720" y="152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  <a:ea typeface="Times New Roman"/>
              </a:rPr>
              <a:t>I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Environmental Impact Assessment (EIA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tool used to determine the social, economic, and environmental impact of major developments, and proposes measures to mitigate impac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s project and site specif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 the context of IEA, it is a policy respon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mands for public particip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WHY  MODULE 1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19320"/>
            <a:ext cx="731520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o conduct a successful Integrated Environmental Assessment and reporting (IEA), </a:t>
            </a:r>
            <a:r>
              <a:rPr b="1" lang="en-U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t is very important to understand the different types of assessments and how they differ or relate to IE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is module discusses the different assessments and sets the overall context of I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Strategic Environmental Assessment (SEA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als with the effects of a proposed strategic action (policy, programme and plan) and identifies best practicable environmental o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decision-support to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lps to incorporate sustainability principals in policy making proc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vides a context for assessing cumulative effects of different projects or initiati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vides context for screening projects for EIA (fully fledged EIA or Review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 the IEA context, SEA are policy respons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orporate environmental assessment and reporting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nagement support tool (ISO certificatio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sponse to statutory obligation or corporate social responsi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 the context of IEA, it is both an action and policy respon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933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Arial"/>
              </a:rPr>
              <a:t>OBJECTIVES OF THE MODUL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208160"/>
            <a:ext cx="701028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o highlight the different types of environmental assessment and the evolution of IE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o give the background to IEA and how it informs decision mak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o provide an overview of the different approaches for the different assess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o identify some opportunities for synergy among the different assessment approach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The different types of Environmental Assessment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tate of the Environment (SOE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grated Environmental Assessment and Reporting (IEA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vironmental Impact Assessment (EIA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trategic Environmental Assessment (SEA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rporate Environmental Assessment and Reporting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State of the Environment (SOE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in focus is on the biophysical aspect of the environ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sually undertaken by a government agency in fulfillment of a statutory requir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ypically has no outlook compon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vides the basis for IEA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Traditional SOE Report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315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arly environmental assessment reports focussed on reporting the SOE as it existed at the time of reporting. These are now referred to as “traditional SOE Reports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raditional SOE Reports have been useful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 pointing out existing environmental trends and condi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 providing key leverage points to decision-maker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 giving us an inventory of resources which can be used as a starting point for planning sustainable developmen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Traditional SOE Reports (cont’d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315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re, however, weak in many areas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y are narrative syntheses of the state of the environment, not analyses intended to plan sustainable develop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re not integrated with the assessment of key driving forces and policies that cause or influence the environmental trends that have been identifi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re not analytically linked to the potential future outcomes of the current state of the enviro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o overcome these, SOE must be transformed into IEA with backward and forward linkages to what is continuously happening to the environment.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The evolution of IEA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467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Need for broad-based assess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f we are to respond to interconnected issues. we requi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alistic assessment and reporting practices that communicate problems and solutions to decision-makers and the public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broader assessment and reporting process that takes into account the links among ecological, socioeconomic and policy issues more systematically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  <a:ea typeface="Times New Roman"/>
              </a:rPr>
              <a:t>INTEGRATED ENVIRONMENTAL ASSESSMENT AND REPORTING (IEA)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grated Environmental Assessment and reporting (EA) is a process of producing and communicating policy-relevant information on key interactions between the natural environment and human societ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06:21:24Z</dcterms:created>
  <dc:creator>Elijah Munyao</dc:creator>
  <dc:description/>
  <dc:language>en-US</dc:language>
  <cp:lastModifiedBy>Elijah Munyao</cp:lastModifiedBy>
  <dcterms:modified xsi:type="dcterms:W3CDTF">2009-12-21T06:21:51Z</dcterms:modified>
  <cp:revision>1</cp:revision>
  <dc:subject/>
  <dc:title>   </dc:title>
</cp:coreProperties>
</file>