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0F2-9753-4605-B139-24DF344C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7C5-08F0-43E3-84DC-28DD855D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0F2-3906-4267-8970-BE22542D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758-6D02-47BF-BEC3-29CB0A61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647-0F3E-45B0-B929-C878CBDC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20B-EDB0-45F0-80E6-0857B04B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D5B-80FF-4FC3-AB8B-A83C4D53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3D2-7399-4783-A8D1-C44315EC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5AF-A223-48AB-A950-4A8FBA6A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550-93EB-4C86-9EFA-B652060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2B5-03D8-422C-8E47-279CCE6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630-C29D-4B37-9683-6FB52EE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2134-2117-426E-8610-5066E3FEB7D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7162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Introduction to Environmental Assess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IEA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s social, economic and environmental issues in th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rives to show cause-effect linkages of human and natural action on the environment and the implications on liveliho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-15228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Arial"/>
              </a:rPr>
              <a:t>IEA needs to incorporate policy assessment for the whole system</a:t>
            </a:r>
            <a:r>
              <a:rPr b="0" lang="en-GB" sz="3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intentional or unintentional consequences of policies are often dispersed over space, sectors of the economy or environmental media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effects of policy are delayed in tim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consequences of policies can be incremental and cumulative, they may also represent root causes of environmental problem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uman well-being and vulnerability are affected by the system as a whole and the policies used to manage i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09680"/>
            <a:ext cx="1904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3556080" cy="48006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09480" y="1676520"/>
            <a:ext cx="3200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Human and natural driving forces and pressures are impacting the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28240"/>
            <a:ext cx="62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IEA: Human well-be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2209680"/>
            <a:ext cx="1904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5657760" cy="3933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57200" y="1066680"/>
            <a:ext cx="78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Environmental services and human well-being affected, widening gap between the haves and have-nots, and increasing vulnerability for the la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27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EA: Human well-being and vuln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238800" cy="3654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914400" y="158040"/>
            <a:ext cx="79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EA: Human…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952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Achieving human well-being is a balancing a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95320" y="0"/>
            <a:ext cx="824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IEA multidimensional and incorporates other elements not in the traditional SOE reporting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224000"/>
            <a:ext cx="74674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media (state-and-trends of land, water, atmosphere and biodivers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nctional (provision of environmental goods-and-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ource sectors (e.g. links with energy use, tourism, agriculture, manufacturing, mining and t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95320" y="0"/>
            <a:ext cx="824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IEA multidimensional…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24000"/>
            <a:ext cx="74674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osscutting issues (relating to production, consumption, gender, poverty, human wellbeing and vulnerabil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issues (land degradation, air and water pollution, disasters, overexploitation of re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rlinkages within and between all of the ab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licy responses and analy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IE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723924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nks environmental state-and-trends with  policy respon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s environmental analysis with social and economic trends and poli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ates global and sub-global persp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ates historical and future persp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volves diverse environment-socioeconomic expert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EA answers five consecutive questions in sequence, as shown below, from which we can get information to relate socioeconomic activities, environment and policy</a:t>
            </a:r>
            <a:r>
              <a:rPr b="1" lang="en-GB" sz="24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7162920" cy="3881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152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I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nvironmental Impact Assessment (EIA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tool used to determine the social, economic, and environmental impact of major developments, and proposes measures to mitigate impac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s project and site specif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the context of IEA, it is a policy respon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mands for public particip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WHY  MODULE 1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19320"/>
            <a:ext cx="731520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conduct a successful Integrated Environmental Assessment and reporting (IEA), </a:t>
            </a: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is very important to understand the different types of assessments and how they differ or relate to IE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module discusses the different assessments and sets the overall context of I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trategic Environmental Assessment (SEA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als with the effects of a proposed strategic action (policy, programme and plan) and identifies best practicable environmental 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decision-support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elps to incorporate sustainability principals in policy making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vides a context for assessing cumulative effects of different projects or initia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vides context for screening projects for EIA (fully fledged EIA or Review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the IEA context, SEA are policy respon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orporate environmental assessment and reporting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nagement support tool (ISO certificatio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ponse to statutory obligation or corporate social respo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the context of IEA, it is both an action and polic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Arial"/>
              </a:rPr>
              <a:t>OBJECTIVES OF THE MODUL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208160"/>
            <a:ext cx="70102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highlight the different types of environmental assessment and the evolution of IE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give the background to IEA and how it informs decision ma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provide an overview of the different approaches for the different assess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identify some opportunities for synergy among the different assessment approa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he different types of Environmental Assessment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ate of the Environment (SO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d Environmental Assessment and Reporting (IE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vironmental Impact Assessment (EI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rategic Environmental Assessment (SEA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rporate Environmental Assessment and Reporting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tate of the Environment (SO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in focus is on the biophysical aspect of the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sually undertaken by a government agency in fulfillment of a statutory requir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ypically has no outlook compon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vides the basis for IEA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raditional SOE Report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arly environmental assessment reports focussed on reporting the SOE as it existed at the time of reporting. These are now referred to as “traditional SOE Report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ditional SOE Reports have been useful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pointing out existing environmental trends and condi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providing key leverage points to decision-make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 giving us an inventory of resources which can be used as a starting point for planning sustainable developme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raditional SOE Reports (cont’d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e, however, weak in many area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y are narrative syntheses of the state of the environment, not analyses intended to plan sustainabl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e not integrated with the assessment of key driving forces and policies that cause or influence the environmental trends that have been identifi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e not analytically linked to the potential future outcomes of the current state of the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 overcome these, SOE must be transformed into IEA with backward and forward linkages to what is continuously happening to the environment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he evolution of IE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Need for broad-based asses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f we are to respond to interconnected issues. we requi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alistic assessment and reporting practices that communicate problems and solutions to decision-makers and the public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broader assessment and reporting process that takes into account the links among ecological, socioeconomic and policy issues more systematically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Times New Roman"/>
              </a:rPr>
              <a:t>INTEGRATED ENVIRONMENTAL ASSESSMENT AND REPORTING (IEA)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grated Environmental Assessment and reporting (EA) is a process of producing and communicating policy-relevant information on key interactions between the natural environment and human socie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21:24Z</dcterms:created>
  <dc:creator>Elijah Munyao</dc:creator>
  <dc:description/>
  <dc:language>en-US</dc:language>
  <cp:lastModifiedBy>Elijah Munyao</cp:lastModifiedBy>
  <dcterms:modified xsi:type="dcterms:W3CDTF">2009-12-21T06:21:51Z</dcterms:modified>
  <cp:revision>1</cp:revision>
  <dc:subject/>
  <dc:title>   </dc:title>
</cp:coreProperties>
</file>