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62F-8016-44C4-A051-C6AB9984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193-5B48-4444-878D-5EF425D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729-91EE-4485-A2AD-9D3D6818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17B-C327-4486-A6C4-28B0DA19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DEA7-017C-4B73-99A5-530800AF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AFCD-CD92-4A88-8A6C-5DF27F2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7BE-4E67-4539-AD75-4D33F670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56A-8A19-4189-BA71-23F93A1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ECBE-65DA-4FA2-A27F-EE6A8423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055A-2E76-4C61-B4CA-15EEFFF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6904-7566-405B-9E77-DAD5E549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1F7-D5F8-4607-8857-992BBAE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D96A-E355-42C3-A20F-6C24FE4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6718-2FC9-4F55-84B5-8BD794C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4718-63B8-4A39-8E76-EE0C38F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42FB-8D67-4CAF-AC78-CCC5755F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BF1C-3C41-41C2-8EBB-B3FC4EA3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56C-C258-412B-8B2A-143AEE3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EFE-330C-48B7-80DF-41AD5E3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C78-F5F9-4281-883E-9B814F9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631-811D-4375-A193-8983E299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F8A-1A91-450C-8115-C8063F1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6F7-C6A5-4C9C-BE9D-9A25407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712-126E-4A0A-BF80-0E3B044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B6FA-C2E3-45C3-AA56-C7860608C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C1D2-50AD-4FB2-BE6D-5B09B4DA24A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34648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4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ANAGING THE ASSESSMENT AND  REPOR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isting structures at the national level may be difficult to modify to accommodate the IEA process; the process normally is made to fit into existing struct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o overall “best” management structures are agreed on but best practices in many African countries show the importance of a key existing department in a ministry or a new department or author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coordinating role of the key department or authority requires a level of clout over other depar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ossible organizational char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496960"/>
          <a:ext cx="686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96960"/>
                    <a:ext cx="686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352680" y="41911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1752480"/>
            <a:ext cx="2590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Possible organization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t the national level in an African country, it has been considered appropriate to put environmental assessment and reporting directly under cabinet responsibility. One possible organization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liament – 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ve, policy making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abinet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final decision making auth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levant Ministry 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– e.g. Ministry of Environment, champions the cause of the IEA process but works in close collaboration with other minist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vironmental Authority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the workhorse on environmental matters in the Ministry of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ert technical advisory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participants with specialised knowl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9680" indent="-319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takeholder focus groups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representatives of various social organiz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Management of the process at the sub-national leve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162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re analytical assessment of an independent or semi-independent agency may be made because it may have more advantages than would be the case at the national level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ll start with a clean slate avoiding inter-departmental bick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be more independent in getting funds in addition to funds from gover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y more easily link with NGO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The legal mandat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EA requires that many departments and organizations work together attending to specific responsibilities under tight time bud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ach participant must have the legal responsibility to carry out what is expected and the authority to demand others’ inpu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egislation at the national level required to define relationships, responsibilities, authority and expectations for a successful IEA pro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eyond national level, governments should provide mandates to the appropriate reporting institu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Legislation could be particularly used at the national level for: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etting the stage for collaboration expected between government agenc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data sharing and harm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rules for external consultation and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fining the rules for sustainable local capacity building to replace external as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troduc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module discusses the involvement of various groups of people in the IEA process. It highlight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Importance of the IEA proc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who should get involved and the level of involvement for different groups of people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important issues should be decided, 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20" indent="-54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ow the IEA process could be manag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IEA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EA is a continuous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ts organization and management should allow scientists from various fields of environmental  pursuits (transdisciplinary) to decide the important issues for analysis in collaboration with a broad but manageable range of civil 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 institutional setting that is entrusted with the leadership should have a legal mandate to conduct or provide leadership in all aspects of environmental assessment and reporting, and to expect the participation of other institutions as an necessary oblig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mportance of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 learning process for all that get involved assisting to build capacity on knowledge about the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provides a broad basis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upporting sustainable develo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xploring linkages between policy, the economy, society and environ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eveloping appropriate policy pack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couraging good governance and ownership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ringing together fragmented knowledge and streamlining issues of policy form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Facilitating cooperation of policy makers across government and bey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mmunication in Africa with different social groups is particularly difficult. Involvement in the IEA process should not be taken for granted for any social group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lanners of the process should make extra effort to include poorer communities which are commonly overlook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tribution of poorer marginalized communities may be unique, e.g may add indigenous knowledg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may be on three major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ivil society is informed of environmental policies either already made or about to be made  and is allowed to comment. Their comments may not influence the outcom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at some time before or after the environmental policy is drawn up, the opinions of civil society are solicited. Its opinions and views are expected to influence the final policy formul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continuous communication between civil society, policy drafting groups and decision makers. Final environmental policy is the outcome of direct and complete involvement of the three grou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Involvement in the IEA process in practic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091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fferent groups of civil society are involved at different levels depending on their level of interest and relevance for a particular issue of the re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nly a number of manageable representatives are involved, not everybody relev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Some suggestions on levels of involvement in different issu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3886200"/>
          <a:ext cx="6933960" cy="2514600"/>
        </p:xfrm>
        <a:graphic>
          <a:graphicData uri="http://schemas.openxmlformats.org/drawingml/2006/table">
            <a:tbl>
              <a:tblPr/>
              <a:tblGrid>
                <a:gridCol w="1981080"/>
                <a:gridCol w="2641680"/>
                <a:gridCol w="23112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ss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ection of civil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Level of invol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Farm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Taxi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Water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efore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School tea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Urban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Mining comm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Particip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Con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in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105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AEO Process uses all three lev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 the development of the AEO, all three levels are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Particip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 special working groups (e.g on policy, capacity-building, data, etc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Consult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 with thematic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560" indent="4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nformation dissemination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–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general publ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Deciding important issues in the process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e whole range of issues relevant to environmental assessment cannot be included in a report. Early selection of a manageable list of the most important issues is importa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mportance of issues will differ with scale of analysis (regional, sub-regional, national, etc.) and among different countries or other regions of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t is advisable to start with a long list of relevant issues drawn up by experts from which a manageable list may be selected by a wide range of stakehold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his process was used to decide on important issues for AEO-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6:22:47Z</dcterms:created>
  <dc:creator>Elijah Munyao</dc:creator>
  <dc:description/>
  <dc:language>en-US</dc:language>
  <cp:lastModifiedBy>Elijah Munyao</cp:lastModifiedBy>
  <dcterms:modified xsi:type="dcterms:W3CDTF">2009-12-21T06:24:29Z</dcterms:modified>
  <cp:revision>3</cp:revision>
  <dc:subject/>
  <dc:title>   </dc:title>
</cp:coreProperties>
</file>