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5BF-5118-41CC-88CF-340BC85B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B0F-4EA8-4547-95A5-A1A56C2A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5B1-ED1A-48DD-BC61-A7787E98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982-E8E6-479C-80B4-7C647545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29C1-BC4A-4358-96C0-1FC046DC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284B-FD51-40FD-8B96-77356B99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BF87-4047-4DA4-A89F-75527DF0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8217-BC8C-4DFD-A8CF-115CE1CF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2209-A3E4-4705-A22A-BA8FCF4C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1B6F-4F81-49CE-9350-18FFFC81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7F45-9E7C-44EA-9A9E-D1AC10EE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6D3-AA4D-4160-959F-2DCFEFC4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702F-7C0F-44DF-801F-76BE9DB1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E27A-47B3-4F1A-AF48-E1D29417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8D45-8C1D-4E3D-B18C-E6AC166C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70AA-1174-44AA-B05C-F0AED1F8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5FC8-DD40-481F-965E-15FA0A34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D27-7CFD-4FAC-99CD-788935F0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3306-EE99-4C38-9AE6-3429723F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57E-05B0-4F78-BB0E-6A6E91CF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083-B98E-4D01-ADF8-19C1CBB2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233-02DA-4FA0-ADA9-DF884318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410-CC88-41F0-B411-A3AE3698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4E5-1DCA-44E9-8298-42465DA0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F5E3-AF0D-4182-9858-EAF7825E9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84C4-0AB5-4A78-A461-41E76E866896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346480"/>
            <a:ext cx="7391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4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ANAGING THE ASSESSMENT AND  REPORT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Management of the process at the national level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xisting structures at the national level may be difficult to modify to accommodate the IEA process; the process normally is made to fit into existing structur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No overall “best” management structures are agreed on but best practices in many African countries show the importance of a key existing department in a ministry or a new department or author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e coordinating role of the key department or authority requires a level of clout over other depar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Possible organizational char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3520" y="2496960"/>
          <a:ext cx="686412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96960"/>
                    <a:ext cx="6864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352680" y="4191120"/>
            <a:ext cx="251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1752480"/>
            <a:ext cx="25909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RLI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Possible organization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4678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t the national level in an African country, it has been considered appropriate to put environmental assessment and reporting directly under cabinet responsibility. One possible organization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Parliament –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legislative, policy making bo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abinet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final decision making autho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Relevant Ministry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– e.g. Ministry of Environment, champions the cause of the IEA process but works in close collaboration with other minist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nvironmental Authority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the workhorse on environmental matters in the Ministry of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xpert technical advisory groups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participants with specialised knowled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takeholder focus groups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representatives of various social organiz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Management of the process at the sub-national level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162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ore analytical assessment of an independent or semi-independent agency may be made because it may have more advantages than would be the case at the national level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ill start with a clean slate avoiding inter-departmental bicke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y be more independent in getting funds in addition to funds from gover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y more easily link with NGO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The legal mandat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010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EA requires that many departments and organizations work together attending to specific responsibilities under tight time budg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ach participant must have the legal responsibility to carry out what is expected and the authority to demand others’ inpu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Legislation at the national level required to define relationships, responsibilities, authority and expectations for a successful IEA proc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Beyond national level, governments should provide mandates to the appropriate reporting institu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Legislation could be particularly used at the national level for: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etting the stage for collaboration expected between government agenci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ncouraging data sharing and harmoniz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efining rules for external consultation and particip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efining the rules for sustainable local capacity building to replace external assist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troduction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is module discusses the involvement of various groups of people in the IEA process. It highlight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e Importance of the IEA proc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who should get involved and the level of involvement for different groups of people,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how important issues should be decided, 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how the IEA process could be manag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IEA Proces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EA is a continuous pro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s organization and management should allow scientists from various fields of environmental  pursuits (transdisciplinary) to decide the important issues for analysis in collaboration with a broad but manageable range of civil socie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institutional setting that is entrusted with the leadership should have a legal mandate to conduct or provide leadership in all aspects of environmental assessment and reporting, and to expect the participation of other institutions as an necessary oblig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mportance of the IEA Proces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315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t is a learning process for all that get involved assisting to build capacity on knowledge about the enviro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t provides a broad basis f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upporting sustainable developm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xploring linkages between policy, the economy, society and environm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eveloping appropriate policy pack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ncouraging good governance and ownership of the re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Bringing together fragmented knowledge and streamlining issues of policy form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Facilitating cooperation of policy makers across government and bey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volvement in the IEA proces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ommunication in Africa with different social groups is particularly difficult. Involvement in the IEA process should not be taken for granted for any social group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Planners of the process should make extra effort to include poorer communities which are commonly overlook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ontribution of poorer marginalized communities may be unique, e.g may add indigenous knowledg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volvement in the IEA process may be on three major level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010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nformation dissemination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civil society is informed of environmental policies either already made or about to be made  and is allowed to comment. Their comments may not influence the outcom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onsultation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at some time before or after the environmental policy is drawn up, the opinions of civil society are solicited. Its opinions and views are expected to influence the final policy formul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Participation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continuous communication between civil society, policy drafting groups and decision makers. Final environmental policy is the outcome of direct and complete involvement of the three grou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volvement in the IEA process in practic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091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ifferent groups of civil society are involved at different levels depending on their level of interest and relevance for a particular issue of the re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Only a number of manageable representatives are involved, not everybody relev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ome suggestions on levels of involvement in different issues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90720" y="3886200"/>
          <a:ext cx="6933960" cy="2514600"/>
        </p:xfrm>
        <a:graphic>
          <a:graphicData uri="http://schemas.openxmlformats.org/drawingml/2006/table">
            <a:tbl>
              <a:tblPr/>
              <a:tblGrid>
                <a:gridCol w="1981080"/>
                <a:gridCol w="2641680"/>
                <a:gridCol w="231120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Iss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Section of civil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Level of invol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gri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Farming comm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Taxi dri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Particip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Info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Water 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Particip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efore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School teac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Urban comm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Mining comm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Particip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Con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info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51055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86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617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AEO Process uses all three level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n the development of the AEO, all three levels are u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4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Participation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 special working groups (e.g on policy, capacity-building, data, etc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4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onsultation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with thematic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4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nformation dissemination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general publ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Deciding important issues in the process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e whole range of issues relevant to environmental assessment cannot be included in a report. Early selection of a manageable list of the most important issues is importan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mportance of issues will differ with scale of analysis (regional, sub-regional, national, etc.) and among different countries or other regions of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t is advisable to start with a long list of relevant issues drawn up by experts from which a manageable list may be selected by a wide range of stakehold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is process was used to decide on important issues for AEO-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6:22:47Z</dcterms:created>
  <dc:creator>Elijah Munyao</dc:creator>
  <dc:description/>
  <dc:language>en-US</dc:language>
  <cp:lastModifiedBy>Elijah Munyao</cp:lastModifiedBy>
  <dcterms:modified xsi:type="dcterms:W3CDTF">2009-12-21T06:24:29Z</dcterms:modified>
  <cp:revision>3</cp:revision>
  <dc:subject/>
  <dc:title>   </dc:title>
</cp:coreProperties>
</file>