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69C-FAF3-47CC-B5B2-CAB8F131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517E-3C0B-489E-9800-08EA2B26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D9B-440B-450D-87A7-12389B6E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1F00-C1CF-4F18-9A13-D570ED26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CB7E-1DC6-467A-8429-2857FDFF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C8E4-1ACE-492C-BA70-AB3E54DA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3AC5-B0C9-4F86-A536-AB95D1B9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17E6-DAF8-4A88-9887-1989565D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457F-9F7F-49E5-B803-E42BCD2C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A078-8479-481A-AF01-788E1676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8492-9021-4A01-82F4-0AFA29DA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1B6-86FF-429E-87D2-CE8ADC2B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E043-D6C0-4526-9341-967BC1BB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5E12-AE2F-4456-952A-2D833FCD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5B41-B07A-419B-A95E-50471801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0CA7-D2B0-4C3D-BD0F-BFF42E1C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7F19-52AE-4C53-AC3D-542242FD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34EB-C2B9-4DD8-9DD4-ADC7FDD7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1B3-AE2E-41FA-99D1-CB205E9D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E89-948C-4BA3-87AB-C58B1952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937A-D880-401B-9EBD-4F9DB1D8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50A-3C92-47F3-B3B9-70621B6A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30C7-A424-4F89-8E2B-BEFD100A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C92-BC9A-4ADB-9CF6-507B220D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C1AD-AED4-455D-87C4-F43954E94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E9C3-FA0D-4C5E-8D4A-2D1C1CA1B336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custGeom>
            <a:avLst/>
            <a:gdLst>
              <a:gd name="textAreaLeft" fmla="*/ 4752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2346480"/>
            <a:ext cx="7391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4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ANAGING THE ASSESSMENT AND  REPORT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Management of the process at the national level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xisting structures at the national level may be difficult to modify to accommodate the IEA process; the process normally is made to fit into existing structur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No overall “best” management structures are agreed on but best practices in many African countries show the importance of a key existing department in a ministry or a new department or authori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he coordinating role of the key department or authority requires a level of clout over other depart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Possible organizational char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3520" y="2496960"/>
          <a:ext cx="6864120" cy="35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96960"/>
                    <a:ext cx="6864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352680" y="4191120"/>
            <a:ext cx="251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1752480"/>
            <a:ext cx="25909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ARLI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Possible organization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4678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t the national level in an African country, it has been considered appropriate to put environmental assessment and reporting directly under cabinet responsibility. One possible organization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Parliament –  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legislative, policy making bo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abinet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final decision making autho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Relevant Ministry 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– e.g. Ministry of Environment, champions the cause of the IEA process but works in close collaboration with other ministr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nvironmental Authority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the workhorse on environmental matters in the Ministry of Enviro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xpert technical advisory groups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participants with specialised knowled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Stakeholder focus groups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representatives of various social organiz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Management of the process at the sub-national level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162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ore analytical assessment of an independent or semi-independent agency may be made because it may have more advantages than would be the case at the national level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ill start with a clean slate avoiding inter-departmental bicke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y be more independent in getting funds in addition to funds from gover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y more easily link with NGO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The legal mandat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010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EA requires that many departments and organizations work together attending to specific responsibilities under tight time budg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ach participant must have the legal responsibility to carry out what is expected and the authority to demand others’ inpu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Legislation at the national level required to define relationships, responsibilities, authority and expectations for a successful IEA proc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Beyond national level, governments should provide mandates to the appropriate reporting institu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Legislation could be particularly used at the national level for: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010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Setting the stage for collaboration expected between government agenci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ncouraging data sharing and harmoniz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efining rules for external consultation and particip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efining the rules for sustainable local capacity building to replace external assist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ntroduction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his module discusses the involvement of various groups of people in the IEA process. It highlight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he Importance of the IEA proc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who should get involved and the level of involvement for different groups of people,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how important issues should be decided, a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how the IEA process could be manag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IEA Proces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EA is a continuous pro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ts organization and management should allow scientists from various fields of environmental  pursuits (transdisciplinary) to decide the important issues for analysis in collaboration with a broad but manageable range of civil socie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 institutional setting that is entrusted with the leadership should have a legal mandate to conduct or provide leadership in all aspects of environmental assessment and reporting, and to expect the participation of other institutions as an necessary oblig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mportance of the IEA Proces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315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t is a learning process for all that get involved assisting to build capacity on knowledge about the enviro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t provides a broad basis fo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Supporting sustainable developm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xploring linkages between policy, the economy, society and environm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eveloping appropriate policy packa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ncouraging good governance and ownership of the re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Bringing together fragmented knowledge and streamlining issues of policy formu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Facilitating cooperation of policy makers across government and bey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nvolvement in the IEA proces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ommunication in Africa with different social groups is particularly difficult. Involvement in the IEA process should not be taken for granted for any social group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Planners of the process should make extra effort to include poorer communities which are commonly overlook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ontribution of poorer marginalized communities may be unique, e.g may add indigenous knowledg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nvolvement in the IEA process may be on three major level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010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nformation dissemination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civil society is informed of environmental policies either already made or about to be made  and is allowed to comment. Their comments may not influence the outcom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onsultation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at some time before or after the environmental policy is drawn up, the opinions of civil society are solicited. Its opinions and views are expected to influence the final policy formul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Participation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continuous communication between civil society, policy drafting groups and decision makers. Final environmental policy is the outcome of direct and complete involvement of the three grou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nvolvement in the IEA process in practic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091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ifferent groups of civil society are involved at different levels depending on their level of interest and relevance for a particular issue of the re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Only a number of manageable representatives are involved, not everybody relev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Some suggestions on levels of involvement in different issues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90720" y="3886200"/>
          <a:ext cx="6933960" cy="2514600"/>
        </p:xfrm>
        <a:graphic>
          <a:graphicData uri="http://schemas.openxmlformats.org/drawingml/2006/table">
            <a:tbl>
              <a:tblPr/>
              <a:tblGrid>
                <a:gridCol w="1981080"/>
                <a:gridCol w="2641680"/>
                <a:gridCol w="231120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Issu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Section of civil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Level of invol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gri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Farming commun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Taxi driv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Particip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Info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Water resou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Particip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efore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School teac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Urban commun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Mining commun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Particip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Con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info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510552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4876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867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6172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AEO Process uses all three level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n the development of the AEO, all three levels are u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" indent="4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Participation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 special working groups (e.g on policy, capacity-building, data, etc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" indent="4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onsultation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with thematic gro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" indent="4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nformation dissemination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general publ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Deciding important issues in the process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010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he whole range of issues relevant to environmental assessment cannot be included in a report. Early selection of a manageable list of the most important issues is importan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mportance of issues will differ with scale of analysis (regional, sub-regional, national, etc.) and among different countries or other regions of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t is advisable to start with a long list of relevant issues drawn up by experts from which a manageable list may be selected by a wide range of stakeholder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his process was used to decide on important issues for AEO-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6:22:47Z</dcterms:created>
  <dc:creator>Elijah Munyao</dc:creator>
  <dc:description/>
  <dc:language>en-US</dc:language>
  <cp:lastModifiedBy>Elijah Munyao</cp:lastModifiedBy>
  <dcterms:modified xsi:type="dcterms:W3CDTF">2009-12-21T06:24:29Z</dcterms:modified>
  <cp:revision>3</cp:revision>
  <dc:subject/>
  <dc:title>   </dc:title>
</cp:coreProperties>
</file>