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38CC3-0ADF-4F59-BD3F-5B859C2CE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EBA2-8258-4351-8075-F3E28FCF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27E49-3D0D-4AC4-B94C-9570A6969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C242E-18ED-4F35-A7D8-CE22E9DC8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19620-6A18-4802-8B20-113359C87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0449C-E21C-42E1-9B8B-2B9819847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08DD7-769D-4089-A617-D7CF99D1C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9184E-ECA2-4409-9931-21D1BD4FA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819EC-D91E-4AB9-9C29-D3B800B79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82E53-98B4-450D-ABF9-730F1815B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8F646-4689-4AE4-BC3E-68379489D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BB05-3D91-4360-9B4E-9A66D999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CE97E-6B00-468A-B5B7-E3405AFC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63CB9-C1AD-4F76-94B5-89169A09E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BC0C-2B74-478A-A619-7D222B0B3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5FADA-B23A-4968-B42C-2E2C5B5B9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6981E-5619-43B1-A183-A5CFB082D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7323-494F-4C39-944B-0C6D7446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F00FB-F5F5-42A2-97EE-4F2924FED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F576-1C82-420F-B708-6C9CD0AB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8F1AC-EEAE-4211-95F7-8B5F7FBF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0142-3F2D-4B9C-A1E8-EF58A9DE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BD1D-FB65-478E-9FBC-6DE6FDCA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BB48-46BC-457D-8559-5099DF762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25F9-7AC6-4A46-A956-E4DC5A8A5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B69A-7D72-418E-A60A-430FD1D237F6}"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23520"/>
            <a:ext cx="7619760" cy="358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5: </a:t>
            </a:r>
            <a:br>
              <a:rPr sz="4000"/>
            </a:br>
            <a:br>
              <a:rPr sz="4000"/>
            </a:br>
            <a:r>
              <a:rPr b="1" lang="en-GB" sz="4000" spc="-1" strike="noStrike">
                <a:solidFill>
                  <a:srgbClr val="808080"/>
                </a:solidFill>
                <a:latin typeface="Arial Unicode MS"/>
                <a:ea typeface="Arial Unicode MS"/>
              </a:rPr>
              <a:t>PEER REVIEW</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 (cont’d)</a:t>
            </a:r>
            <a:endParaRPr b="1" lang="en-US" sz="3200" spc="-1" strike="noStrike">
              <a:solidFill>
                <a:srgbClr val="808080"/>
              </a:solidFill>
              <a:latin typeface="Arial"/>
            </a:endParaRPr>
          </a:p>
        </p:txBody>
      </p:sp>
      <p:sp>
        <p:nvSpPr>
          <p:cNvPr id="106" name="PlaceHolder 2"/>
          <p:cNvSpPr>
            <a:spLocks noGrp="1"/>
          </p:cNvSpPr>
          <p:nvPr>
            <p:ph/>
          </p:nvPr>
        </p:nvSpPr>
        <p:spPr>
          <a:xfrm>
            <a:off x="685440" y="1218960"/>
            <a:ext cx="746748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aims to harmonize methodologies (and) to improve and expand the peer review system and UNEP networks - in line with the recommendations of the Scientific and Technical Meeting on strengthening the scientific base of UNEP (January 2004)</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process is, therefore, systematic and adapts experiences from other process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Peer reviewers</a:t>
            </a:r>
            <a:endParaRPr b="1" lang="en-US" sz="3600" spc="-1" strike="noStrike">
              <a:solidFill>
                <a:srgbClr val="808080"/>
              </a:solidFill>
              <a:latin typeface="Arial"/>
            </a:endParaRPr>
          </a:p>
        </p:txBody>
      </p:sp>
      <p:sp>
        <p:nvSpPr>
          <p:cNvPr id="108" name="PlaceHolder 2"/>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have technical expertise in the subject matter for which they have been selected; they are expected to participate fully in the process and read all material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also protect confidentiality - by not sharing any AEO material with third partie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spect the set deadlines, be objective and avoid bia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port any problems encountered in finalizing the peer review proces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Some peer review activities</a:t>
            </a:r>
            <a:endParaRPr b="1" lang="en-US" sz="3400" spc="-1" strike="noStrike">
              <a:solidFill>
                <a:srgbClr val="808080"/>
              </a:solidFill>
              <a:latin typeface="Arial"/>
            </a:endParaRPr>
          </a:p>
        </p:txBody>
      </p:sp>
      <p:sp>
        <p:nvSpPr>
          <p:cNvPr id="110" name="PlaceHolder 2"/>
          <p:cNvSpPr>
            <a:spLocks noGrp="1"/>
          </p:cNvSpPr>
          <p:nvPr>
            <p:ph/>
          </p:nvPr>
        </p:nvSpPr>
        <p:spPr>
          <a:xfrm>
            <a:off x="533160" y="1066680"/>
            <a:ext cx="7543800" cy="55627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Advising on the treatment of the issues across the chapters</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mmenting on the key issues as highlighted</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inting out other key issues which have not been highlighted but would be considered a serious omission if they were left out in the final report. </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Where such omissions are highlighted, the reviewer should present. in a paragraph or two, the issues, including full relevant referenc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160" y="1066320"/>
            <a:ext cx="746748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ere such omissions are highlighted, the reviewer should present within a paragraph or two the issues, including the relevant full referenc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dicating additional sources of relevant dat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trend data have been presented in all chapter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key indicators on the state of the environment and environmental policy performance are properly tracked</a:t>
            </a:r>
            <a:endParaRPr b="1" lang="en-US" sz="2800" spc="-1" strike="noStrike">
              <a:solidFill>
                <a:srgbClr val="ffffff"/>
              </a:solidFill>
              <a:latin typeface="Arial"/>
            </a:endParaRPr>
          </a:p>
        </p:txBody>
      </p:sp>
      <p:sp>
        <p:nvSpPr>
          <p:cNvPr id="112"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aying special attention to the interlinkages between trends and policies (both specific to the issue under each chapter and more general policies that impinge on the issue)</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monstrating the environment as a driver of policy and vice versa, and evaluating policy in terms of environmental impact (effective, ineffective, unexpected, etc.)</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dditional information and data, including boxes and other illustrations to enrich the sections, if necessary</a:t>
            </a:r>
            <a:endParaRPr b="1" lang="en-US" sz="2800" spc="-1" strike="noStrike">
              <a:solidFill>
                <a:srgbClr val="ffffff"/>
              </a:solidFill>
              <a:latin typeface="Arial"/>
            </a:endParaRPr>
          </a:p>
        </p:txBody>
      </p:sp>
      <p:sp>
        <p:nvSpPr>
          <p:cNvPr id="114"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160" y="990720"/>
            <a:ext cx="75438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ointing out inconsistencies and/or contradictions of facts/data within and across the chapters and regional perspectiv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messages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the major messages emanating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weaknesses clearly evident from both the regional and sub-regional thematic sections</a:t>
            </a:r>
            <a:endParaRPr b="1" lang="en-US" sz="2400" spc="-1" strike="noStrike">
              <a:solidFill>
                <a:srgbClr val="ffffff"/>
              </a:solidFill>
              <a:latin typeface="Arial"/>
            </a:endParaRPr>
          </a:p>
        </p:txBody>
      </p:sp>
      <p:sp>
        <p:nvSpPr>
          <p:cNvPr id="11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160" y="1066320"/>
            <a:ext cx="7543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strengths clearly evident from both the regional and sub-regional thematic sect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both the strengths and weaknesses emanating from the state of the environment both at the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dvising on possible alternative policy initiatives that should be considered to ensure effective environmental management at both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dicating any priority and emerging issues, or areas of outstanding vulnerability related to the issue as analysed</a:t>
            </a:r>
            <a:endParaRPr b="1" lang="en-US" sz="2400" spc="-1" strike="noStrike">
              <a:solidFill>
                <a:srgbClr val="ffffff"/>
              </a:solidFill>
              <a:latin typeface="Arial"/>
            </a:endParaRPr>
          </a:p>
        </p:txBody>
      </p:sp>
      <p:sp>
        <p:nvSpPr>
          <p:cNvPr id="118"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n assessment of the treatment of IEA, both between the chapters and the  regional sections, as well as across them.</a:t>
            </a:r>
            <a:endParaRPr b="1" lang="en-US" sz="28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detailed comments on all the points listed above. Reviewers should avoid sending questions on the sections but rather provide substantive comments, which can be considered during revision of the sections.</a:t>
            </a:r>
            <a:endParaRPr b="1" lang="en-US" sz="2800" spc="-1" strike="noStrike">
              <a:solidFill>
                <a:srgbClr val="ffffff"/>
              </a:solidFill>
              <a:latin typeface="Arial"/>
            </a:endParaRPr>
          </a:p>
        </p:txBody>
      </p:sp>
      <p:sp>
        <p:nvSpPr>
          <p:cNvPr id="120"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Finding peer reviewers</a:t>
            </a:r>
            <a:endParaRPr b="1" lang="en-US" sz="3600" spc="-1" strike="noStrike">
              <a:solidFill>
                <a:srgbClr val="808080"/>
              </a:solidFill>
              <a:latin typeface="Arial"/>
            </a:endParaRPr>
          </a:p>
        </p:txBody>
      </p:sp>
      <p:sp>
        <p:nvSpPr>
          <p:cNvPr id="122"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Candidates may be recommended by:</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 </a:t>
            </a:r>
            <a:r>
              <a:rPr b="1" lang="en-US" sz="3200" spc="-1" strike="noStrike">
                <a:solidFill>
                  <a:srgbClr val="ffffff"/>
                </a:solidFill>
                <a:latin typeface="Arial Unicode MS"/>
                <a:ea typeface="Arial Unicode MS"/>
              </a:rPr>
              <a:t>government ministries/department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scientific institution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universities, collaborating </a:t>
            </a:r>
            <a:r>
              <a:rPr b="1" lang="en-GB" sz="3200" spc="-1" strike="noStrike">
                <a:solidFill>
                  <a:srgbClr val="ffffff"/>
                </a:solidFill>
                <a:latin typeface="Arial Unicode MS"/>
                <a:ea typeface="Arial Unicode MS"/>
              </a:rPr>
              <a:t>centre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other stakeholder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Determining the Peer Review schedule</a:t>
            </a:r>
            <a:endParaRPr b="1" lang="en-US" sz="3200" spc="-1" strike="noStrike">
              <a:solidFill>
                <a:srgbClr val="808080"/>
              </a:solidFill>
              <a:latin typeface="Arial"/>
            </a:endParaRPr>
          </a:p>
        </p:txBody>
      </p:sp>
      <p:sp>
        <p:nvSpPr>
          <p:cNvPr id="12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Peer Review schedule is a critical feature of the AEO process and should take the following into account:</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vailability of quality draft material</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availability of appropriate exper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ime available to use the review commen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adlines for the AEO report and logistic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400" spc="-1" strike="noStrike">
                <a:solidFill>
                  <a:srgbClr val="808080"/>
                </a:solidFill>
                <a:latin typeface="Arial"/>
              </a:rPr>
              <a:t>Overview</a:t>
            </a:r>
            <a:endParaRPr b="1" lang="en-US" sz="3400" spc="-1" strike="noStrike">
              <a:solidFill>
                <a:srgbClr val="808080"/>
              </a:solidFill>
              <a:latin typeface="Arial"/>
            </a:endParaRPr>
          </a:p>
        </p:txBody>
      </p:sp>
      <p:sp>
        <p:nvSpPr>
          <p:cNvPr id="90" name="PlaceHolder 2"/>
          <p:cNvSpPr>
            <a:spLocks noGrp="1"/>
          </p:cNvSpPr>
          <p:nvPr>
            <p:ph/>
          </p:nvPr>
        </p:nvSpPr>
        <p:spPr>
          <a:xfrm>
            <a:off x="990360" y="1600200"/>
            <a:ext cx="701028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This module highlights the importance of peer review in IEA</a:t>
            </a: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In particular, it emphasizes the need to ensure scientific credibility, policy relevance and legitimac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ocuments to send peer reviewers</a:t>
            </a:r>
            <a:endParaRPr b="1" lang="en-US" sz="3600" spc="-1" strike="noStrike">
              <a:solidFill>
                <a:srgbClr val="808080"/>
              </a:solidFill>
              <a:latin typeface="Arial"/>
            </a:endParaRPr>
          </a:p>
        </p:txBody>
      </p:sp>
      <p:sp>
        <p:nvSpPr>
          <p:cNvPr id="126"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st recent and quality copy of the draft environmental assessment report - this could be the whole or section of the report</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TORs, including specific activities and deadlines and a clear reporting hierarchy</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guidelines on how comments should be provid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693396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module also outline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at constitutes peer review in the context of the AEO proc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objectives of peer review</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y peer review is critical to IE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 to select peer reviewers</a:t>
            </a:r>
            <a:endParaRPr b="1" lang="en-US" sz="2800" spc="-1" strike="noStrike">
              <a:solidFill>
                <a:srgbClr val="ffffff"/>
              </a:solidFill>
              <a:latin typeface="Arial"/>
            </a:endParaRPr>
          </a:p>
        </p:txBody>
      </p:sp>
      <p:sp>
        <p:nvSpPr>
          <p:cNvPr id="92" name="PlaceHolder 2"/>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Over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Arial"/>
              </a:rPr>
              <a:t> </a:t>
            </a:r>
            <a:r>
              <a:rPr b="1" lang="en-GB" sz="3600" spc="-1" strike="noStrike">
                <a:solidFill>
                  <a:srgbClr val="808080"/>
                </a:solidFill>
                <a:latin typeface="Arial"/>
              </a:rPr>
              <a:t>Peer review definition in AEO</a:t>
            </a:r>
            <a:endParaRPr b="1" lang="en-US" sz="3600" spc="-1" strike="noStrike">
              <a:solidFill>
                <a:srgbClr val="808080"/>
              </a:solidFill>
              <a:latin typeface="Arial"/>
            </a:endParaRPr>
          </a:p>
        </p:txBody>
      </p:sp>
      <p:sp>
        <p:nvSpPr>
          <p:cNvPr id="9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is a documented critical look at the AEO report, conducted by qualified individuals and organizations.</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xperts are considered equivalent in technical capacity (thus peers) to the experts who draft the contents of the report.</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is important for ensuring that research and conclusions of the report are technically adequate, competently performed, properly documented, and satisfy established quality requirem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160" y="1218960"/>
            <a:ext cx="7467480" cy="5638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AEO peer review is an in-depth assessment of the assumptions, calculations, extrapolations, alternate interpretations, methodology, acceptance criteria, and conclusions of AEO reports and documentation supporting them.</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is characterized by a limited number of interactions by peer reviewers. </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It is undertaken during the whole AEO process, including selection of methods, research and drafting.</a:t>
            </a:r>
            <a:endParaRPr b="1" lang="en-US" sz="2800" spc="-1" strike="noStrike">
              <a:solidFill>
                <a:srgbClr val="ffffff"/>
              </a:solidFill>
              <a:latin typeface="Arial"/>
            </a:endParaRPr>
          </a:p>
        </p:txBody>
      </p:sp>
      <p:sp>
        <p:nvSpPr>
          <p:cNvPr id="9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Extent of peer review for the AEO</a:t>
            </a:r>
            <a:endParaRPr b="1" lang="en-US" sz="3600" spc="-1" strike="noStrike">
              <a:solidFill>
                <a:srgbClr val="808080"/>
              </a:solidFill>
              <a:latin typeface="Arial"/>
            </a:endParaRPr>
          </a:p>
        </p:txBody>
      </p:sp>
      <p:sp>
        <p:nvSpPr>
          <p:cNvPr id="98" name="PlaceHolder 2"/>
          <p:cNvSpPr>
            <a:spLocks noGrp="1"/>
          </p:cNvSpPr>
          <p:nvPr>
            <p:ph/>
          </p:nvPr>
        </p:nvSpPr>
        <p:spPr>
          <a:xfrm>
            <a:off x="533160" y="990720"/>
            <a:ext cx="7467480" cy="58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Scientific, technical and policy review has always been a key component of the AEO and other environmental assessment reporting process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t involves hundreds of stakeholders both inside and outside government structur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peer review process takes different forms – ranging from informal to formal</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ctivities include sub-regional and regional consultations, collaborating centre network meetings, and targeted expert input.</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EO draft sections are sent to scientists and government experts for review and comprehensive comme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a:t>
            </a:r>
            <a:endParaRPr b="1" lang="en-US" sz="3200" spc="-1" strike="noStrike">
              <a:solidFill>
                <a:srgbClr val="808080"/>
              </a:solidFill>
              <a:latin typeface="Arial"/>
            </a:endParaRPr>
          </a:p>
        </p:txBody>
      </p:sp>
      <p:sp>
        <p:nvSpPr>
          <p:cNvPr id="100"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objectives of the peer review are to check, among others, for:</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dherence by the authors to the TORs provided by the coordinating agency at the start of the assignment</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and appropriateness of the scientific basis of the analyses, as well as the data and information us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1294920"/>
            <a:ext cx="746748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of the sources of information and citations, and if these are up-to-dat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gional and sub-regional coverage of the issu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ppropriateness of the conclusions/findings of the analys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evance and soundness of the indicators used in the analyses</a:t>
            </a:r>
            <a:endParaRPr b="1" lang="en-US" sz="2800" spc="-1" strike="noStrike">
              <a:solidFill>
                <a:srgbClr val="ffffff"/>
              </a:solidFill>
              <a:latin typeface="Arial"/>
            </a:endParaRPr>
          </a:p>
        </p:txBody>
      </p:sp>
      <p:sp>
        <p:nvSpPr>
          <p:cNvPr id="102" name="PlaceHolder 2"/>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 (cont’d)</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a:t>
            </a:r>
            <a:endParaRPr b="1" lang="en-US" sz="3200" spc="-1" strike="noStrike">
              <a:solidFill>
                <a:srgbClr val="808080"/>
              </a:solidFill>
              <a:latin typeface="Arial"/>
            </a:endParaRPr>
          </a:p>
        </p:txBody>
      </p:sp>
      <p:sp>
        <p:nvSpPr>
          <p:cNvPr id="104" name="PlaceHolder 2"/>
          <p:cNvSpPr>
            <a:spLocks noGrp="1"/>
          </p:cNvSpPr>
          <p:nvPr>
            <p:ph/>
          </p:nvPr>
        </p:nvSpPr>
        <p:spPr>
          <a:xfrm>
            <a:off x="685440" y="1142640"/>
            <a:ext cx="746748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mments provided by the expert peer reviewers are documented, with every input being logged in a comprehensive database for follow-up, and assigned to different authors and staff to addr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here conflict between/among review comments arises, coordinators contact the experts to discuss and determine an acceptable compromis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builds upon previous activities by widening the scientific inpu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5:09Z</dcterms:modified>
  <cp:revision>4</cp:revision>
  <dc:subject/>
  <dc:title>   </dc:title>
</cp:coreProperties>
</file>