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C81E6-566F-464C-AAA8-F89386824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AE86C-87A6-4EB7-84EE-805577D33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A5011-1088-47F0-A2F5-21144F829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4C181-AE67-4F46-B6E1-2249FDA4F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25F59-7A64-451C-95D3-4B3CCB298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4AFFE-EC2A-4425-92A6-36E4778AE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5DFFD-BA54-4E89-A76A-24B5204E0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385E1-E227-478C-BC6C-7224132EF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BD335-FE49-4B3A-8F5E-0F8FB3441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42185-B226-45B6-B646-8AF131A70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D5A0E-5884-4F5E-ADC1-3E305B689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DF808-67BE-4441-9AB8-0CA03602A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DECC5-0262-4E09-98BF-A5CF52DFB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F9170-5077-44F4-8316-D1DFB1B86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F91FB-B22D-4786-B6A1-93B2D814E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5DB4E-748E-4056-BDEB-82231B921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3D5F9-7BC2-4E70-805D-A12FAE555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16EA9-7D8F-43A1-A214-C29B3818B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F4E74-D8EA-4019-9BBA-BAD2A476C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E8616-4A8E-471F-8E2B-73C284465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A1C5D-3FD7-43DA-B5F6-27C8E0EC3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2B2D-DA13-42A9-B05A-9FA378894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5CDEB-2E48-41AA-AE9E-80E6FFCBB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1C141-E1A2-4F37-BD02-8C1D2A29B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7923-A1C3-492E-8A7C-5FE3F1347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9A16-2F62-4F8C-A5CF-8D7884619506}"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523520"/>
            <a:ext cx="7619760" cy="358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5: </a:t>
            </a:r>
            <a:br>
              <a:rPr sz="4000"/>
            </a:br>
            <a:br>
              <a:rPr sz="4000"/>
            </a:br>
            <a:r>
              <a:rPr b="1" lang="en-GB" sz="4000" spc="-1" strike="noStrike">
                <a:solidFill>
                  <a:srgbClr val="808080"/>
                </a:solidFill>
                <a:latin typeface="Arial Unicode MS"/>
                <a:ea typeface="Arial Unicode MS"/>
              </a:rPr>
              <a:t>PEER REVIEW</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The peer review process (cont’d)</a:t>
            </a:r>
            <a:endParaRPr b="1" lang="en-US" sz="3200" spc="-1" strike="noStrike">
              <a:solidFill>
                <a:srgbClr val="808080"/>
              </a:solidFill>
              <a:latin typeface="Arial"/>
            </a:endParaRPr>
          </a:p>
        </p:txBody>
      </p:sp>
      <p:sp>
        <p:nvSpPr>
          <p:cNvPr id="106" name="PlaceHolder 2"/>
          <p:cNvSpPr>
            <a:spLocks noGrp="1"/>
          </p:cNvSpPr>
          <p:nvPr>
            <p:ph/>
          </p:nvPr>
        </p:nvSpPr>
        <p:spPr>
          <a:xfrm>
            <a:off x="685440" y="1218960"/>
            <a:ext cx="746748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rocess aims to harmonize methodologies (and) to improve and expand the peer review system and UNEP networks - in line with the recommendations of the Scientific and Technical Meeting on strengthening the scientific base of UNEP (January 2004)</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eer review process is, therefore, systematic and adapts experiences from other process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Peer reviewers</a:t>
            </a:r>
            <a:endParaRPr b="1" lang="en-US" sz="3600" spc="-1" strike="noStrike">
              <a:solidFill>
                <a:srgbClr val="808080"/>
              </a:solidFill>
              <a:latin typeface="Arial"/>
            </a:endParaRPr>
          </a:p>
        </p:txBody>
      </p:sp>
      <p:sp>
        <p:nvSpPr>
          <p:cNvPr id="108" name="PlaceHolder 2"/>
          <p:cNvSpPr>
            <a:spLocks noGrp="1"/>
          </p:cNvSpPr>
          <p:nvPr>
            <p:ph/>
          </p:nvPr>
        </p:nvSpPr>
        <p:spPr>
          <a:xfrm>
            <a:off x="533160" y="1143000"/>
            <a:ext cx="7543800" cy="54864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have technical expertise in the subject matter for which they have been selected; they are expected to participate fully in the process and read all material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also protect confidentiality - by not sharing any AEO material with third partie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respect the set deadlines, be objective and avoid bias</a:t>
            </a:r>
            <a:endParaRPr b="1" lang="en-US" sz="2600" spc="-1" strike="noStrike">
              <a:solidFill>
                <a:srgbClr val="ffffff"/>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35880" indent="-3358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should report any problems encountered in finalizing the peer review proces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Some peer review activities</a:t>
            </a:r>
            <a:endParaRPr b="1" lang="en-US" sz="3400" spc="-1" strike="noStrike">
              <a:solidFill>
                <a:srgbClr val="808080"/>
              </a:solidFill>
              <a:latin typeface="Arial"/>
            </a:endParaRPr>
          </a:p>
        </p:txBody>
      </p:sp>
      <p:sp>
        <p:nvSpPr>
          <p:cNvPr id="110" name="PlaceHolder 2"/>
          <p:cNvSpPr>
            <a:spLocks noGrp="1"/>
          </p:cNvSpPr>
          <p:nvPr>
            <p:ph/>
          </p:nvPr>
        </p:nvSpPr>
        <p:spPr>
          <a:xfrm>
            <a:off x="533160" y="1066680"/>
            <a:ext cx="7543800" cy="556272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Advising on the treatment of the issues across the chapters</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ommenting on the key issues as highlighted</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Pointing out other key issues which have not been highlighted but would be considered a serious omission if they were left out in the final report. </a:t>
            </a:r>
            <a:endParaRPr b="1" lang="en-US" sz="2600" spc="-1" strike="noStrike">
              <a:solidFill>
                <a:srgbClr val="ffffff"/>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18960" indent="-31896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Where such omissions are highlighted, the reviewer should present. in a paragraph or two, the issues, including full relevant reference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3160" y="1066320"/>
            <a:ext cx="7467480" cy="57913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ere such omissions are highlighted, the reviewer should present within a paragraph or two the issues, including the relevant full referenc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dicating additional sources of relevant dat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nsuring that trend data have been presented in all chapter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nsuring that key indicators on the state of the environment and environmental policy performance are properly tracked</a:t>
            </a:r>
            <a:endParaRPr b="1" lang="en-US" sz="2800" spc="-1" strike="noStrike">
              <a:solidFill>
                <a:srgbClr val="ffffff"/>
              </a:solidFill>
              <a:latin typeface="Arial"/>
            </a:endParaRPr>
          </a:p>
        </p:txBody>
      </p:sp>
      <p:sp>
        <p:nvSpPr>
          <p:cNvPr id="112"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aying special attention to the interlinkages between trends and policies (both specific to the issue under each chapter and more general policies that impinge on the issue)</a:t>
            </a:r>
            <a:endParaRPr b="1" lang="en-US" sz="2800" spc="-1" strike="noStrike">
              <a:solidFill>
                <a:srgbClr val="ffffff"/>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monstrating the environment as a driver of policy and vice versa, and evaluating policy in terms of environmental impact (effective, ineffective, unexpected, etc.)</a:t>
            </a:r>
            <a:endParaRPr b="1" lang="en-US" sz="2800" spc="-1" strike="noStrike">
              <a:solidFill>
                <a:srgbClr val="ffffff"/>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additional information and data, including boxes and other illustrations to enrich the sections, if necessary</a:t>
            </a:r>
            <a:endParaRPr b="1" lang="en-US" sz="2800" spc="-1" strike="noStrike">
              <a:solidFill>
                <a:srgbClr val="ffffff"/>
              </a:solidFill>
              <a:latin typeface="Arial"/>
            </a:endParaRPr>
          </a:p>
        </p:txBody>
      </p:sp>
      <p:sp>
        <p:nvSpPr>
          <p:cNvPr id="114"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160" y="990720"/>
            <a:ext cx="75438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ointing out inconsistencies and/or contradictions of facts/data within and across the chapters and regional perspectiv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messages from the state of the environment both at the regional and sub-regional level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ing a list of the major messages emanating from the state of the environment both at the regional and sub-regional level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policy weaknesses clearly evident from both the regional and sub-regional thematic sections</a:t>
            </a:r>
            <a:endParaRPr b="1" lang="en-US" sz="2400" spc="-1" strike="noStrike">
              <a:solidFill>
                <a:srgbClr val="ffffff"/>
              </a:solidFill>
              <a:latin typeface="Arial"/>
            </a:endParaRPr>
          </a:p>
        </p:txBody>
      </p:sp>
      <p:sp>
        <p:nvSpPr>
          <p:cNvPr id="116"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160" y="1066320"/>
            <a:ext cx="75438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ighlighting the major policy strengths clearly evident from both the regional and sub-regional thematic section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ing a list of both the strengths and weaknesses emanating from the state of the environment both at the regional and sub-regional level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dvising on possible alternative policy initiatives that should be considered to ensure effective environmental management at both regional and sub-regional level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ndicating any priority and emerging issues, or areas of outstanding vulnerability related to the issue as analysed</a:t>
            </a:r>
            <a:endParaRPr b="1" lang="en-US" sz="2400" spc="-1" strike="noStrike">
              <a:solidFill>
                <a:srgbClr val="ffffff"/>
              </a:solidFill>
              <a:latin typeface="Arial"/>
            </a:endParaRPr>
          </a:p>
        </p:txBody>
      </p:sp>
      <p:sp>
        <p:nvSpPr>
          <p:cNvPr id="118"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an assessment of the treatment of IEA, both between the chapters and the  regional sections, as well as across them.</a:t>
            </a:r>
            <a:endParaRPr b="1" lang="en-US" sz="28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2640" indent="-3326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Providing detailed comments on all the points listed above. Reviewers should avoid sending questions on the sections but rather provide substantive comments, which can be considered during revision of the sections.</a:t>
            </a:r>
            <a:endParaRPr b="1" lang="en-US" sz="2800" spc="-1" strike="noStrike">
              <a:solidFill>
                <a:srgbClr val="ffffff"/>
              </a:solidFill>
              <a:latin typeface="Arial"/>
            </a:endParaRPr>
          </a:p>
        </p:txBody>
      </p:sp>
      <p:sp>
        <p:nvSpPr>
          <p:cNvPr id="120"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ome 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Finding peer reviewers</a:t>
            </a:r>
            <a:endParaRPr b="1" lang="en-US" sz="3600" spc="-1" strike="noStrike">
              <a:solidFill>
                <a:srgbClr val="808080"/>
              </a:solidFill>
              <a:latin typeface="Arial"/>
            </a:endParaRPr>
          </a:p>
        </p:txBody>
      </p:sp>
      <p:sp>
        <p:nvSpPr>
          <p:cNvPr id="122"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Candidates may be recommended by:</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 </a:t>
            </a:r>
            <a:r>
              <a:rPr b="1" lang="en-US" sz="3200" spc="-1" strike="noStrike">
                <a:solidFill>
                  <a:srgbClr val="ffffff"/>
                </a:solidFill>
                <a:latin typeface="Arial Unicode MS"/>
                <a:ea typeface="Arial Unicode MS"/>
              </a:rPr>
              <a:t>government ministries/department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scientific institution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universities, collaborating </a:t>
            </a:r>
            <a:r>
              <a:rPr b="1" lang="en-GB" sz="3200" spc="-1" strike="noStrike">
                <a:solidFill>
                  <a:srgbClr val="ffffff"/>
                </a:solidFill>
                <a:latin typeface="Arial Unicode MS"/>
                <a:ea typeface="Arial Unicode MS"/>
              </a:rPr>
              <a:t>centres</a:t>
            </a:r>
            <a:endParaRPr b="1"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ea typeface="Arial Unicode MS"/>
              </a:rPr>
              <a:t>other stakeholder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Determining the Peer Review schedule</a:t>
            </a:r>
            <a:endParaRPr b="1" lang="en-US" sz="3200" spc="-1" strike="noStrike">
              <a:solidFill>
                <a:srgbClr val="808080"/>
              </a:solidFill>
              <a:latin typeface="Arial"/>
            </a:endParaRPr>
          </a:p>
        </p:txBody>
      </p:sp>
      <p:sp>
        <p:nvSpPr>
          <p:cNvPr id="124"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he Peer Review schedule is a critical feature of the AEO process and should take the following into account:</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vailability of quality draft material</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availability of appropriate experts</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ime available to use the review comments</a:t>
            </a:r>
            <a:endParaRPr b="1"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3085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deadlines for the AEO report and logistic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162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400" spc="-1" strike="noStrike">
                <a:solidFill>
                  <a:srgbClr val="808080"/>
                </a:solidFill>
                <a:latin typeface="Arial"/>
              </a:rPr>
              <a:t>Overview</a:t>
            </a:r>
            <a:endParaRPr b="1" lang="en-US" sz="3400" spc="-1" strike="noStrike">
              <a:solidFill>
                <a:srgbClr val="808080"/>
              </a:solidFill>
              <a:latin typeface="Arial"/>
            </a:endParaRPr>
          </a:p>
        </p:txBody>
      </p:sp>
      <p:sp>
        <p:nvSpPr>
          <p:cNvPr id="90" name="PlaceHolder 2"/>
          <p:cNvSpPr>
            <a:spLocks noGrp="1"/>
          </p:cNvSpPr>
          <p:nvPr>
            <p:ph/>
          </p:nvPr>
        </p:nvSpPr>
        <p:spPr>
          <a:xfrm>
            <a:off x="990360" y="1600200"/>
            <a:ext cx="701028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This module highlights the importance of peer review in IEA</a:t>
            </a:r>
            <a:endParaRPr b="1"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In particular, it emphasizes the need to ensure scientific credibility, policy relevance and legitimac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ocuments to send peer reviewers</a:t>
            </a:r>
            <a:endParaRPr b="1" lang="en-US" sz="3600" spc="-1" strike="noStrike">
              <a:solidFill>
                <a:srgbClr val="808080"/>
              </a:solidFill>
              <a:latin typeface="Arial"/>
            </a:endParaRPr>
          </a:p>
        </p:txBody>
      </p:sp>
      <p:sp>
        <p:nvSpPr>
          <p:cNvPr id="126"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st recent and quality copy of the draft environmental assessment report - this could be the whole or section of the report</a:t>
            </a:r>
            <a:endParaRPr b="1" lang="en-US" sz="2800" spc="-1" strike="noStrike">
              <a:solidFill>
                <a:srgbClr val="ffffff"/>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lear TORs, including specific activities and deadlines and a clear reporting hierarchy</a:t>
            </a:r>
            <a:endParaRPr b="1" lang="en-US" sz="2800" spc="-1" strike="noStrike">
              <a:solidFill>
                <a:srgbClr val="ffffff"/>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322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lear guidelines on how comments should be provid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360" y="1371240"/>
            <a:ext cx="693396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module also outlines:</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at constitutes peer review in the context of the AEO proces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objectives of peer review</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why peer review is critical to IE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ow to select peer reviewers</a:t>
            </a:r>
            <a:endParaRPr b="1" lang="en-US" sz="2800" spc="-1" strike="noStrike">
              <a:solidFill>
                <a:srgbClr val="ffffff"/>
              </a:solidFill>
              <a:latin typeface="Arial"/>
            </a:endParaRPr>
          </a:p>
        </p:txBody>
      </p:sp>
      <p:sp>
        <p:nvSpPr>
          <p:cNvPr id="92" name="PlaceHolder 2"/>
          <p:cNvSpPr>
            <a:spLocks noGrp="1"/>
          </p:cNvSpPr>
          <p:nvPr>
            <p:ph type="title"/>
          </p:nvPr>
        </p:nvSpPr>
        <p:spPr>
          <a:xfrm>
            <a:off x="1142640" y="152280"/>
            <a:ext cx="7162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Over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8080"/>
                </a:solidFill>
                <a:latin typeface="Arial"/>
              </a:rPr>
              <a:t> </a:t>
            </a:r>
            <a:r>
              <a:rPr b="1" lang="en-GB" sz="3600" spc="-1" strike="noStrike">
                <a:solidFill>
                  <a:srgbClr val="808080"/>
                </a:solidFill>
                <a:latin typeface="Arial"/>
              </a:rPr>
              <a:t>Peer review definition in AEO</a:t>
            </a:r>
            <a:endParaRPr b="1" lang="en-US" sz="3600" spc="-1" strike="noStrike">
              <a:solidFill>
                <a:srgbClr val="808080"/>
              </a:solidFill>
              <a:latin typeface="Arial"/>
            </a:endParaRPr>
          </a:p>
        </p:txBody>
      </p:sp>
      <p:sp>
        <p:nvSpPr>
          <p:cNvPr id="94"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eer review is a documented critical look at the AEO report, conducted by qualified individuals and organizations.</a:t>
            </a:r>
            <a:endParaRPr b="1" lang="en-US" sz="2800" spc="-1" strike="noStrike">
              <a:solidFill>
                <a:srgbClr val="ffffff"/>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xperts are considered equivalent in technical capacity (thus peers) to the experts who draft the contents of the report.</a:t>
            </a:r>
            <a:endParaRPr b="1" lang="en-US" sz="2800" spc="-1" strike="noStrike">
              <a:solidFill>
                <a:srgbClr val="ffffff"/>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eer review is important for ensuring that research and conclusions of the report are technically adequate, competently performed, properly documented, and satisfy established quality requirem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160" y="1218960"/>
            <a:ext cx="7467480" cy="5638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AEO peer review is an in-depth assessment of the assumptions, calculations, extrapolations, alternate interpretations, methodology, acceptance criteria, and conclusions of AEO reports and documentation supporting them.</a:t>
            </a:r>
            <a:endParaRPr b="1"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The process is characterized by a limited number of interactions by peer reviewers. </a:t>
            </a:r>
            <a:endParaRPr b="1"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It is undertaken during the whole AEO process, including selection of methods, research and drafting.</a:t>
            </a:r>
            <a:endParaRPr b="1" lang="en-US" sz="2800" spc="-1" strike="noStrike">
              <a:solidFill>
                <a:srgbClr val="ffffff"/>
              </a:solidFill>
              <a:latin typeface="Arial"/>
            </a:endParaRPr>
          </a:p>
        </p:txBody>
      </p:sp>
      <p:sp>
        <p:nvSpPr>
          <p:cNvPr id="96" name="PlaceHolder 2"/>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Peer review… (cont’d)</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Extent of peer review for the AEO</a:t>
            </a:r>
            <a:endParaRPr b="1" lang="en-US" sz="3600" spc="-1" strike="noStrike">
              <a:solidFill>
                <a:srgbClr val="808080"/>
              </a:solidFill>
              <a:latin typeface="Arial"/>
            </a:endParaRPr>
          </a:p>
        </p:txBody>
      </p:sp>
      <p:sp>
        <p:nvSpPr>
          <p:cNvPr id="98" name="PlaceHolder 2"/>
          <p:cNvSpPr>
            <a:spLocks noGrp="1"/>
          </p:cNvSpPr>
          <p:nvPr>
            <p:ph/>
          </p:nvPr>
        </p:nvSpPr>
        <p:spPr>
          <a:xfrm>
            <a:off x="533160" y="990720"/>
            <a:ext cx="7467480" cy="5867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Scientific, technical and policy review has always been a key component of the AEO and other environmental assessment reporting processes</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t involves hundreds of stakeholders both inside and outside government structures</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 peer review process takes different forms – ranging from informal to formal</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activities include sub-regional and regional consultations, collaborating centre network meetings, and targeted expert input.</a:t>
            </a:r>
            <a:endParaRPr b="1"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AEO draft sections are sent to scientists and government experts for review and comprehensive comme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Objectives of peer review</a:t>
            </a:r>
            <a:endParaRPr b="1" lang="en-US" sz="3200" spc="-1" strike="noStrike">
              <a:solidFill>
                <a:srgbClr val="808080"/>
              </a:solidFill>
              <a:latin typeface="Arial"/>
            </a:endParaRPr>
          </a:p>
        </p:txBody>
      </p:sp>
      <p:sp>
        <p:nvSpPr>
          <p:cNvPr id="100"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   </a:t>
            </a:r>
            <a:r>
              <a:rPr b="1" lang="en-US" sz="2800" spc="-1" strike="noStrike">
                <a:solidFill>
                  <a:srgbClr val="ffffff"/>
                </a:solidFill>
                <a:latin typeface="Arial Unicode MS"/>
                <a:ea typeface="Arial Unicode MS"/>
              </a:rPr>
              <a:t>The objectives of the peer review are to check, among others, for:</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dherence by the authors to the TORs provided by the coordinating agency at the start of the assignment</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iability and appropriateness of the scientific basis of the analyses, as well as the data and information us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3160" y="1294920"/>
            <a:ext cx="746748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iability of the sources of information and citations, and if these are up-to-date</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gional and sub-regional coverage of the issu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ppropriateness of the conclusions/findings of the analyse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relevance and soundness of the indicators used in the analyses</a:t>
            </a:r>
            <a:endParaRPr b="1" lang="en-US" sz="2800" spc="-1" strike="noStrike">
              <a:solidFill>
                <a:srgbClr val="ffffff"/>
              </a:solidFill>
              <a:latin typeface="Arial"/>
            </a:endParaRPr>
          </a:p>
        </p:txBody>
      </p:sp>
      <p:sp>
        <p:nvSpPr>
          <p:cNvPr id="102" name="PlaceHolder 2"/>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Objectives of peer review (cont’d)</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The peer review process</a:t>
            </a:r>
            <a:endParaRPr b="1" lang="en-US" sz="3200" spc="-1" strike="noStrike">
              <a:solidFill>
                <a:srgbClr val="808080"/>
              </a:solidFill>
              <a:latin typeface="Arial"/>
            </a:endParaRPr>
          </a:p>
        </p:txBody>
      </p:sp>
      <p:sp>
        <p:nvSpPr>
          <p:cNvPr id="104" name="PlaceHolder 2"/>
          <p:cNvSpPr>
            <a:spLocks noGrp="1"/>
          </p:cNvSpPr>
          <p:nvPr>
            <p:ph/>
          </p:nvPr>
        </p:nvSpPr>
        <p:spPr>
          <a:xfrm>
            <a:off x="685440" y="1142640"/>
            <a:ext cx="746748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mments provided by the expert peer reviewers are documented, with every input being logged in a comprehensive database for follow-up, and assigned to different authors and staff to addres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here conflict between/among review comments arises, coordinators contact the experts to discuss and determine an acceptable compromise</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eer review builds upon previous activities by widening the scientific inpu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22:47Z</dcterms:created>
  <dc:creator>Elijah Munyao</dc:creator>
  <dc:description/>
  <dc:language>en-US</dc:language>
  <cp:lastModifiedBy>Elijah Munyao</cp:lastModifiedBy>
  <dcterms:modified xsi:type="dcterms:W3CDTF">2009-12-21T06:25:09Z</dcterms:modified>
  <cp:revision>4</cp:revision>
  <dc:subject/>
  <dc:title>   </dc:title>
</cp:coreProperties>
</file>