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35C5C-AC83-4483-865E-3E0CCCE4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C99C-F8D7-4E00-AF1D-C0ACEEF13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FB75B-BDBD-46D7-9319-AE09A30F3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F8DF1-7EC1-4A3E-B6F5-0CB5CF0F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3AFC0-8B6C-4A78-84E7-7CDF336F0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8A68-82A0-42F1-9C10-08D2CE12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3637-75E2-4982-AC02-AE95446B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F132-D566-49E1-9054-FF9C42FAB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3A3B1-1345-48A4-9EED-D62CACC5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EC8D-A5DD-4B99-A020-E3C499F5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0DF4-B37C-4728-910D-494435FBB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0B06-3040-4BFF-8586-79FA02B7D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9490-EE87-4B22-AD2F-4415ED5D9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 Convention on the Control of Trans-boundary Movement of Hazardous Wastes and their Disposal</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4400" spc="-1" strike="noStrike">
                <a:solidFill>
                  <a:srgbClr val="000000"/>
                </a:solidFill>
                <a:latin typeface="Arial"/>
              </a:rPr>
              <a:t>Regional Training of Law Enforcement Official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2-25 November 2011</a:t>
            </a:r>
            <a:endParaRPr b="0" lang="en-US" sz="4400" spc="-1" strike="noStrike">
              <a:solidFill>
                <a:srgbClr val="000000"/>
              </a:solidFill>
              <a:latin typeface="Arial"/>
            </a:endParaRPr>
          </a:p>
        </p:txBody>
      </p:sp>
      <p:sp>
        <p:nvSpPr>
          <p:cNvPr id="43" name="Rectangle 1"/>
          <p:cNvSpPr/>
          <p:nvPr/>
        </p:nvSpPr>
        <p:spPr>
          <a:xfrm>
            <a:off x="2286000" y="2967120"/>
            <a:ext cx="4572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problems of Hazardous wastes inclu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actice of manufacturers of conceiling information about the nature of waste generated in their production processes in the name of trade and business secre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other problem is traders in toxic wastes conceal the nature of waste they handle especially waste expor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ffects the ability of recipient countries to take appropriat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ernational response to hazardous wast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lateral and Multilateral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72 Prevention of Marine Pollution by dumping of waste and other matter (London Dum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asel Convention </a:t>
            </a:r>
            <a:r>
              <a:rPr b="0" lang="en-US" sz="2800" spc="-1" strike="noStrike">
                <a:solidFill>
                  <a:srgbClr val="000000"/>
                </a:solidFill>
                <a:latin typeface="Arial"/>
              </a:rPr>
              <a:t>was adopted in 1989,it came into force in 1992;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vention has 170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Scope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stes contained in Annex 1 and II and further clarified in Annex 8 &amp; 9 unless they do not posses characteristics of Annex III;  Wastes considered to be hazardous by national legi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The Main goal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tect, by strict control, human health and the environment against the adverse effects which may result from the generation and management of hazardous waste and other was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finition of waste accd to Articl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or the purpose of the Basel Convention Wastes are substances or objects which are disposed of or are intended to be disposed of or required to be disposed of by the provisions of 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of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solete stocks of pesticid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medical/healthcare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oils; Used lead acid batteries; POPs waste; Electronic Waste (e-waste); Mobile phones; Ships destined to be dismant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Mechanisms of the Conv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ulation of the transboundary movement of hazardous wastes;  Prior Informed Consent (PIC) Procedure; Prohibition of exports without an Art 11 agre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ipments made without following the procedures are illegal.  Illegal traffic is criminal through each parties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Mechanisms of the Convention</a:t>
            </a: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es to take measures to ensure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nvironmentally sound managemen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f hazardous waste (ESM).</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ification Procedure to involve exporter generator to agree with disposer on ESM of waste.  State of Export, Import and Transit States to be involved.</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bligations of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the secretariat within six months of becoming a party waste considered by their national law to be hazardous other than those listed in Annex 1 and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other parties on measures taken to prohibit the import of haz was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reduction waste to a minim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adequate disposal facilities for Env Sound Management of Was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astes </a:t>
            </a:r>
            <a:r>
              <a:rPr b="0" lang="en-GB" sz="3200" spc="-1" strike="noStrike">
                <a:solidFill>
                  <a:srgbClr val="000000"/>
                </a:solidFill>
                <a:latin typeface="Arial"/>
              </a:rPr>
              <a:t>have been understood globally to mean substances or objects that 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posed of, intended to be disposed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required to be disposed of under provisions of national la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Hazardous wastes</a:t>
            </a:r>
            <a:r>
              <a:rPr b="0" lang="en-GB" sz="3200" spc="-1" strike="noStrike">
                <a:solidFill>
                  <a:srgbClr val="000000"/>
                </a:solidFill>
                <a:latin typeface="Arial"/>
              </a:rPr>
              <a:t> are a subset of waste that can cause harm to human health and/or damag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persons involved in management of waste take steps to prevent pollution or minimize the consequence if the pollution occu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to a minimum the transboundary movement of hazardous waste and other waste consistent to the sound and efficient management of such was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allow export to countries who have prohibited by legislation all such impor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t waste if there is reason to believe the waste will not be handled in an environmentally sound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appropriate legal, administrative and other measures to implement the Conv;</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hibit all persons under its jurisdiction from transporting or disposing of waste unless authorize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waste being transported be packaged, labelled and transported according to the rul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the consignment be accompanied by a movement document from the export country to the point of dispos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e exported waste to be managed in the environmentally sound ma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ort only when unable to dispose waste efficiently and in sound manner, or when required as raw material for recycling and recovery industry in the state of im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ation of competent authorities and focal point, one authority to be designated to receive notification in case of a State of trans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boundary movement between parties is regulated under article 6 of the Conv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by export country generator or exporter has to be done in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t has to be in writing from transit country and importing country as well before the movement beg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transboundary movement cannot be completed there is a duty of the state of export to re-im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velopments after the adoption of the Conven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1995 Ban amendment (reversal in COP10?)</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legal traffic</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ncial mechanism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retariat; Regional Capacity building Centres.   COP9 &amp; COP10</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 Bali, June 2008</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 </a:t>
            </a:r>
            <a:r>
              <a:rPr b="0" i="1" lang="en-US" sz="2800" spc="-1" strike="noStrike">
                <a:solidFill>
                  <a:srgbClr val="000000"/>
                </a:solidFill>
                <a:latin typeface="Arial"/>
              </a:rPr>
              <a:t>Waste Management for Human Health and Livelihoo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Regional Coord Centre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 Sound Management of used tyres; mercury wastes; persistent organic pollutants (POP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irobi Decl on the Environmentally Sound Management of Electrical and Electronic Was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mantling of ships (steered by IMO in collaboration with the Basel Secretariat (joint working group of IMO and Basel convention);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rengthen implementation of the 3 conventions at all leve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efficiency on the use of resources, to respect legal autonomy of the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cus on joint activities, (resource mobilization services, joint legal services, information technology public awaren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opt a step by step approach while avoiding additional bureaucratic lay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CO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mmendations made are mainly in five clusters namely organizational, technical matters, public awareness, administrative issues, and decision-mak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delegates of COP 8 supported the recommendations as a way of supporting the UN system-wide coherence and coordination and as a good example of the International Environmental Governance deb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sel Convention COP10</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storic agreement unblocking an amendment that will ban the export of hazardous wastes from OECD to non-OECD countries, known as the Ban Amend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ndbreaking decision, containing a set of measures aimed at strengthening international control of transboundary movements of hazardous wastes, was adopted on 21 October 2011 the closing day of the 10</a:t>
            </a:r>
            <a:r>
              <a:rPr b="0" lang="en-US" sz="2400" spc="-1" strike="noStrike" baseline="30000">
                <a:solidFill>
                  <a:srgbClr val="000000"/>
                </a:solidFill>
                <a:latin typeface="Arial"/>
              </a:rPr>
              <a:t>th</a:t>
            </a:r>
            <a:r>
              <a:rPr b="0" lang="en-US" sz="2400" spc="-1" strike="noStrike">
                <a:solidFill>
                  <a:srgbClr val="000000"/>
                </a:solidFill>
                <a:latin typeface="Arial"/>
              </a:rPr>
              <a:t> meeting of the Parties to the Convention (COP10), in Cartagena de Indias, Colom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9" name="PlaceHolder 2"/>
          <p:cNvSpPr>
            <a:spLocks noGrp="1"/>
          </p:cNvSpPr>
          <p:nvPr>
            <p:ph/>
          </p:nvPr>
        </p:nvSpPr>
        <p:spPr>
          <a:xfrm>
            <a:off x="0" y="1600200"/>
            <a:ext cx="8229600" cy="4525920"/>
          </a:xfrm>
          <a:prstGeom prst="rect">
            <a:avLst/>
          </a:prstGeom>
          <a:noFill/>
          <a:ln w="0">
            <a:noFill/>
          </a:ln>
        </p:spPr>
        <p:txBody>
          <a:bodyPr anchor="t">
            <a:normAutofit fontScale="98000"/>
          </a:bodyPr>
          <a:p>
            <a:pPr marL="335880" indent="-335880" algn="ct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nd for this breakthrough was prepared by the </a:t>
            </a:r>
            <a:r>
              <a:rPr b="0" i="1" lang="en-US" sz="2000" spc="-1" strike="noStrike">
                <a:solidFill>
                  <a:srgbClr val="000000"/>
                </a:solidFill>
                <a:latin typeface="Arial"/>
              </a:rPr>
              <a:t>Country Led Initiative (CLI) to Improve the Effectiveness of the Basel Convention</a:t>
            </a:r>
            <a:r>
              <a:rPr b="0" lang="en-US" sz="2000" spc="-1" strike="noStrike">
                <a:solidFill>
                  <a:srgbClr val="000000"/>
                </a:solidFill>
                <a:latin typeface="Arial"/>
              </a:rPr>
              <a:t>, initiated by the Governments of Indonesia and Switzerland at the last Conference in 2008. The so-called </a:t>
            </a:r>
            <a:r>
              <a:rPr b="0" lang="en-US" sz="2000" spc="-1" strike="noStrike" u="sng">
                <a:solidFill>
                  <a:srgbClr val="000000"/>
                </a:solidFill>
                <a:uFillTx/>
                <a:latin typeface="Arial"/>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000000"/>
                </a:solidFill>
                <a:latin typeface="Arial"/>
              </a:rPr>
              <a:t>. It clarifies the interpretation of Article 17(5) of the Convention, setting the bar for entry into force of the Ban Amendment. The amendmentwill enter into force once an additional 17 parties ratify it.</a:t>
            </a:r>
            <a:r>
              <a:rPr b="0" lang="en-GB" sz="7200" spc="-1" strike="noStrike">
                <a:solidFill>
                  <a:srgbClr val="00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zardous substances include by products that are </a:t>
            </a:r>
            <a:r>
              <a:rPr b="0" i="1" lang="en-GB" sz="2800" spc="-1" strike="noStrike" u="sng">
                <a:solidFill>
                  <a:srgbClr val="000000"/>
                </a:solidFill>
                <a:uFillTx/>
                <a:latin typeface="Arial"/>
              </a:rPr>
              <a:t>explosive;  flammable, radioactive;  liable to spontaneous combustion, emit flammable gases upon contact with water, poisonous , infectious, corrosive, toxic and those that are capable of yielding another harmful substance after disposal</a:t>
            </a:r>
            <a:r>
              <a:rPr b="0" lang="en-GB"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include waste containing harmful compounds such as </a:t>
            </a:r>
            <a:r>
              <a:rPr b="0" i="1" lang="en-GB" sz="2800" spc="-1" strike="noStrike">
                <a:solidFill>
                  <a:srgbClr val="000000"/>
                </a:solidFill>
                <a:latin typeface="Arial"/>
              </a:rPr>
              <a:t>arsenic, cadmium, mercury, lead, acidic solutions, organic phosphorus, halogenated organic solvents phenol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10</a:t>
            </a:r>
            <a:r>
              <a:rPr b="0" lang="en-US" sz="2400" spc="-1" strike="noStrike">
                <a:solidFill>
                  <a:srgbClr val="000000"/>
                </a:solidFill>
                <a:latin typeface="Arial"/>
              </a:rPr>
              <a:t> also adopted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Strategic Framework for the work of the convention from 2012-2021.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Guidelines were adopted on co-processing of hazardous wastes in cement kilns, environmentally sound management of mercury wastes, and environmentally sound management of used tyres;</a:t>
            </a:r>
            <a:endParaRPr b="0" lang="en-US" sz="24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took over 20 additional substantive decisions on other matters. The parties also adopted the Cartagena Declaration on prevention and minimization of hazardous wastes</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COP 11 will take place in 201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tagena meeting also completed the cycle of 3 COPs (for the Stockholm, Rotterdam and Basel conventions) to endorse the “synergies” decision of the Extraordinary COP in Bali last year. </a:t>
            </a:r>
            <a:br>
              <a:rPr sz="2400"/>
            </a:br>
            <a:br>
              <a:rPr sz="2400"/>
            </a:br>
            <a:r>
              <a:rPr b="0" lang="en-US" sz="2400" spc="-1" strike="noStrike">
                <a:solidFill>
                  <a:srgbClr val="000000"/>
                </a:solidFill>
                <a:latin typeface="Arial"/>
              </a:rPr>
              <a:t>For more information on COP10 please visit </a:t>
            </a:r>
            <a:r>
              <a:rPr b="0" lang="en-US" sz="2400" spc="-1" strike="noStrike" u="sng">
                <a:solidFill>
                  <a:srgbClr val="009999"/>
                </a:solidFill>
                <a:uFillTx/>
                <a:latin typeface="Arial"/>
                <a:hlinkClick r:id="rId1"/>
              </a:rPr>
              <a:t>www.basel.int/COP10/tabid/1571/Default.aspx</a:t>
            </a:r>
            <a:r>
              <a:rPr b="0" lang="en-US" sz="2400" spc="-1" strike="noStrike">
                <a:solidFill>
                  <a:srgbClr val="000000"/>
                </a:solidFill>
                <a:latin typeface="Arial"/>
              </a:rPr>
              <a:t> and </a:t>
            </a:r>
            <a:r>
              <a:rPr b="0" lang="en-US" sz="2400" spc="-1" strike="noStrike" u="sng">
                <a:solidFill>
                  <a:srgbClr val="009999"/>
                </a:solidFill>
                <a:uFillTx/>
                <a:latin typeface="Arial"/>
                <a:hlinkClick r:id="rId2"/>
              </a:rPr>
              <a:t>http://www.iisd.ca/basel/cop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4000"/>
            </a:br>
            <a:r>
              <a:rPr b="0" lang="en-US" sz="4000" spc="-1" strike="noStrike">
                <a:solidFill>
                  <a:srgbClr val="000000"/>
                </a:solidFill>
                <a:latin typeface="Arial"/>
              </a:rPr>
              <a:t>Nigeria, Cote D’Ivoire, Bamako?</a:t>
            </a:r>
            <a:endParaRPr b="0" lang="en-US" sz="4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br>
              <a:rPr sz="4400"/>
            </a:b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astes </a:t>
            </a:r>
            <a:r>
              <a:rPr b="1" lang="en-GB" sz="2800" spc="-1" strike="noStrike">
                <a:solidFill>
                  <a:srgbClr val="000000"/>
                </a:solidFill>
                <a:latin typeface="Arial"/>
              </a:rPr>
              <a:t>originate</a:t>
            </a:r>
            <a:r>
              <a:rPr b="0" lang="en-GB" sz="2800" spc="-1" strike="noStrike">
                <a:solidFill>
                  <a:srgbClr val="000000"/>
                </a:solidFill>
                <a:latin typeface="Arial"/>
              </a:rPr>
              <a:t> from a variety of </a:t>
            </a:r>
            <a:r>
              <a:rPr b="1" lang="en-GB" sz="2800" spc="-1" strike="noStrike">
                <a:solidFill>
                  <a:srgbClr val="000000"/>
                </a:solidFill>
                <a:latin typeface="Arial"/>
              </a:rPr>
              <a:t>sources</a:t>
            </a:r>
            <a:r>
              <a:rPr b="0" lang="en-GB" sz="2800" spc="-1" strike="noStrike">
                <a:solidFill>
                  <a:srgbClr val="000000"/>
                </a:solidFill>
                <a:latin typeface="Arial"/>
              </a:rPr>
              <a:t> including a wide range of production processes medical care in hospitals and domestic garb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A report recorded that the EU generate some1.3 billion tonnes of waste every year of which over 36milllion tonnes are Hazard-was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stock;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ing compl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mount of waste generated, the adverse health and environmental impacts of hazardous substances &amp; their by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of improper handling and unsafe disposal methods and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ustry and other sectors are in dire need of alternative disposal sites/fac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zardous Wastes and their Disposal</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Eg effects of hazardous was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shandling of sulfur can cause Chemical bur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hemical used to control pests called  (diblromochloropropane) when mishandled has the propensity to cause toxic effects on the reproductive system, resulting in reduction in sperm count in men which leads to ster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velations were a basis for international action, they stimulated  tightening of regulations, the cost of haz waste disposal rose, search for cheaper ways of disposing waste within and abroad, including in the high seas beg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he result w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1-11-16T07:08:21Z</dcterms:modified>
  <cp:revision>55</cp:revision>
  <dc:subject/>
  <dc:title>Basel Convention on the Control of Trans-boundary Movement of Hazardous Wastes and their Disposal</dc:title>
</cp:coreProperties>
</file>